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9C4-29FA-4EC9-89B3-0126FC2B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F9C-B5F4-4541-9D87-18E49A2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9E1-9344-4C33-A5B8-BC5A4376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BA0-8127-46E3-B19A-3D13124A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5C7A-D6AA-4E44-B41E-A30F9E11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895E-AD98-457B-8588-FB44627B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0004-F571-42E1-B62E-63F9F94F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1C8A-CE0A-4EA7-81BF-7FB65F04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6D3C-2233-4A31-B034-6B02BB6C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4572-4A97-45F5-957E-4C2D0EE6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9F72-14CA-4348-BF66-E9F87B2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3F4-1C46-40A8-B238-BFB9B8FA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3C94-EE4B-4ECA-B073-1E363EC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10F4-98D5-49A5-AA66-26C6F8B2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EBA7-C554-4DAB-937A-13A70821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094-09E0-4DFD-B9CF-844F7385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B13E-F01E-4570-AB35-3B4444BD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EDF-8003-4B6F-9F5C-6373253F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B15-9780-4387-BF6E-A8636EDF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784-4B77-42D1-95C3-8D7C79FB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FD0-850F-4F8B-95DD-0B3F1111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1A9-995D-485B-BC6E-02DF970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17B-F878-4B2E-A8CC-94BB64C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909-9703-490D-9977-DD1895B4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8AF-88DC-45E2-9548-BB0FFA15BF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6847-4BCB-409B-83AB-762F8D0000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0033"/>
                </a:solidFill>
                <a:latin typeface="Times New Roman"/>
              </a:rPr>
              <a:t>Modelos de similaridad y distanci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y Vargas Villalobos, 9838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Euclidean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y usada por su simpl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n          hileras de caracteres, 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     = tamaño de la hilera más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268360" y="2637000"/>
                <a:ext cx="873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50920" y="3357720"/>
                <a:ext cx="18496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967200" y="3213000"/>
                <a:ext cx="32986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63640" y="4653000"/>
                <a:ext cx="493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  <a:ea typeface="SimSun"/>
              </a:rPr>
              <a:t>Distancias generadas por secuencias positivas</a:t>
            </a:r>
            <a:r>
              <a:rPr b="0" lang="es-CR" sz="4200" spc="-1" strike="noStrike">
                <a:solidFill>
                  <a:srgbClr val="330033"/>
                </a:solidFill>
                <a:latin typeface="Times New Roman"/>
                <a:ea typeface="SimSu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n un costo sobre las diferencias entre dos hile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n        , que toma valores de 1 si             y 0 en el otro caso y            , una secuencia de reales estrictamente positivos. Se define como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197080" y="2421000"/>
                <a:ext cx="790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093080" y="2565360"/>
                <a:ext cx="122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500720" y="2997360"/>
                <a:ext cx="100800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68360" y="3789360"/>
                <a:ext cx="100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564000" y="4581360"/>
                <a:ext cx="1944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</m:e>
                      <m:sup/>
                    </m:sSup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03640" y="5157720"/>
                <a:ext cx="268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ultramét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Al igual que la de n-gramas define distancias no ente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Sean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y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dos palabras:                   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defínase  como la frontera inferior del conju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La distancia se define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43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486400" y="2514600"/>
                <a:ext cx="1828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5100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09680" y="2590920"/>
                <a:ext cx="39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514760" y="3357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19520" y="2590920"/>
                <a:ext cx="365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262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43000" y="3048120"/>
                <a:ext cx="16765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2051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429000" y="3429000"/>
                <a:ext cx="1738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k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41911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809880" y="4495680"/>
                <a:ext cx="2133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</m:e>
                      <m:sup/>
                    </m:sSup>
                    <m:r>
                      <m:t xml:space="preserve">→</m:t>
                    </m:r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41529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657600" y="5024520"/>
                <a:ext cx="1676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867280" y="5105520"/>
                <a:ext cx="838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4253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62520" y="5867280"/>
                <a:ext cx="17524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</m:e>
                    </m:d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Hamm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Se le aplica a hileras del mismo tamaño (en caso de ser de distinto tamaño, se rellena con vacíos a la derecha de la hilera más pequeñ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Podemos definir la distancia entre ellas como el número de caracteres en las mismas posiciones que son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jemp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 = perro, </a:t>
            </a: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 = perros,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3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scad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Calcularemos las distancias </a:t>
            </a: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2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empleando Levenstein, Hamming, n-gramas (con n = 2, o sea, digramas), euclideano, ultramétrico y secuencias positiv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jemplo (Levenstein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res operaciones posibles, destrucción 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, inserción 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in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y substitución 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sub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2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= 1 (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olo es necesario efectuar de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en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: realizar las siguientes operaciones todas sobre la hilera más corta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(s1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y aprovechando la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: sub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por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, sub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por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, in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 y ins(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), lo que implica que la distancia es de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jemplo (Hamming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Número de caracteres en la misma posición que no coinciden (se rellena con vacíos los espacios en blanco de la hilera más cor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2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jemplo (digram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s1: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rr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pe er rr ro. Digramas únicos: pe er rr 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s2: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rros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pe er rr ro os. Digramas únicos: pe er rr ro 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tiene 4 digramas, 4 únicos,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2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iene 5 digramas todos únicos. Comparten 4 digramas: pe er rr ro, usando el coeficiente de Dice tenemos:  d(s1, s2) = (2*4)/(4+5) = 8/9 = 0,88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jemplo (digrama, 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rr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pe er rr ro. Digramas únicos: pe er rr 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3: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pescad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pe es sc ca ad do. Digramas únicos: pe es sc ca ad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1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iene 4 digramas todos únicos,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tiene 6 digramas también todos únicos. Comparten solo 1 digrama: pe. Usando el coeficiente de Dice tenemos: d(s1, s3) = (2*1)/(4+6) = 1/5 = 0,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uclidean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ancia es la raíz de la sumatoria de las diferencia entre los valores ASCII de los campos de las hileras. Esto para no considerar los neg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n los valores ASCII entre a = 97, z = 122 y carácter vacío =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Búsquedas en R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Dos opciones princip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  <a:ea typeface="SimSun"/>
              </a:rPr>
              <a:t>Búsquedas estructur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  <a:ea typeface="SimSun"/>
              </a:rPr>
              <a:t>Basadas en palabras clave: clasificación más senci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000000"/>
                </a:solidFill>
                <a:latin typeface="Arial"/>
                <a:ea typeface="SimSun"/>
              </a:rPr>
              <a:t>Por palabra ún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300" spc="-1" strike="noStrike">
                <a:solidFill>
                  <a:srgbClr val="000000"/>
                </a:solidFill>
                <a:latin typeface="Arial"/>
                <a:ea typeface="SimSun"/>
              </a:rPr>
              <a:t>Por contex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Modelo de similaridad: soporte para realizar búsquedas basadas en patrones erróneos de digitación, deletreo, escane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Euclideano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2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83. Todos se anulan menos la “s” y el espacio vacío (122-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             = 117,25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900000" y="3716280"/>
                <a:ext cx="77058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9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4581360"/>
                <a:ext cx="129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63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Ultramétric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1 sobre la primera posición en donde las cadenas son distintas (iniciando en la posición 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2)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1/6 = 0,166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= 1/3 = 0,33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ecuencias positiv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 requiere de una secuencia de reales    con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= medida de la cadena mayor. Es aquí en donde puede jugarse con los pesos de cada 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2),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ara este caso sea                             entonces: 1*1 + 1*2 + 1*3 + 1*4 + 1*5 = 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(s1, s3)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, para este caso                      entonces la distancia es 1*1 + 1*2 =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740720" y="1557360"/>
                <a:ext cx="1116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012000" y="3357720"/>
                <a:ext cx="2447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,3,4,5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435640" y="4869000"/>
                <a:ext cx="2736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,3,4,5,6,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abla comparativa de resultad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95280" y="1773360"/>
          <a:ext cx="8497800" cy="2786040"/>
        </p:xfrm>
        <a:graphic>
          <a:graphicData uri="http://schemas.openxmlformats.org/drawingml/2006/table">
            <a:tbl>
              <a:tblPr/>
              <a:tblGrid>
                <a:gridCol w="936360"/>
                <a:gridCol w="1152720"/>
                <a:gridCol w="1224000"/>
                <a:gridCol w="1368360"/>
                <a:gridCol w="1224000"/>
                <a:gridCol w="1440000"/>
                <a:gridCol w="1152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e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m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igra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ucli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Ultramé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c. Pos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(s1, s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/9 = 0,88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/6 = 0,166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(s1, s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/5 = 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7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/3 = 0,3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826920" y="501336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función se interpreta distinto, a veces entre más alto sea el resultado, más alta será la distancia, en otras es todo lo contra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tros us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Estrategia de control de redes de interconex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Reconocimiento de patr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Aprendizaje automático de controladores basados en reg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La biología computacional para búsqueda sobre secuencias de ADN y el reconocimiento de cadenas completas de proteín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Conclusi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e ciertas ventajas, como la capacidad de establecer de forma específica la tolerancia a los errores y la de recuperar una consulta a partir de una hilera erró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hecho de poder cambiar la función de distancias, da una flexibilidad y diversidad de resultados, que le permiten efectuar búsquedas menos ríg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Conclusiones (cont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desventajas podemos listar el que si se brinda una función muy flexible, los resultados pueden ser bastante distintos a los esperados, porque puede que se cambie la hilera y se le de otro significado distinto al orig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Referenci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Modern Information Retrieval, Baeza-Yates, Ricardo y Ribeiro-Neto Berthier. Adisson Wesley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Information R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eval, data structures &amp; algorithms. B. Frakes William y Baeza-Yates, Ricardo, Prentice Hall, 19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tículo “String Distances”, D. Luzeaux, Fr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Funciones de distanc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Establecen metodología y nivel de error permitido, unas miden si la hilera es aceptable o no y otras dan la simila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R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, alfabeto fin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600" spc="-1" strike="noStrike">
                <a:solidFill>
                  <a:srgbClr val="000000"/>
                </a:solidFill>
                <a:latin typeface="Arial"/>
              </a:rPr>
              <a:t>a*b 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s-CR" sz="2600" spc="-1" strike="noStrike">
                <a:solidFill>
                  <a:srgbClr val="000000"/>
                </a:solidFill>
                <a:latin typeface="Arial"/>
              </a:rPr>
              <a:t>ab, concate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84360" y="4941720"/>
                <a:ext cx="5291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∪</m:t>
                    </m:r>
                    <m:r>
                      <m:t xml:space="preserve">T</m:t>
                    </m:r>
                    <m:r>
                      <m:t xml:space="preserve">∪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∪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Levenste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ambién llamada, "distancia de edición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imilaridad local entre dos palabras: mínimo número de operaciones que transforman a una de las palabras en la o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Las tres operaciones son: destrucción(), inserción() y substitució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Levenstein (cont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9000" y="2278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000" y="97560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000" y="171396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9000" y="24613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9000" y="31996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71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9000" y="394740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9000" y="2278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1716120" cy="50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25600" y="2290680"/>
                <a:ext cx="3741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  <m:e/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∈</m:t>
                        </m:r>
                      </m:e>
                      <m:e/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59000" y="97560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4343400" cy="500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171396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63640" y="2924280"/>
                <a:ext cx="28875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∗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25600" y="3587760"/>
                <a:ext cx="3741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  <m:e/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∈</m:t>
                        </m:r>
                      </m:e>
                      <m:e/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59000" y="24613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56000" y="3573360"/>
                <a:ext cx="414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28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9000" y="31996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19280" y="4292640"/>
                <a:ext cx="2519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4360" y="353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25600" y="4956120"/>
                <a:ext cx="3741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  <m:e/>
                    </m:d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∈</m:t>
                        </m:r>
                      </m:e>
                      <m:e/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59000" y="394740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300560" y="4941720"/>
                <a:ext cx="48434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∪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9640" y="1773360"/>
                <a:ext cx="1079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2997360"/>
                <a:ext cx="1079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9640" y="4292640"/>
                <a:ext cx="1079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Levenstein (cont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la hilera   .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5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5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8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19640" y="1700280"/>
                <a:ext cx="345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257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508720" y="1484280"/>
                <a:ext cx="2281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276720" y="2565360"/>
                <a:ext cx="2716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5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16360" y="3645000"/>
                <a:ext cx="35208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8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124000" y="4581360"/>
                <a:ext cx="5332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s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5373720"/>
                <a:ext cx="33843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 de Levenstein (cont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La distancia entre las hileras        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 define entonce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Ejemplo: d(“diferencia, inferencia”)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Puede extenderse para buscar subhileras, la búsqueda especifica el número máximo de errores permi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00000" y="3141720"/>
                <a:ext cx="7488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12000" y="1773360"/>
                <a:ext cx="563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00" y="32839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3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237440" y="1773360"/>
                <a:ext cx="63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s con n-gramas (ejemp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56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Dos hileras: “colaboración y colaborad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aborador: co ol la ab bo or ra ad do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Digramas únicos: co ol la ab bo or ra ad 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Colaboración: co ol la ab bo or ra ac ci ió 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Digramas únicos:  co ol la ab bo or ra ac ci ió 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R" sz="2600" spc="-1" strike="noStrike">
                <a:solidFill>
                  <a:srgbClr val="000000"/>
                </a:solidFill>
                <a:latin typeface="Arial"/>
              </a:rPr>
              <a:t>Colaborador” 10 digramas, 9 únicos, “colaboración” 11 digramas todos únicos. Comparten 7: co ol la ab bo or 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200" spc="-1" strike="noStrike">
                <a:solidFill>
                  <a:srgbClr val="330033"/>
                </a:solidFill>
                <a:latin typeface="Times New Roman"/>
              </a:rPr>
              <a:t>Distancias con n-gramas (ejemp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La medida de similaridad puede establecerse mediante la fórmula definida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la cual se conoce como el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coeficiente de Dice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En el ejemplo dar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2492280"/>
                <a:ext cx="18000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284720" y="4365720"/>
                <a:ext cx="2736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1:03:22Z</dcterms:created>
  <dc:creator>Rony Vargas Villalobos</dc:creator>
  <dc:description/>
  <dc:language>en-US</dc:language>
  <cp:lastModifiedBy>Rony Vargas Villalobos</cp:lastModifiedBy>
  <dcterms:modified xsi:type="dcterms:W3CDTF">2003-04-23T08:41:02Z</dcterms:modified>
  <cp:revision>136</cp:revision>
  <dc:subject/>
  <dc:title>Modelos de similaridad y distancia</dc:title>
</cp:coreProperties>
</file>