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D39-40D5-4583-A12F-60AEF78F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213-CB6A-4CAD-B6DF-635DA7F9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B85-B755-4092-AEAD-7FB60F5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D63-58CB-483F-8438-9B53425C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CDC-D57E-47ED-BF62-F4D7F5DF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0217-9D95-434A-9517-0266881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4000-390C-46CB-B356-8A9FEF9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A878-BE15-436C-88D4-61A6CA29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50C2-3EC4-4470-ADE6-5E0D472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F21-7EBA-42AF-974D-DEB89DF1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DE1-D7A7-4257-A845-C702B93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AF8-10C0-4A29-89B8-6912626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2C22-4BF4-45DD-A3B2-91E1FAD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0029-96A0-436F-A680-5D19F01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80C3-7A5A-4E5D-A9AE-4FD2C31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3BE3-4A93-4F25-AC16-3EC11682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C6D-5DC7-4066-B833-06DCBF94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691-6B0A-460E-975F-A365BF0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C97-4464-41C6-B7B6-1454BC49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71D-784F-4452-BA31-BAAA217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DA7-BD6D-4C37-B26F-7FB083A7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505-272F-465C-86BD-78D9C84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1AE-208E-4B45-9060-A4CC66B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D8A-1136-4AC1-A17B-DF0DE4F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A343-6F84-4373-9A17-8234250CA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1B9-E0D1-4778-9365-B25470CE7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0033"/>
                </a:solidFill>
                <a:latin typeface="Times New Roman"/>
              </a:rPr>
              <a:t>Modelos de similaridad y distanc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y Vargas Villalobos, 9838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Euclidean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y usada por su simpl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         hileras de caracteres, 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     = tamaño de la hilera más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268360" y="2637000"/>
                <a:ext cx="873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0920" y="3357720"/>
                <a:ext cx="18496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967200" y="3213000"/>
                <a:ext cx="3298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63640" y="4653000"/>
                <a:ext cx="49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  <a:ea typeface="SimSun"/>
              </a:rPr>
              <a:t>Distancias generadas por secuencias positivas</a:t>
            </a:r>
            <a:r>
              <a:rPr b="0" lang="es-CR" sz="4200" spc="-1" strike="noStrike">
                <a:solidFill>
                  <a:srgbClr val="330033"/>
                </a:solidFill>
                <a:latin typeface="Times New Roman"/>
                <a:ea typeface="SimSu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n un costo sobre las diferencias entre dos hile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       , que toma valores de 1 si             y 0 en el otro caso y            , una secuencia de reales estrictamente positivos. Se define como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7080" y="2421000"/>
                <a:ext cx="790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093080" y="2565360"/>
                <a:ext cx="122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00720" y="2997360"/>
                <a:ext cx="10080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68360" y="3789360"/>
                <a:ext cx="10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64000" y="4581360"/>
                <a:ext cx="194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e>
                      <m:sup/>
                    </m:sSup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03640" y="5157720"/>
                <a:ext cx="268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ultramét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l igual que la de n-gramas define distancias no ente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Sean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y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dos palabras:                   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defínase  como la frontera inferior del conju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distancia se define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3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486400" y="2514600"/>
                <a:ext cx="1828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10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09680" y="2590920"/>
                <a:ext cx="39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514760" y="3357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19520" y="2590920"/>
                <a:ext cx="36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262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3000" y="3048120"/>
                <a:ext cx="1676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205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29000" y="3429000"/>
                <a:ext cx="1738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k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41911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809880" y="4495680"/>
                <a:ext cx="2133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e>
                      <m:sup/>
                    </m:sSup>
                    <m:r>
                      <m:t xml:space="preserve">→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152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57600" y="5024520"/>
                <a:ext cx="1676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867280" y="5105520"/>
                <a:ext cx="838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253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62520" y="5867280"/>
                <a:ext cx="1752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Ham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Se le aplica a hileras del mismo tamaño (en caso de ser de distinto tamaño, se rellena con vacíos a la derecha de la hilera más pequeñ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Podemos definir la distancia entre ellas como el número de caracteres en las mismas posiciones que son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jemp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 = perro, 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 = perr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Calcularemos las distancias </a:t>
            </a: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empleando Levenstein, Hamming, n-gramas (con n = 2, o sea, digramas), euclideano, ultramétrico y secuencias positiv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Levenstein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res operaciones posibles, destruc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, inser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y substitu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ub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= 1 (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olo es necesario efectuar de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en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: realizar las siguientes operaciones todas sobre la hilera más corta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(s1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y aprovechando la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: sub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por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sub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por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in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y in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, lo que implica que la distancia es de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Hamming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Número de caracteres en la misma posición que no coinciden (se rellena con vacíos los espacios en blanco de la hilera más cor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digram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1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. Digramas únicos: pe er rr 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2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 os. Digramas únicos: pe er rr ro 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tiene 4 digramas, 4 únic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2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5 digramas todos únicos. Comparten 4 digramas: pe er rr ro, usando el coeficiente de Dice tenemos:  d(s1, s2) = (2*4)/(4+5) = 8/9 = 0,88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digrama, 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. Digramas únicos: pe er rr 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s sc ca ad do. Digramas únicos: pe es sc ca ad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4 digramas todos únic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tiene 6 digramas también todos únicos. Comparten solo 1 digrama: pe. Usando el coeficiente de Dice tenemos: d(s1, s3) = (2*1)/(4+6) = 1/5 = 0,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uclidea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ancia es la raíz de la sumatoria de las diferencia entre los valores ASCII de los campos de las hileras. Esto para no considerar los neg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los valores ASCII entre a = 97, z = 122 y carácter vacío =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Búsquedas en R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Dos opciones princip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  <a:ea typeface="SimSun"/>
              </a:rPr>
              <a:t>Búsquedas estructur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  <a:ea typeface="SimSun"/>
              </a:rPr>
              <a:t>Basadas en palabras clave: clasificación más senc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Arial"/>
                <a:ea typeface="SimSun"/>
              </a:rPr>
              <a:t>Por palabra ún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Arial"/>
                <a:ea typeface="SimSun"/>
              </a:rPr>
              <a:t>Por contex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Modelo de similaridad: soporte para realizar búsquedas basadas en patrones erróneos de digitación, deletreo, escane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uclideano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83. Todos se anulan menos la “s” y el espacio vacío (122-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             = 117,25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900000" y="3716280"/>
                <a:ext cx="77058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4581360"/>
                <a:ext cx="12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63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Ultramétr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1 sobre la primera posición en donde las cadenas son distintas (iniciando en la posición 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1/6 = 0,166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1/3 = 0,3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uencias posi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 requiere de una secuencia de reales    con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medida de la cadena mayor. Es aquí en donde puede jugarse con los pesos de cada 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,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ara este caso sea                             entonces: 1*1 + 1*2 + 1*3 + 1*4 + 1*5 = 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para este caso                      entonces la distancia es 1*1 + 1*2 =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40720" y="1557360"/>
                <a:ext cx="11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012000" y="3357720"/>
                <a:ext cx="2447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,3,4,5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435640" y="4869000"/>
                <a:ext cx="273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,3,4,5,6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abla comparativa de resulta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1773360"/>
          <a:ext cx="8497800" cy="2786040"/>
        </p:xfrm>
        <a:graphic>
          <a:graphicData uri="http://schemas.openxmlformats.org/drawingml/2006/table">
            <a:tbl>
              <a:tblPr/>
              <a:tblGrid>
                <a:gridCol w="936360"/>
                <a:gridCol w="1152720"/>
                <a:gridCol w="1224000"/>
                <a:gridCol w="1368360"/>
                <a:gridCol w="1224000"/>
                <a:gridCol w="1440000"/>
                <a:gridCol w="1152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m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gra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ucli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ltramé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. Pos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(s1, 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/9 = 0,88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6 = 0,166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(s1, 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3 = 0,3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826920" y="501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función se interpreta distinto, a veces entre más alto sea el resultado, más alta será la distancia, en otras es todo lo contra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tros u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Estrategia de control de redes de interconex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Reconocimiento de patr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Aprendizaje automático de controladores basados en reg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biología computacional para búsqueda sobre secuencias de ADN y el reconocimiento de cadenas completas de proteí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onclus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e ciertas ventajas, como la capacidad de establecer de forma específica la tolerancia a los errores y la de recuperar una consulta a partir de una hilera erró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cho de poder cambiar la función de distancias, da una flexibilidad y diversidad de resultados, que le permiten efectuar búsquedas menos ríg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Conclusiones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desventajas podemos listar el que si se brinda una función muy flexible, los resultados pueden ser bastante distintos a los esperados, porque puede que se cambie la hilera y se le de otro significado distinto al ori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Referenc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Modern Information Retrieval, Baeza-Yates, Ricardo y Ribeiro-Neto Berthier. Adisson Wesley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Information 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val, data structures &amp; algorithms. B. Frakes William y Baeza-Yates, Ricardo, Prentice Hall, 19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ículo “String Distances”, D. Luzeaux, Fr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unciones de dista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stablecen metodología y nivel de error permitido, unas miden si la hilera es aceptable o no y otras dan la sim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, alfabeto fin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a*b 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ab, concate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4941720"/>
                <a:ext cx="5291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∪</m:t>
                    </m:r>
                    <m:r>
                      <m:t xml:space="preserve">T</m:t>
                    </m:r>
                    <m:r>
                      <m:t xml:space="preserve">∪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ambién llamada, "distancia de edición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imilaridad local entre dos palabras: mínimo número de operaciones que transforman a una de las palabras en l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s tres operaciones son: destrucción(), inserción() y substitució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9000" y="2278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9756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000" y="17139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9000" y="24613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9000" y="31996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9000" y="39474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9000" y="2278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1716120" cy="50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5600" y="2290680"/>
                <a:ext cx="374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59000" y="9756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343400" cy="500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17139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3640" y="2924280"/>
                <a:ext cx="28875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5600" y="3587760"/>
                <a:ext cx="374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59000" y="24613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56000" y="3573360"/>
                <a:ext cx="414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28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31996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19280" y="4292640"/>
                <a:ext cx="2519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4360" y="353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25600" y="4956120"/>
                <a:ext cx="3741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59000" y="39474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300560" y="4941720"/>
                <a:ext cx="48434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9640" y="1773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2997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9640" y="4292640"/>
                <a:ext cx="1079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la hilera   .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19640" y="1700280"/>
                <a:ext cx="34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508720" y="1484280"/>
                <a:ext cx="2281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276720" y="2565360"/>
                <a:ext cx="2716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5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16360" y="3645000"/>
                <a:ext cx="3520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24000" y="4581360"/>
                <a:ext cx="5332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5373720"/>
                <a:ext cx="33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 distancia entre las hileras        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 define entonc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jemplo: d(“diferencia, inferencia”)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Puede extenderse para buscar subhileras, la búsqueda especifica el número máximo de errores permi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00000" y="3141720"/>
                <a:ext cx="7488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12000" y="1773360"/>
                <a:ext cx="56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00" y="32839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237440" y="1773360"/>
                <a:ext cx="6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s con n-gramas (ejemp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5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Dos hileras: “colaboración y colaborad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aborador: co ol la ab bo or ra ad do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Digramas únicos: co ol la ab bo or ra ad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laboración: co ol la ab bo or ra ac ci ió 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Digramas únicos:  co ol la ab bo or ra ac ci ió 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laborador” 10 digramas, 9 únicos, “colaboración” 11 digramas todos únicos. Comparten 7: co ol la ab bo or 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s con n-gramas (ejemp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 medida de similaridad puede establecerse mediante la fórmula definida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cual se conoce como el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coeficiente de Dice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n el ejemplo da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2492280"/>
                <a:ext cx="18000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84720" y="4365720"/>
                <a:ext cx="2736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1:03:22Z</dcterms:created>
  <dc:creator>Rony Vargas Villalobos</dc:creator>
  <dc:description/>
  <dc:language>en-US</dc:language>
  <cp:lastModifiedBy>Rony Vargas Villalobos</cp:lastModifiedBy>
  <dcterms:modified xsi:type="dcterms:W3CDTF">2003-04-23T08:41:02Z</dcterms:modified>
  <cp:revision>136</cp:revision>
  <dc:subject/>
  <dc:title>Modelos de similaridad y distancia</dc:title>
</cp:coreProperties>
</file>