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D36-F79C-431B-B498-1210F0D1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C34-77CE-4DB2-99C4-20E21AC3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16C-8F57-4BF6-BBBD-CBA66167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9E7-F0AA-427E-A32C-1C9017F1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ECF9-56FC-4AB1-ACBF-ABF904FD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A6BC-CA7C-4A5D-B8C0-5A9843FF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369D-77A8-453F-AF71-E3A6E92D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706C-ADB1-4FB0-A97C-AE803941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E4AB-8B8D-4F4C-A460-416CBAF6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1406-4D9B-4AA8-8545-292F78F7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27DD-F445-4D00-95BF-9126745A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A98B-F3F0-42F7-A5B7-93E4F2C1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1B90-8081-4727-96BA-1A964824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D24B-CA31-4BCA-85F3-1B52D8C2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CCB5-EBA8-4AC1-B6B1-CDE7135D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E0FF-19AC-4E70-8218-A4EAD88C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4879-EFC5-41BC-885C-25F760C1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0A2-61B4-44AD-BB6C-8B2A1B3F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4F8-D654-48F9-93FC-0B44C1AD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B73-EBA1-4AD1-88A5-81D946C9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2AB-8064-477A-A16C-1936D1A1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22E-92C7-4BEB-855C-66B981B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2604-9BA3-448A-AC16-7C34EF48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75B-B154-4360-AD68-E12A648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2622-8918-4EC7-B3D3-687C52675D48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DDDF-B1AA-48C4-B21E-C244FF9D09F3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Page Rank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Kevin Chinchilla Valver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98105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Corrección del Calculo de PageRank (2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Si </a:t>
            </a:r>
            <a:r>
              <a:rPr b="0" i="1" lang="es-CR" sz="2800" spc="-1" strike="noStrike">
                <a:solidFill>
                  <a:srgbClr val="ffffcc"/>
                </a:solidFill>
                <a:latin typeface="Arial"/>
              </a:rPr>
              <a:t>E 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es todo positivo, c debe ser reducido para balancear la ecuación. Esta técnica se conoce como factor de decaimiento. En notación de matrices tenemos que </a:t>
            </a:r>
            <a:r>
              <a:rPr b="0" i="1" lang="es-CR" sz="2800" spc="-1" strike="noStrike">
                <a:solidFill>
                  <a:srgbClr val="ffffcc"/>
                </a:solidFill>
                <a:latin typeface="Arial"/>
              </a:rPr>
              <a:t>R’=c(AR’+E).Y como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| |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R’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| |</a:t>
            </a:r>
            <a:r>
              <a:rPr b="0" lang="es-CR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 = 1  podemos reescribir </a:t>
            </a:r>
            <a:r>
              <a:rPr b="0" i="1" lang="es-CR" sz="2800" spc="-1" strike="noStrike">
                <a:solidFill>
                  <a:srgbClr val="ffffcc"/>
                </a:solidFill>
                <a:latin typeface="Arial"/>
              </a:rPr>
              <a:t>R’=c(A+Ex1) R’ donde 1 es el vector de todos los unos. Por tanto R’ es un vector escalar de (A+Ex1) 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 permite en primera instancia E sea un parámetro definido por el usuario , se probo que  es uniforme sobre todas las paginas web con valor </a:t>
            </a:r>
            <a:r>
              <a:rPr b="0" lang="es-ES" sz="2800" spc="-1" strike="noStrike">
                <a:solidFill>
                  <a:srgbClr val="ffffcc"/>
                </a:solidFill>
                <a:latin typeface="Symbol"/>
                <a:ea typeface="Symbol"/>
              </a:rPr>
              <a:t>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alculando PagR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a S un vector sobre paginas web (por ejemplo E), el PR se calcula com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849920" y="1916280"/>
                <a:ext cx="3063600" cy="41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←</m:t>
                        </m:r>
                        <m:r>
                          <m:t xml:space="preserve">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op</m:t>
                        </m:r>
                        <m:r>
                          <m:t xml:space="preserve">: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d</m:t>
                        </m:r>
                        <m:r>
                          <m:t xml:space="preserve">←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←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←</m:t>
                        </m:r>
                        <m:sSub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le</m:t>
                        </m:r>
                        <m:r>
                          <m:t xml:space="preserve">δ</m:t>
                        </m:r>
                        <m:r>
                          <m:t xml:space="preserve">&gt;</m:t>
                        </m:r>
                        <m:r>
                          <m:t xml:space="preserve">∈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Calculo Simple de Page R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057400"/>
            <a:ext cx="1600200" cy="2057400"/>
          </a:xfrm>
          <a:prstGeom prst="rect">
            <a:avLst/>
          </a:prstGeom>
          <a:solidFill>
            <a:srgbClr val="808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1981080"/>
            <a:ext cx="1600200" cy="2057400"/>
          </a:xfrm>
          <a:prstGeom prst="rect">
            <a:avLst/>
          </a:prstGeom>
          <a:solidFill>
            <a:srgbClr val="808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0.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343400"/>
            <a:ext cx="1600200" cy="2057400"/>
          </a:xfrm>
          <a:prstGeom prst="rect">
            <a:avLst/>
          </a:prstGeom>
          <a:solidFill>
            <a:srgbClr val="808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447920" y="4114440"/>
            <a:ext cx="2209680" cy="16002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3809880"/>
            <a:ext cx="1219320" cy="99072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3429000"/>
            <a:ext cx="327672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952880" y="3581280"/>
            <a:ext cx="990720" cy="2057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0.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0.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0.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Casos con cicl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2819520"/>
            <a:ext cx="1219320" cy="1828800"/>
          </a:xfrm>
          <a:prstGeom prst="rect">
            <a:avLst/>
          </a:prstGeom>
          <a:solidFill>
            <a:srgbClr val="808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2819520"/>
            <a:ext cx="1218960" cy="1828800"/>
          </a:xfrm>
          <a:prstGeom prst="rect">
            <a:avLst/>
          </a:prstGeom>
          <a:solidFill>
            <a:srgbClr val="808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819520"/>
            <a:ext cx="1219320" cy="1828800"/>
          </a:xfrm>
          <a:prstGeom prst="rect">
            <a:avLst/>
          </a:prstGeom>
          <a:solidFill>
            <a:srgbClr val="808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4114800"/>
            <a:ext cx="11430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4114800"/>
            <a:ext cx="121896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1360" y="1841400"/>
            <a:ext cx="8165880" cy="2387880"/>
          </a:xfrm>
          <a:custGeom>
            <a:avLst/>
            <a:gdLst/>
            <a:ahLst/>
            <a:rect l="l" t="t" r="r" b="b"/>
            <a:pathLst>
              <a:path w="5144" h="1504">
                <a:moveTo>
                  <a:pt x="4256" y="1432"/>
                </a:moveTo>
                <a:cubicBezTo>
                  <a:pt x="4372" y="1364"/>
                  <a:pt x="4488" y="1296"/>
                  <a:pt x="4592" y="1144"/>
                </a:cubicBezTo>
                <a:cubicBezTo>
                  <a:pt x="4696" y="992"/>
                  <a:pt x="4904" y="680"/>
                  <a:pt x="4880" y="520"/>
                </a:cubicBezTo>
                <a:cubicBezTo>
                  <a:pt x="4856" y="360"/>
                  <a:pt x="5144" y="240"/>
                  <a:pt x="4448" y="184"/>
                </a:cubicBezTo>
                <a:cubicBezTo>
                  <a:pt x="3752" y="128"/>
                  <a:pt x="1408" y="0"/>
                  <a:pt x="704" y="184"/>
                </a:cubicBezTo>
                <a:cubicBezTo>
                  <a:pt x="0" y="368"/>
                  <a:pt x="192" y="1072"/>
                  <a:pt x="224" y="1288"/>
                </a:cubicBezTo>
                <a:cubicBezTo>
                  <a:pt x="256" y="1504"/>
                  <a:pt x="792" y="1448"/>
                  <a:pt x="896" y="148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" y="4343040"/>
            <a:ext cx="1143000" cy="106668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Modelo Aleatorio del navegado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La definición de PageRank se encuentra también basada en los posibles caminos en el grafico de la red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El “random surfer” simplemente dar una serie de clicks en links sucesivos, sin embargo se mantiene dentro de un pequeño grupo de págin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El factor E por lo tanto puede modelar este comportamiento: el navegador periódicamente se aburre y brinca a una pagina aleatoria basado en la distribución de 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Links Colgant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Son links que apuntan a alguna pagina que no tiene links hacia fuer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Debido a que no afectan el ranking de otra pagina directamente se eliminan del modelo antes de que los PageRanks sean calculados y regresados tras el cálcul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7196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Requerimientos de Implement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Cada url debe tener un entero único, se ordena la estructura de links por Parent_ID. Los links colgantes son removi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Se hace una asignación inicial de ranks. Se usa una precisión punto flotante de 4 bytes, esto significa 300 megabytes para 75 millones de Ur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Los pesos se mantienen en memoria, ahorrando rendimiento al no realizar búsquedas en disc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A través de las interacciones se espera converjan los nuevos ranks más rápidamente, para al final volver a agregar los links colgant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Converg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Se espera que tras 52 interacciones converjan razonablemente unos 332 millones de link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Se espera el PageRank pueda escalar en colecciones sumamente grandes en un tiempo de log 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onvergencia del PageR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066680" y="1981080"/>
          <a:ext cx="6705720" cy="437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981080"/>
                    <a:ext cx="670572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Implement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Se implementan dos motores de búsqueda: uno de búsqueda basado en títulos y otro full-text llamado Googl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La primera implementa búsqueda en 16 millones de títulos de paginas web, una consulta revisa si las palabras buscadas están contenidas en el titulo y las ordena usando PageRank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Comparada a altavista los resultados han sido muy satisfactori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Millones de páginas web, aumentando al doble por añ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Usuarios inexperto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Páginas que manipulan las funciones de los motores de Rank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Gran diversidad entre páginas web y publicaciones académica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age Rank vs. Altavist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43000" y="1353960"/>
          <a:ext cx="6781680" cy="550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353960"/>
                    <a:ext cx="67816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El factor 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El factor E o vector sobre páginas web es un parámetro poderoso para ajustar los pageranks. Este vector correspondenria a la distribución de paginas web que un navegador periódico estaría brincando de una a otra. Se ha estimado a traves de experimentos que en un vector uniforme 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| | 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| |</a:t>
            </a:r>
            <a:r>
              <a:rPr b="0" lang="es-CR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 =0.15, lo cual representa a la forma aleatoria en que un navegador se aburra y cambie de su grupo normal de página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Sin embargo, existen problemas como advertencias de copyright, listas de correo y “disclaimer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6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Manipulación por Intereses Comerci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Estos PageRanks son inmunes a la manipulación por intereses comerci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Una Pagina importante debe ser apuntada por otra muy importante o un gran numero de no important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Los motores de búsqueda actualmente manipulan los resultados de las búsqued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Muchos sitios de uso común como netscape.yahoo.com o algunos sitios pornográficos poseen bajos rank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Aspectos important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El PageRank es un buen predictor de backlink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Se pueden ordenar los backlinks por importancia, lo que aporta más importancia a una págin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Se han hecho pruebas usando PageRank Proxy que determina que en una pagina no todos sus enlaces son de igual importanc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514760" y="1981080"/>
          <a:ext cx="462924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4760" y="1981080"/>
                    <a:ext cx="462924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op 10 Page Ranks (1996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ownload Netscape Software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11589.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www.w3.org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10717.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Welcome to Netscape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8673.51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Point:It’s What you’re searching for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7930.92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Web-Counter Home Page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7254.97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The Blue Ribbon Campaign for Online Free Speech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7010.3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ERN Welcome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6562.4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Yahoo!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6561.8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Welcome to Netscape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6203.47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Wusage 4.1: A Usage statistics System for Web Ser.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5963.27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Barra de Goog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23880" y="1828800"/>
          <a:ext cx="6096240" cy="43480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Si el rank esta entre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La barra muestr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0.00000001 y 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 y 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5 y 1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26 y 6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26 y 31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126 y 156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5626 y 781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8126 y 3906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90626 y 1953125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955126 e infinito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8320" y="1676160"/>
            <a:ext cx="88153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El PageRank es un método valioso para asignar un peso a cada página web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Permite asignar pesos optimizando la calidad de los resultados mediante su importancia evitando la manipulación comercia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Separa de forma inteligente conjuntos de documentos importantes para resolver consul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Genera vistas de estimación de la navegación de los usuarios y del trafico web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Los experimentos con PageRank sugieren que la estructura del grafico Web es muy usado por varias herramientas de RI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ent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The PageRank Citation Ranking: Bringing Order to the Web (1998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Larry Page, Sergey Brin, R. Motwani, T. Winograd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geRank Explain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hris Ridings (2001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Diferencias entre Paginas Web y Publicaciones Académ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Las publicaciones son revisadas muy detenidamente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	</a:t>
            </a:r>
            <a:br>
              <a:rPr sz="2800"/>
            </a:b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Las paginas web, estan libres de contro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Pueden crearse fácilmente en grandes cantidad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Pueden ser replicad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Varían en calidad, uso, largo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PageR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Es un método para dar un valor numérico o ranking a cada pagina web basada en el grafo del web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Desarrollada por Larry Page y Sergey Brin, patentado en Estados Unidos el 8 de enero de 1998 por el primero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Implementado en el motor de búsqueda Google, construido por los mismos autor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Utiliza como método de medición los links dentro de las págin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Uso de links en Page R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019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cc"/>
                </a:solidFill>
                <a:latin typeface="Arial"/>
              </a:rPr>
              <a:t>La red se considera como una biblioteca y los links como citas.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cc"/>
                </a:solidFill>
                <a:latin typeface="Arial"/>
              </a:rPr>
              <a:t>Se representa mediante un grafo con 150 millones de nodos (paginas) y aristas entre ellos (link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cc"/>
                </a:solidFill>
                <a:latin typeface="Arial"/>
              </a:rPr>
              <a:t>Cada pagina tiene links hacia fuera y páginas que las apuntan: forward links y backlink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cc"/>
                </a:solidFill>
                <a:latin typeface="Arial"/>
              </a:rPr>
              <a:t>Una página se considera más importante entre más links posea (en ambos sentido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cc"/>
                </a:solidFill>
                <a:latin typeface="Arial"/>
              </a:rPr>
              <a:t>A su vez los pesos de sus backlinks pueden mejorar considerablemente su peso propi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1676520"/>
            <a:ext cx="838080" cy="152388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Times New Roman"/>
              </a:rPr>
              <a:t>__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3276720"/>
            <a:ext cx="838440" cy="152388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Times New Roman"/>
              </a:rPr>
              <a:t>____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4648320"/>
            <a:ext cx="914400" cy="144756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590920"/>
            <a:ext cx="1067040" cy="99036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315200" y="4495320"/>
            <a:ext cx="762120" cy="685800"/>
          </a:xfrm>
          <a:prstGeom prst="line">
            <a:avLst/>
          </a:prstGeom>
          <a:ln w="572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Definición Matemát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486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Sea </a:t>
            </a:r>
            <a:r>
              <a:rPr b="0" i="1" lang="es-CR" sz="24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 una pagina web. Sea </a:t>
            </a:r>
            <a:r>
              <a:rPr b="0" i="1" lang="es-CR" sz="24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i="1" lang="es-CR" sz="2400" spc="-1" strike="noStrike" baseline="-25000">
                <a:solidFill>
                  <a:srgbClr val="ffffcc"/>
                </a:solidFill>
                <a:latin typeface="Arial"/>
              </a:rPr>
              <a:t>u</a:t>
            </a:r>
            <a:r>
              <a:rPr b="0" i="1" lang="es-C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el conjunto de páginas a las que </a:t>
            </a:r>
            <a:r>
              <a:rPr b="0" i="1" lang="es-CR" sz="2400" spc="-1" strike="noStrike">
                <a:solidFill>
                  <a:srgbClr val="ffffcc"/>
                </a:solidFill>
                <a:latin typeface="Arial"/>
              </a:rPr>
              <a:t>u apunta y sea B</a:t>
            </a:r>
            <a:r>
              <a:rPr b="0" i="1" lang="es-CR" sz="2400" spc="-1" strike="noStrike" baseline="-25000">
                <a:solidFill>
                  <a:srgbClr val="ffffcc"/>
                </a:solidFill>
                <a:latin typeface="Arial"/>
              </a:rPr>
              <a:t>u</a:t>
            </a: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 el conjunto de páginas que apunta a </a:t>
            </a:r>
            <a:r>
              <a:rPr b="0" i="1" lang="es-CR" sz="2400" spc="-1" strike="noStrike">
                <a:solidFill>
                  <a:srgbClr val="ffffcc"/>
                </a:solidFill>
                <a:latin typeface="Arial"/>
              </a:rPr>
              <a:t>u. </a:t>
            </a: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Sea </a:t>
            </a:r>
            <a:r>
              <a:rPr b="0" i="1" lang="es-CR" sz="24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0" i="1" lang="es-CR" sz="2400" spc="-1" strike="noStrike" baseline="-25000">
                <a:solidFill>
                  <a:srgbClr val="ffffcc"/>
                </a:solidFill>
                <a:latin typeface="Arial"/>
              </a:rPr>
              <a:t>u</a:t>
            </a: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=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| </a:t>
            </a:r>
            <a:r>
              <a:rPr b="0" i="1" lang="es-CR" sz="24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i="1" lang="es-CR" sz="2400" spc="-1" strike="noStrike" baseline="-25000">
                <a:solidFill>
                  <a:srgbClr val="ffffcc"/>
                </a:solidFill>
                <a:latin typeface="Arial"/>
              </a:rPr>
              <a:t>u</a:t>
            </a: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 |</a:t>
            </a: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 o numero de links de </a:t>
            </a:r>
            <a:r>
              <a:rPr b="0" i="1" lang="es-CR" sz="24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 y sea </a:t>
            </a:r>
            <a:r>
              <a:rPr b="0" i="1" lang="es-CR" sz="24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s-CR" sz="2400" spc="-1" strike="noStrike">
                <a:solidFill>
                  <a:srgbClr val="ffffcc"/>
                </a:solidFill>
                <a:latin typeface="Arial"/>
              </a:rPr>
              <a:t> un factor usado para la normalización, el calculo simplificado de PageRank (R) es el siguiente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2057400"/>
            <a:ext cx="762120" cy="114300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2057400"/>
            <a:ext cx="762120" cy="114300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3962520"/>
            <a:ext cx="762120" cy="160020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3962520"/>
            <a:ext cx="762120" cy="114300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153280" y="2209680"/>
            <a:ext cx="533520" cy="53352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77320" y="3124080"/>
            <a:ext cx="533160" cy="3812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229600" y="4114800"/>
            <a:ext cx="533520" cy="53352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53280" y="5029200"/>
            <a:ext cx="533520" cy="3808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2743200"/>
            <a:ext cx="76212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3200400"/>
            <a:ext cx="685800" cy="10666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858000" y="3048120"/>
            <a:ext cx="609480" cy="167616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5486400"/>
            <a:ext cx="457200" cy="6858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0" y="5105520"/>
            <a:ext cx="685800" cy="60948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1981080"/>
            <a:ext cx="609480" cy="3812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2743200"/>
            <a:ext cx="45720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638680" y="3123720"/>
            <a:ext cx="457200" cy="30492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4038480"/>
            <a:ext cx="304560" cy="60984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4952880"/>
            <a:ext cx="38088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638680" y="5409720"/>
            <a:ext cx="457200" cy="22860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3657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5562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6019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CR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600200" y="4800600"/>
                <a:ext cx="350532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Consideraciones de PageR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El rank de una página es dividido entre los links de las páginas a las que apun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Es recursiva, al inicio son asignados valores a ciertas página y mediante interacciones se actualizan los valo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lt;1</a:t>
            </a:r>
            <a:r>
              <a:rPr b="0" lang="es-CR" sz="3200" spc="-1" strike="noStrike">
                <a:solidFill>
                  <a:srgbClr val="ffffcc"/>
                </a:solidFill>
                <a:latin typeface="Arial"/>
              </a:rPr>
              <a:t> debido a que la páginas que no tienen foward links se pierden en el sistem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Calculo del Vector de Págin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Sea A una matriz cuadrada, donde </a:t>
            </a:r>
            <a:r>
              <a:rPr b="0" i="1" lang="es-CR" sz="28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i="1" lang="es-CR" sz="2800" spc="-1" strike="noStrike" baseline="-25000">
                <a:solidFill>
                  <a:srgbClr val="ffffcc"/>
                </a:solidFill>
                <a:latin typeface="Arial"/>
              </a:rPr>
              <a:t>u</a:t>
            </a:r>
            <a:r>
              <a:rPr b="0" i="1" lang="es-CR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i="1" lang="es-CR" sz="2800" spc="-1" strike="noStrike" baseline="-25000">
                <a:solidFill>
                  <a:srgbClr val="ffffcc"/>
                </a:solidFill>
                <a:latin typeface="Arial"/>
              </a:rPr>
              <a:t>v</a:t>
            </a:r>
            <a:r>
              <a:rPr b="0" i="1" lang="es-CR" sz="2800" spc="-1" strike="noStrike">
                <a:solidFill>
                  <a:srgbClr val="ffffcc"/>
                </a:solidFill>
                <a:latin typeface="Arial"/>
              </a:rPr>
              <a:t>=1</a:t>
            </a: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0" i="1" lang="es-CR" sz="28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0" i="1" lang="es-CR" sz="2800" spc="-1" strike="noStrike" baseline="-25000">
                <a:solidFill>
                  <a:srgbClr val="ffffcc"/>
                </a:solidFill>
                <a:latin typeface="Arial"/>
              </a:rPr>
              <a:t>u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 si existe un camino de </a:t>
            </a:r>
            <a:r>
              <a:rPr b="0" i="1" lang="es-CR" sz="2800" spc="-1" strike="noStrike">
                <a:solidFill>
                  <a:srgbClr val="ffffcc"/>
                </a:solidFill>
                <a:latin typeface="Arial"/>
              </a:rPr>
              <a:t>u 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0" i="1" lang="es-CR" sz="28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 y </a:t>
            </a:r>
            <a:r>
              <a:rPr b="0" i="1" lang="es-CR" sz="28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i="1" lang="es-CR" sz="2800" spc="-1" strike="noStrike" baseline="-25000">
                <a:solidFill>
                  <a:srgbClr val="ffffcc"/>
                </a:solidFill>
                <a:latin typeface="Arial"/>
              </a:rPr>
              <a:t>u,v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=0 si no. Se desea tratar R como un vector sobre las páginas WEB, y R = cAR donde R es un vector escalar de escala c, esta formula se comienza a aplicar repetidamente para actualizar sus valor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Usando lo anterior es posible resolver un problema de la forma simplicada de ranking: Considere dos páginas que se apuntan entre si, no pero ninguna otra. Se desea evitar un ciclo que acumule rank innecesario entre ella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ffcc00"/>
                </a:solidFill>
                <a:latin typeface="Arial"/>
              </a:rPr>
              <a:t>Corrección del Calculo de PageRank (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Sea E(u) un vector sobre las paginas Web el cual corresponde a una fuente de rank. Entonces el PageRank de un conjunto de paginas web  es una asignación, R’, a las paginas web las cuales satisfac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Donde </a:t>
            </a:r>
            <a:r>
              <a:rPr b="0" i="1" lang="es-CR" sz="2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 es maximizado y 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| |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R’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| |</a:t>
            </a:r>
            <a:r>
              <a:rPr b="0" lang="es-CR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 = 1 (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| |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R’</a:t>
            </a: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 | |</a:t>
            </a:r>
            <a:r>
              <a:rPr b="0" lang="es-CR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 denota la norma L</a:t>
            </a:r>
            <a:r>
              <a:rPr b="0" lang="es-CR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 de R’)  y E</a:t>
            </a:r>
            <a:r>
              <a:rPr b="0" lang="es-CR" sz="2800" spc="-1" strike="noStrike" baseline="-25000">
                <a:solidFill>
                  <a:srgbClr val="ffffcc"/>
                </a:solidFill>
                <a:latin typeface="Arial"/>
              </a:rPr>
              <a:t>(u)</a:t>
            </a:r>
            <a:r>
              <a:rPr b="0" lang="es-CR" sz="2800" spc="-1" strike="noStrike">
                <a:solidFill>
                  <a:srgbClr val="ffffcc"/>
                </a:solidFill>
                <a:latin typeface="Arial"/>
              </a:rPr>
              <a:t> es un vector de paginas web que corresponde a una fuente de Rank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590920" y="3733920"/>
                <a:ext cx="4343400" cy="12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sub>
                      <m:sup/>
                      <m:e>
                        <m:f>
                          <m:num>
                            <m:r>
                              <m:t xml:space="preserve">R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3:23:49Z</dcterms:created>
  <dc:creator>Vicerrectoria de Acción Socia</dc:creator>
  <dc:description/>
  <dc:language>en-US</dc:language>
  <cp:lastModifiedBy>e981057</cp:lastModifiedBy>
  <dcterms:modified xsi:type="dcterms:W3CDTF">2003-06-04T23:02:56Z</dcterms:modified>
  <cp:revision>29</cp:revision>
  <dc:subject/>
  <dc:title>Page Rank </dc:title>
</cp:coreProperties>
</file>