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31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.jpeg" ContentType="image/jpeg"/>
  <Override PartName="/ppt/media/image38.png" ContentType="image/png"/>
  <Override PartName="/ppt/media/image39.png" ContentType="image/png"/>
  <Override PartName="/ppt/media/image33.png" ContentType="image/png"/>
  <Override PartName="/ppt/media/image12.wmf" ContentType="image/x-wmf"/>
  <Override PartName="/ppt/media/image30.wmf" ContentType="image/x-wmf"/>
  <Override PartName="/ppt/media/image2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7.png" ContentType="image/png"/>
  <Override PartName="/ppt/media/image14.png" ContentType="image/png"/>
  <Override PartName="/ppt/media/image41.png" ContentType="image/png"/>
  <Override PartName="/ppt/media/image9.wmf" ContentType="image/x-wmf"/>
  <Override PartName="/ppt/media/image42.png" ContentType="image/png"/>
  <Override PartName="/ppt/media/image25.wmf" ContentType="image/x-wmf"/>
  <Override PartName="/ppt/media/image7.wmf" ContentType="image/x-wmf"/>
  <Override PartName="/ppt/media/image2.wmf" ContentType="image/x-wmf"/>
  <Override PartName="/ppt/media/image32.wmf" ContentType="image/x-wmf"/>
  <Override PartName="/ppt/media/image11.wmf" ContentType="image/x-wmf"/>
  <Override PartName="/ppt/media/image26.png" ContentType="image/png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.wmf" ContentType="image/x-wmf"/>
  <Override PartName="/ppt/media/image34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907588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1D65-4294-4D35-A27A-C6BAA39A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4F8E-006E-4EFE-9FD0-00F0042B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A88F-13DD-4724-9D6E-962CB04D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3A2D-249E-4866-B440-1DB81749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6E85-9794-47BF-8EFC-A921D124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5B1E-57FF-49DE-B124-4D452CC1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5073-249A-4264-8669-CF457BC1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B869-3D53-4957-BF92-79861D99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CB2A-72C5-4434-B815-30078885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268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1668-B3ED-46CD-BB64-44CD7DA2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2406-DBDE-4446-82B9-F63B5530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AD9B-BC43-4513-9D35-5AA56ABE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272A-05F3-4E41-9331-CE581D97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0F84-C9CD-449F-8487-B41D32B2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A08D-3DE2-42E7-B167-5DABA9EA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D63F-B7CF-47DA-BFC8-A52DA3CF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9605-EB3D-4507-817B-D694CEE7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456-1F8F-4F5F-83A1-764A0897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A2E5-4D15-4FC2-A00C-322E9ACF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8AC-F8A3-4885-A3E0-28300011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A6F-7656-416A-BD57-2447C802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003-D209-439E-9023-7D535C18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8D8-C11A-4A18-B91B-BF1FD442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2E36-C694-4FA3-B883-96242FC7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E9E7-14BB-4B4B-AFB9-3E484320AE8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7720" y="3340080"/>
            <a:ext cx="829152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F3F0-547E-4B49-B4A7-BB1D0CE6AF6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3.png"/><Relationship Id="rId6" Type="http://schemas.openxmlformats.org/officeDocument/2006/relationships/package" Target="../embeddings/oleObject3.docx"/><Relationship Id="rId7" Type="http://schemas.openxmlformats.org/officeDocument/2006/relationships/image" Target="../media/image14.png"/><Relationship Id="rId8" Type="http://schemas.openxmlformats.org/officeDocument/2006/relationships/package" Target="../embeddings/oleObject4.docx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4.png"/><Relationship Id="rId6" Type="http://schemas.openxmlformats.org/officeDocument/2006/relationships/package" Target="../embeddings/oleObject3.docx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8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7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38.png"/><Relationship Id="rId6" Type="http://schemas.openxmlformats.org/officeDocument/2006/relationships/package" Target="../embeddings/oleObject3.docx"/><Relationship Id="rId7" Type="http://schemas.openxmlformats.org/officeDocument/2006/relationships/image" Target="../media/image39.png"/><Relationship Id="rId8" Type="http://schemas.openxmlformats.org/officeDocument/2006/relationships/package" Target="../embeddings/oleObject4.docx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8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41.png"/><Relationship Id="rId6" Type="http://schemas.openxmlformats.org/officeDocument/2006/relationships/package" Target="../embeddings/oleObject3.docx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80834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333333"/>
                </a:solidFill>
                <a:latin typeface="Times New Roman"/>
              </a:rPr>
              <a:t>4.-TRATAMIENTO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s-ES_tradnl" sz="6600" spc="-1" strike="noStrike">
                <a:solidFill>
                  <a:srgbClr val="333333"/>
                </a:solidFill>
                <a:latin typeface="Times New Roman"/>
              </a:rPr>
              <a:t>DE TEXTOS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jemplo de aplicación: acceso a la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informació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ase de datos documental con textos de gran longitu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 segment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 presentan al usuario las primeras frases de los fragment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600" y="456840"/>
            <a:ext cx="6858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Implementació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3429000"/>
            <a:ext cx="7486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ediante marcas en el tex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unción de “cohesión temática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82720" y="120024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6. Categorización de texto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66680" y="2438280"/>
          <a:ext cx="3581640" cy="3200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438280"/>
                    <a:ext cx="35816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72280" y="2057040"/>
            <a:ext cx="35431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ad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onjunto de document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onjunto de categoría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signación de una o más categorías a cada document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jemplo aplicació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Motor de búsqueda en Internet</a:t>
            </a:r>
            <a:br>
              <a:rPr sz="3200"/>
            </a:b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(InfoSeek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Asignación de categorí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{cultura, ocio, deportes,</a:t>
            </a:r>
            <a:br>
              <a:rPr sz="2800"/>
            </a:b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universidad}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2392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6600" spc="-1" strike="noStrike">
                <a:solidFill>
                  <a:srgbClr val="004c2b"/>
                </a:solidFill>
                <a:latin typeface="Times New Roman"/>
              </a:rPr>
              <a:t>MÉTODOS DE INDEXACIÓN Y </a:t>
            </a:r>
            <a:br>
              <a:rPr sz="6600"/>
            </a:br>
            <a:r>
              <a:rPr b="0" lang="en-US" sz="6600" spc="-1" strike="noStrike">
                <a:solidFill>
                  <a:srgbClr val="004c2b"/>
                </a:solidFill>
                <a:latin typeface="Times New Roman"/>
              </a:rPr>
              <a:t>CÁLCULO DE LA SIMILITUD</a:t>
            </a:r>
            <a:endParaRPr b="0" lang="en-US" sz="6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2824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Método de represent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Método de análisi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Método de cálculo de similitu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entre document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documentos y otros elementos específicos de la operació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Index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Representación + Anális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Manual / Automátic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Ejempl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Recuperación de informa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Agrupamiento de documentos (clustering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Filtra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715000" y="838080"/>
          <a:ext cx="3276720" cy="358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838080"/>
                    <a:ext cx="32767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4724280" y="4267080"/>
            <a:ext cx="4572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4c2b"/>
              </a:buClr>
              <a:buFont typeface="Century Schoolbook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entury Schoolbook"/>
              </a:rPr>
              <a:t>Ejemplos consulta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74"/>
              </a:spcBef>
              <a:buClr>
                <a:srgbClr val="578963"/>
              </a:buClr>
              <a:buSzPct val="50000"/>
              <a:buFont typeface="Monotype Sorts" charset="2"/>
              <a:buChar char="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entury Schoolbook"/>
              </a:rPr>
              <a:t>Lenguaje formal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Courier New"/>
              </a:rPr>
              <a:t>SELECT INFORMATION;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Courier New"/>
              </a:rPr>
              <a:t>SELECT RETRIEVAL;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Courier New"/>
              </a:rPr>
              <a:t>COMBINE 1 AND 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74"/>
              </a:spcBef>
              <a:buClr>
                <a:srgbClr val="578963"/>
              </a:buClr>
              <a:buSzPct val="50000"/>
              <a:buFont typeface="Monotype Sorts" charset="2"/>
              <a:buChar char="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entury Schoolbook"/>
              </a:rPr>
              <a:t>“</a:t>
            </a:r>
            <a:r>
              <a:rPr b="0" lang="en-US" sz="1200" spc="-1" strike="noStrike">
                <a:solidFill>
                  <a:srgbClr val="333333"/>
                </a:solidFill>
                <a:latin typeface="Century Schoolbook"/>
              </a:rPr>
              <a:t>Lenguaje Natural”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Courier New"/>
              </a:rPr>
              <a:t>AUTOMATIC INDEXING OF</a:t>
            </a:r>
            <a:br>
              <a:rPr sz="1000"/>
            </a:br>
            <a:r>
              <a:rPr b="0" lang="en-US" sz="1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Courier New"/>
              </a:rPr>
              <a:t>DOCUMENTS FOR INFORMATION </a:t>
            </a:r>
            <a:r>
              <a:rPr b="0" lang="en-US" sz="1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Courier New"/>
              </a:rPr>
              <a:t>RETRIEVAL IN THE 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333333"/>
                </a:solidFill>
                <a:latin typeface="Courier New"/>
              </a:rPr>
              <a:t>MEDICAL DOMAIN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1625760"/>
            <a:ext cx="0" cy="4597200"/>
          </a:xfrm>
          <a:prstGeom prst="line">
            <a:avLst/>
          </a:prstGeom>
          <a:ln w="5076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42680" y="380520"/>
            <a:ext cx="842004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Sistemas de clasificación automática de text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Conjunto de elementos comun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Basados en Recuperación de Información (razones histórica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Elementos principale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Método de representa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Método de cálculo de similitu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Modelo del espacio vectori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Método de análisis de document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Pesos de términ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Listas de parad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Extracción de raíc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Frases de términ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Thesauru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4200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l modelo del espacio vectorial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2680" y="1295280"/>
            <a:ext cx="8420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Proporciona las bases par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Representación de documentos (y otros elementos como consulta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Cálculo de similitu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Pluralidad de model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Probabilístic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Redes Neura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Algoritmos genétic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Aspectos positivos del M.E.V.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Efectivida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Eficienc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Adaptación a las diferentes operaciones de clasifica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3962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ectores de pesos de términ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ocument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onsult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álculo de similitud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638680" y="1066680"/>
          <a:ext cx="3048120" cy="2552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1066680"/>
                    <a:ext cx="304812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 rot="10800000">
                <a:off x="1066680" y="4571640"/>
                <a:ext cx="286560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d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j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wq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ki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8" name=""/>
          <p:cNvGraphicFramePr/>
          <p:nvPr/>
        </p:nvGraphicFramePr>
        <p:xfrm>
          <a:off x="1219320" y="3733920"/>
          <a:ext cx="2314440" cy="252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3733920"/>
                    <a:ext cx="231444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447920" y="2743200"/>
          <a:ext cx="2230200" cy="330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2743200"/>
                    <a:ext cx="22302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564080" y="3975120"/>
          <a:ext cx="4707000" cy="20955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64080" y="3975120"/>
                    <a:ext cx="470700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ermite la ordenación por relevancia en el caso de la Recuperación de Inform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esos: binarios, enteros, rea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acilita la indexación automátic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étodo represent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étodo de análisi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Aplicaciones del PL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4200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lvl="1" marL="690840" indent="-2656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nterface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UCD, LC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álisis de la entrada human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raducción entre lengu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ratamiento del tex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cesadores de text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álisis sintáctic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rrección ortográfic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ratamiento de textos (o documento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ducción de text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ecuperación de información textu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riterios estadísticos + Información lingüísti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Pesos de término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6680" y="1447920"/>
          <a:ext cx="8001000" cy="4724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447920"/>
                    <a:ext cx="8001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546240" y="1676520"/>
            <a:ext cx="2334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333333"/>
                </a:solidFill>
                <a:latin typeface="Times New Roman"/>
              </a:rPr>
              <a:t>e.g. semiconductor, cryogenic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333333"/>
                </a:solidFill>
                <a:latin typeface="Times New Roman"/>
              </a:rPr>
              <a:t>e.g. the, a, of, ver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1522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Bases para la definición de pesos de términ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Poder de resolu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Observaciones empíric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Ley de Zipf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Frecuencia total de apari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Problema: definición “cualitativa”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Expresiones efectivas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wd</a:t>
            </a:r>
            <a:r>
              <a:rPr b="0" lang="es-ES_tradnl" sz="1800" spc="-1" strike="noStrike">
                <a:solidFill>
                  <a:srgbClr val="333333"/>
                </a:solidFill>
                <a:latin typeface="Times New Roman"/>
              </a:rPr>
              <a:t>ji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:peso que del término i en el documento j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w</a:t>
            </a:r>
            <a:r>
              <a:rPr b="0" lang="es-ES_tradnl" sz="1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:peso del término i en la colec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df</a:t>
            </a:r>
            <a:r>
              <a:rPr b="0" lang="es-ES_tradnl" sz="1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 número de documentos en que aparece el término 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Analogías/diferencias con p. resolu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286000" y="1828800"/>
                <a:ext cx="199692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recuenci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ango</m:t>
                    </m:r>
                    <m:r>
                      <m:t xml:space="preserve">@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590920" y="2590920"/>
                <a:ext cx="13827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otfre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64" name=""/>
          <p:cNvGraphicFramePr/>
          <p:nvPr/>
        </p:nvGraphicFramePr>
        <p:xfrm>
          <a:off x="2666880" y="4267080"/>
          <a:ext cx="1578240" cy="495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4267080"/>
                    <a:ext cx="15782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2680" y="22860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Listas de parad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Propósi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Eliminación de palabras que no son útiles a efectos de indexa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Ejempl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the”, “a”, “to”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Obtención: a partir de estudios de corpus de text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Ejemplo: a partir del Corpus Brown -&gt; 425 términ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Dato: las 10 palabras más frecuentes -&gt; 20-30% de los términos que aparecen en un document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Política dependiente del sistem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WAIS: 425      ORBIT: 6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Eficiencia / efectivida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47920" y="1143000"/>
          <a:ext cx="7467480" cy="4419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143000"/>
                    <a:ext cx="74674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tracción de raíc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Obtener un único término de indexación para las variaciones</a:t>
            </a:r>
            <a:br>
              <a:rPr sz="2800"/>
            </a:b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morfológicas de una palabr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e.g.: analysis, analyzer, anayzing =&gt; ANA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No necesariamente la raíz lingüíst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Algoritmos de extracción de raí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e.g.: Algoritmo de Port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88 reglas de eliminación de sufij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Parejas de terminacion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Se sustituye una por otra (más breve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9 conjuntos de regl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Se aplican secuencialme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tracción de raíc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441936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digitalization” -(214)-&gt; </a:t>
            </a:r>
            <a:br>
              <a:rPr sz="2400"/>
            </a:b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“digitalize” -(303)-&gt;</a:t>
            </a:r>
            <a:br>
              <a:rPr sz="2400"/>
            </a:b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“digital”-(401)-&gt; “digit”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Error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infrarradicación: hope, hopping -&gt; HOP, HOPP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sobrerradicación: capitol, capital -&gt; CAPI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Política del sistem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475240" y="1828800"/>
          <a:ext cx="4041720" cy="4068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75240" y="1828800"/>
                    <a:ext cx="40417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5257800" y="1981080"/>
            <a:ext cx="609480" cy="1828800"/>
          </a:xfrm>
          <a:prstGeom prst="line">
            <a:avLst/>
          </a:prstGeom>
          <a:ln cap="sq" w="12600">
            <a:solidFill>
              <a:srgbClr val="3333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82360" y="228600"/>
            <a:ext cx="71182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Frases de término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2680" y="837720"/>
            <a:ext cx="84200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Propósi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Obtención de nuevos términos de indexación con un significado más precis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Ejemplo:“computer” “network”=&gt;“computer network”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Valor de cohesión de una pareja de términ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Times New Roman"/>
              </a:rPr>
              <a:t>pairfreqkh: frecuencia de aparición de los dos términos simultáneament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Times New Roman"/>
              </a:rPr>
              <a:t>totfreqi: frecuencia total de aparición del término termi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Modelo de discriminación de términos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No considerar los términos con frecuencia de aparición al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Sustituirlos por frases de términ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No proporcionan incrementos decisivos en la efectivida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76520" y="2971800"/>
          <a:ext cx="4851360" cy="37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971800"/>
                    <a:ext cx="485136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Thesauru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Thesauru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Conjunto de términos clasificad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Dentro de un determinado domin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Construcción automát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wdij y wdik :pesos de los términos termj y termk en el documento i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257800" y="2514600"/>
          <a:ext cx="4346640" cy="205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7800" y="2514600"/>
                    <a:ext cx="43466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676520" y="3962520"/>
                <a:ext cx="2635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er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er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Thesauru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Listas de asociación de términ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019920" y="2666880"/>
          <a:ext cx="3227400" cy="1905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2666880"/>
                    <a:ext cx="32274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Thesauru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Utilización en indexación automát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Permite identificación de términos </a:t>
            </a:r>
            <a:br>
              <a:rPr sz="2400"/>
            </a:b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lexicográficamente diferentes como equivalentes semánticame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Sinonim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Momentos de utilización en R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Indexación:términos de indexación - clases del thesauru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Consulta: expansión de los términ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asificación automática de textos (CAT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52600" y="1600200"/>
            <a:ext cx="77104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lvl="1" marL="690840" indent="-2656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Operaciones de clasific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ecuperación de text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ncaminamiento de text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écnicas de análisi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riterios estadístic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recuencias de aparición de términos o de asociaciones de términ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Medidas de la similitu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istemas de clasificación de document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a categorización como operación básic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6960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Directrices para la aplicación en operaciones de clasificació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95324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ecuperación de text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aliment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523880" y="3276720"/>
          <a:ext cx="1608120" cy="609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3276720"/>
                    <a:ext cx="1608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066680" y="4038480"/>
          <a:ext cx="2887920" cy="1216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4038480"/>
                    <a:ext cx="288792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095880" y="2666880"/>
          <a:ext cx="2819520" cy="2590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5880" y="2666880"/>
                    <a:ext cx="28195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495324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ncaminamiento /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iltrado /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ategoriz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onjunto de documentos con clases asociadas previamen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943600" y="1066680"/>
            <a:ext cx="3429000" cy="495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219320" y="4876920"/>
          <a:ext cx="2133360" cy="685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876920"/>
                    <a:ext cx="21333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 rot="10800000">
            <a:off x="-229320" y="-720"/>
            <a:ext cx="975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3505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grupamien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581280" y="3048120"/>
          <a:ext cx="6096240" cy="3276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3048120"/>
                    <a:ext cx="609624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6248520" y="609480"/>
          <a:ext cx="1819080" cy="1524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48520" y="609480"/>
                    <a:ext cx="181908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09480" y="2438280"/>
          <a:ext cx="3054600" cy="1285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2438280"/>
                    <a:ext cx="30546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35053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ategoriz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unción de cohesión temát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52320" y="3619440"/>
          <a:ext cx="4148280" cy="409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2320" y="3619440"/>
                    <a:ext cx="414828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952880" y="1143000"/>
          <a:ext cx="4038840" cy="2133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1143000"/>
                    <a:ext cx="40388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245200" y="3835440"/>
          <a:ext cx="3975120" cy="2263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45200" y="3835440"/>
                    <a:ext cx="397512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01064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4c2b"/>
                </a:solidFill>
                <a:latin typeface="Times New Roman"/>
              </a:rPr>
              <a:t>SISTEMAS  DE</a:t>
            </a:r>
            <a:br>
              <a:rPr sz="6600"/>
            </a:br>
            <a:r>
              <a:rPr b="0" lang="en-US" sz="6600" spc="-1" strike="noStrike">
                <a:solidFill>
                  <a:srgbClr val="004c2b"/>
                </a:solidFill>
                <a:latin typeface="Times New Roman"/>
              </a:rPr>
              <a:t>CLASIFICACIÓN DE TEXTOS</a:t>
            </a:r>
            <a:endParaRPr b="0" lang="en-US" sz="6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2680" y="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958160" cy="467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ronologí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stemas de R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stemas de Clasifica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ltrad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Encaminamient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ategorizació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istemas de Clasificación Avanzad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iferentes aspect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Interfaz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Tipos de información (e.g. gráfica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iferentes tipos de textos (e.g. resúmenes/textos completo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Integran varias operaciones de clasificació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valuación: Efectividad y eficienci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Eficiencia: tiempo, espacio..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Efectividad: medida de la corrección de la oper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Exahustividad (Recall) y Precis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308560" y="1650960"/>
          <a:ext cx="3911760" cy="3254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08560" y="1650960"/>
                    <a:ext cx="391176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5562720" y="2362320"/>
            <a:ext cx="38862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15000" y="5181480"/>
            <a:ext cx="3352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5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400" spc="-1" strike="noStrike">
                <a:solidFill>
                  <a:srgbClr val="333333"/>
                </a:solidFill>
                <a:latin typeface="Century Schoolbook"/>
              </a:rPr>
              <a:t>Evaluación RI: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200" spc="-1" strike="noStrike">
                <a:solidFill>
                  <a:srgbClr val="333333"/>
                </a:solidFill>
                <a:latin typeface="Century Schoolbook"/>
              </a:rPr>
              <a:t>- Conjunto documento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200" spc="-1" strike="noStrike">
                <a:solidFill>
                  <a:srgbClr val="333333"/>
                </a:solidFill>
                <a:latin typeface="Century Schoolbook"/>
              </a:rPr>
              <a:t>- Conjunto consulta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200" spc="-1" strike="noStrike">
                <a:solidFill>
                  <a:srgbClr val="333333"/>
                </a:solidFill>
                <a:latin typeface="Century Schoolbook"/>
              </a:rPr>
              <a:t>- Asignación de docs. relevante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valuación: Efectividad y eficienci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Adaptación a los nuevos sistem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Evolución de la investig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Efectividad -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Efectividad / Eficienc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Nuevas necesidades, e.g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InfoSeek: 10</a:t>
            </a:r>
            <a:r>
              <a:rPr b="0" lang="es-ES_tradnl" sz="2800" spc="-1" strike="noStrike" baseline="30000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 consultas / hor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Filtrado: 1Mb / hor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2362320"/>
            <a:ext cx="38862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5181480"/>
            <a:ext cx="3352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Adaptación a la estructura de los texto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Multiplicidad de tipos de document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Estructur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Técnicas orientadas a resúmenes (abstract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Términos especialmente descriptiv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Documentos complet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Términ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Estructur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Integración de operaci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e.g. Recuperación de text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Segmenta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Categoriza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20880" y="818640"/>
            <a:ext cx="72388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Paradigmas de interacció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12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aradigmas basados en la ordenación por relevanc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85000"/>
              </a:lnSpc>
              <a:spcBef>
                <a:spcPts val="12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uevas formas de interac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Bef>
                <a:spcPts val="10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decuación a nuevas operaciones de 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asifica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Bef>
                <a:spcPts val="10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ejora de las ya existen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956120" y="2212920"/>
          <a:ext cx="4489560" cy="28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6120" y="2212920"/>
                    <a:ext cx="4489560" cy="28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Operaciones de C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72579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1: Recuperación de text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2: Encaminamiento de text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3: Filtrado de text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4: Agrupamiento de text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5: Segment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6: Categorización de text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20880" y="818640"/>
            <a:ext cx="72388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Paradigmas de interacció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lnSpc>
                <a:spcPct val="85000"/>
              </a:lnSpc>
              <a:spcBef>
                <a:spcPts val="12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TileBars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01560" indent="-231480">
              <a:lnSpc>
                <a:spcPct val="85000"/>
              </a:lnSpc>
              <a:spcBef>
                <a:spcPts val="10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Visión glob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01560" indent="-231480">
              <a:lnSpc>
                <a:spcPct val="85000"/>
              </a:lnSpc>
              <a:spcBef>
                <a:spcPts val="10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Utilización de segmenta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01560" indent="-231480">
              <a:lnSpc>
                <a:spcPct val="85000"/>
              </a:lnSpc>
              <a:spcBef>
                <a:spcPts val="10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Estructur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01560" indent="-231480">
              <a:lnSpc>
                <a:spcPct val="85000"/>
              </a:lnSpc>
              <a:spcBef>
                <a:spcPts val="10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Categorizació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01560" indent="-231480">
              <a:lnSpc>
                <a:spcPct val="85000"/>
              </a:lnSpc>
              <a:spcBef>
                <a:spcPts val="10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Complementar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77560" indent="-277560">
              <a:lnSpc>
                <a:spcPct val="85000"/>
              </a:lnSpc>
              <a:spcBef>
                <a:spcPts val="12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InfoSee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01560" indent="-231480">
              <a:lnSpc>
                <a:spcPct val="85000"/>
              </a:lnSpc>
              <a:spcBef>
                <a:spcPts val="10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Agrupamient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01560" indent="-231480">
              <a:lnSpc>
                <a:spcPct val="85000"/>
              </a:lnSpc>
              <a:spcBef>
                <a:spcPts val="10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Categoriza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635880" y="-5397480"/>
          <a:ext cx="214200" cy="20170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35880" y="-5397480"/>
                    <a:ext cx="214200" cy="2017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5410080" y="1523880"/>
            <a:ext cx="15973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entury Schoolbook"/>
              </a:rPr>
              <a:t>e.g.</a:t>
            </a:r>
            <a:r>
              <a:rPr b="0" lang="en-US" sz="1200" spc="-1" strike="noStrike">
                <a:solidFill>
                  <a:srgbClr val="333333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Century Schoolbook"/>
              </a:rPr>
              <a:t>1. multimedi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Century Schoolbook"/>
              </a:rPr>
              <a:t>2. vide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4120" y="1905120"/>
            <a:ext cx="20541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333333"/>
                </a:solidFill>
                <a:latin typeface="Century Schoolbook"/>
              </a:rPr>
              <a:t>e.g.</a:t>
            </a:r>
            <a:r>
              <a:rPr b="0" lang="es-ES_tradnl" sz="1200" spc="-1" strike="noStrike">
                <a:solidFill>
                  <a:srgbClr val="333333"/>
                </a:solidFill>
                <a:latin typeface="Century Schoolbook"/>
              </a:rPr>
              <a:t>	</a:t>
            </a:r>
            <a:r>
              <a:rPr b="0" lang="es-ES_tradnl" sz="1200" spc="-1" strike="noStrike">
                <a:solidFill>
                  <a:srgbClr val="333333"/>
                </a:solidFill>
                <a:latin typeface="Century Schoolbook"/>
              </a:rPr>
              <a:t>1. computer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333333"/>
                </a:solidFill>
                <a:latin typeface="Century Schoolbook"/>
              </a:rPr>
              <a:t>	</a:t>
            </a:r>
            <a:r>
              <a:rPr b="0" lang="es-ES_tradnl" sz="1200" spc="-1" strike="noStrike">
                <a:solidFill>
                  <a:srgbClr val="333333"/>
                </a:solidFill>
                <a:latin typeface="Century Schoolbook"/>
              </a:rPr>
              <a:t>2. network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333333"/>
                </a:solidFill>
                <a:latin typeface="Century Schoolbook"/>
              </a:rPr>
              <a:t>e.g.</a:t>
            </a:r>
            <a:r>
              <a:rPr b="0" lang="es-ES_tradnl" sz="1200" spc="-1" strike="noStrike">
                <a:solidFill>
                  <a:srgbClr val="333333"/>
                </a:solidFill>
                <a:latin typeface="Century Schoolbook"/>
              </a:rPr>
              <a:t>	</a:t>
            </a:r>
            <a:r>
              <a:rPr b="0" lang="es-ES_tradnl" sz="1200" spc="-1" strike="noStrike">
                <a:solidFill>
                  <a:srgbClr val="333333"/>
                </a:solidFill>
                <a:latin typeface="Century Schoolbook"/>
              </a:rPr>
              <a:t>1. computer network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333333"/>
                </a:solidFill>
                <a:latin typeface="Century Schoolbook"/>
              </a:rPr>
              <a:t>	</a:t>
            </a:r>
            <a:r>
              <a:rPr b="0" lang="es-ES_tradnl" sz="1200" spc="-1" strike="noStrike">
                <a:solidFill>
                  <a:srgbClr val="333333"/>
                </a:solidFill>
                <a:latin typeface="Century Schoolbook"/>
              </a:rPr>
              <a:t>2. law jurisprudence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20880" y="818640"/>
            <a:ext cx="72388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Paradigmas de interacció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lnSpc>
                <a:spcPct val="85000"/>
              </a:lnSpc>
              <a:spcBef>
                <a:spcPts val="12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TileBars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01560" indent="-231480">
              <a:lnSpc>
                <a:spcPct val="85000"/>
              </a:lnSpc>
              <a:spcBef>
                <a:spcPts val="10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Visión glob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01560" indent="-231480">
              <a:lnSpc>
                <a:spcPct val="85000"/>
              </a:lnSpc>
              <a:spcBef>
                <a:spcPts val="10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Utilización de segmenta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01560" indent="-231480">
              <a:lnSpc>
                <a:spcPct val="85000"/>
              </a:lnSpc>
              <a:spcBef>
                <a:spcPts val="10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Estructur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01560" indent="-231480">
              <a:lnSpc>
                <a:spcPct val="85000"/>
              </a:lnSpc>
              <a:spcBef>
                <a:spcPts val="10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Categorizació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01560" indent="-231480">
              <a:lnSpc>
                <a:spcPct val="85000"/>
              </a:lnSpc>
              <a:spcBef>
                <a:spcPts val="10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Complementar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77560" indent="-277560">
              <a:lnSpc>
                <a:spcPct val="85000"/>
              </a:lnSpc>
              <a:spcBef>
                <a:spcPts val="12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InfoSee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01560" indent="-231480">
              <a:lnSpc>
                <a:spcPct val="85000"/>
              </a:lnSpc>
              <a:spcBef>
                <a:spcPts val="10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Agrupamient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01560" indent="-231480">
              <a:lnSpc>
                <a:spcPct val="85000"/>
              </a:lnSpc>
              <a:spcBef>
                <a:spcPts val="10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Categoriza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657600" y="2819520"/>
          <a:ext cx="6019920" cy="3581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819520"/>
                    <a:ext cx="60199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5410080" y="1523880"/>
            <a:ext cx="15973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entury Schoolbook"/>
              </a:rPr>
              <a:t>e.g.</a:t>
            </a:r>
            <a:r>
              <a:rPr b="0" lang="en-US" sz="1200" spc="-1" strike="noStrike">
                <a:solidFill>
                  <a:srgbClr val="333333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Century Schoolbook"/>
              </a:rPr>
              <a:t>1. multimedi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Century Schoolbook"/>
              </a:rPr>
              <a:t>2. video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1905120"/>
            <a:ext cx="20541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333333"/>
                </a:solidFill>
                <a:latin typeface="Century Schoolbook"/>
              </a:rPr>
              <a:t>e.g.</a:t>
            </a:r>
            <a:r>
              <a:rPr b="0" lang="es-ES_tradnl" sz="1200" spc="-1" strike="noStrike">
                <a:solidFill>
                  <a:srgbClr val="333333"/>
                </a:solidFill>
                <a:latin typeface="Century Schoolbook"/>
              </a:rPr>
              <a:t>	</a:t>
            </a:r>
            <a:r>
              <a:rPr b="0" lang="es-ES_tradnl" sz="1200" spc="-1" strike="noStrike">
                <a:solidFill>
                  <a:srgbClr val="333333"/>
                </a:solidFill>
                <a:latin typeface="Century Schoolbook"/>
              </a:rPr>
              <a:t>1. computer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333333"/>
                </a:solidFill>
                <a:latin typeface="Century Schoolbook"/>
              </a:rPr>
              <a:t>	</a:t>
            </a:r>
            <a:r>
              <a:rPr b="0" lang="es-ES_tradnl" sz="1200" spc="-1" strike="noStrike">
                <a:solidFill>
                  <a:srgbClr val="333333"/>
                </a:solidFill>
                <a:latin typeface="Century Schoolbook"/>
              </a:rPr>
              <a:t>2. network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333333"/>
                </a:solidFill>
                <a:latin typeface="Century Schoolbook"/>
              </a:rPr>
              <a:t>e.g.</a:t>
            </a:r>
            <a:r>
              <a:rPr b="0" lang="es-ES_tradnl" sz="1200" spc="-1" strike="noStrike">
                <a:solidFill>
                  <a:srgbClr val="333333"/>
                </a:solidFill>
                <a:latin typeface="Century Schoolbook"/>
              </a:rPr>
              <a:t>	</a:t>
            </a:r>
            <a:r>
              <a:rPr b="0" lang="es-ES_tradnl" sz="1200" spc="-1" strike="noStrike">
                <a:solidFill>
                  <a:srgbClr val="333333"/>
                </a:solidFill>
                <a:latin typeface="Century Schoolbook"/>
              </a:rPr>
              <a:t>1. computer network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8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333333"/>
                </a:solidFill>
                <a:latin typeface="Century Schoolbook"/>
              </a:rPr>
              <a:t>	</a:t>
            </a:r>
            <a:r>
              <a:rPr b="0" lang="es-ES_tradnl" sz="1200" spc="-1" strike="noStrike">
                <a:solidFill>
                  <a:srgbClr val="333333"/>
                </a:solidFill>
                <a:latin typeface="Century Schoolbook"/>
              </a:rPr>
              <a:t>2. law jurisprudence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2203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Utilización general de la categorizació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4038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Recuperación de text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Filtrado de text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Encaminamien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Segmentación,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Mejor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Efectivida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Eficienc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Ejemplo utiliz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InfoSee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recuperación informació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agrupamient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categorizació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105520" y="1568520"/>
          <a:ext cx="4038480" cy="457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1568520"/>
                    <a:ext cx="4038480" cy="45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Integración de técnic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42680" y="13712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Integración de técnicas de PLN en la clasificación de text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Integración de conocimiento léxic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Léxicos específicos del domini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BDL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=&gt; Diferentes problemas concretos e.g. algoritmos de desambigu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No existe modelo equiparable a MEV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ategoriz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Categoración para otras tareas de clasificació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Representación basada en categorías o en  términ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Alternativ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complementari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Mejor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Efectividad. Eficienc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Categoración para tareas de clasificació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Utiliz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recuperación de tex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Método de acceso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e.g. InfoSeek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Contextualiza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Encaminamien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Filtrad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724280" y="1371600"/>
          <a:ext cx="4800600" cy="41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371600"/>
                    <a:ext cx="4800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5867280" y="5867280"/>
            <a:ext cx="258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Times New Roman"/>
              </a:rPr>
              <a:t>e.g. consulta “contaminant”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702936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ategorización basada en BDL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828440" y="297144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anual/ Automátic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asada en colección de entrenamien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asada en BD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ategorización basada en BDL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34340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olección de entrenamiento o Conjunto de categorí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oblemas lingüístic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inonim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lisem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oximidad semánt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521240" y="1778040"/>
          <a:ext cx="4857840" cy="4165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1240" y="1778040"/>
                    <a:ext cx="485784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Indexación por vectores de pesos de categorí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3505320" y="1676520"/>
            <a:ext cx="4394160" cy="4267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991040" y="5181480"/>
            <a:ext cx="4457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4c2b"/>
              </a:buClr>
              <a:buFont typeface="Century Schoolboo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Representación de vectores por pesos de categoría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440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222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82760" indent="-1857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Suponiendo tener conjunto de categorías y asociaciones term-ca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82760" indent="-1857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Vector de pesos de categorí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8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82760" indent="-1857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Cálculo de pesos de categorí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828800" y="2971800"/>
          <a:ext cx="2463840" cy="30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971800"/>
                    <a:ext cx="246384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1752480" y="3657600"/>
          <a:ext cx="1998720" cy="1104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3657600"/>
                    <a:ext cx="19987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6324480" y="2971800"/>
          <a:ext cx="3098880" cy="1612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24480" y="2971800"/>
                    <a:ext cx="309888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143000" y="4800600"/>
            <a:ext cx="4457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4c2b"/>
              </a:buClr>
              <a:buFont typeface="Century Schoolboo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333333"/>
                </a:solidFill>
                <a:latin typeface="Century Schoolbook"/>
              </a:rPr>
              <a:t>Aparición de categoría en documento (para dfc</a:t>
            </a:r>
            <a:r>
              <a:rPr b="0" lang="es-ES_tradnl" sz="900" spc="-1" strike="noStrike">
                <a:solidFill>
                  <a:srgbClr val="333333"/>
                </a:solidFill>
                <a:latin typeface="Century Schoolbook"/>
              </a:rPr>
              <a:t>i</a:t>
            </a:r>
            <a:r>
              <a:rPr b="0" lang="es-ES_tradnl" sz="1200" spc="-1" strike="noStrike">
                <a:solidFill>
                  <a:srgbClr val="333333"/>
                </a:solidFill>
                <a:latin typeface="Century Schoolbook"/>
              </a:rPr>
              <a:t>)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981080" y="5105520"/>
          <a:ext cx="2799000" cy="10540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5105520"/>
                    <a:ext cx="27990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4800600" y="5257800"/>
            <a:ext cx="999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 u="sng">
                <a:solidFill>
                  <a:srgbClr val="333333"/>
                </a:solidFill>
                <a:uFillTx/>
                <a:latin typeface="Times New Roman"/>
              </a:rPr>
              <a:t>umbral CF=0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1. Recuperación de texto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79320" y="1708200"/>
          <a:ext cx="4111920" cy="3168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9320" y="1708200"/>
                    <a:ext cx="411192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81480" y="1066680"/>
            <a:ext cx="381024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jemplo: sistema WAI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952880" y="2590920"/>
          <a:ext cx="4589640" cy="374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2590920"/>
                    <a:ext cx="458964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034000" y="5891040"/>
            <a:ext cx="299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s-ES_tradnl" sz="1400" spc="-1" strike="noStrike">
                <a:solidFill>
                  <a:srgbClr val="333333"/>
                </a:solidFill>
                <a:latin typeface="Times New Roman"/>
              </a:rPr>
              <a:t>Logic based programming languages”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4876920" y="4243320"/>
            <a:ext cx="68580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92966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Obtención de categorías y asociaciones de conceptos a partir de BDL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Información estructural: Relaciones léxic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Hipernimia / hiponim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Categoría de conceptos: conjunto de concept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Padre de categoría de concept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CDmin &lt; CD &lt; CDmax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Conceptos dependien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Debajo de padre, sin otro pad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Algoritmo de generación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Recorrido ascendente de la jerarquí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e.g.:CDmin = 5, CDmax = 15. =&gt; 3800 categorí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82720" y="120024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álculo del valor de asociación entre términos y categorí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álculo básic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Suposición de distribución uniforme de significad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886200" y="2438280"/>
          <a:ext cx="3048120" cy="1105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2438280"/>
                    <a:ext cx="30481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2057400" y="3581280"/>
          <a:ext cx="4233960" cy="789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3581280"/>
                    <a:ext cx="423396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1447920" y="5410080"/>
          <a:ext cx="5300640" cy="8254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5410080"/>
                    <a:ext cx="53006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105520" y="1295280"/>
            <a:ext cx="4267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33"/>
              </a:buClr>
              <a:buSzPct val="75000"/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62320" y="91440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Mejoras adicional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Indexación con algoritmo de desambigu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Cálculo de similitud entr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Contexto en que aparece palabr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Contexto de cada uno de los significad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33"/>
                </a:solidFill>
                <a:latin typeface="Times New Roman"/>
              </a:rPr>
              <a:t>BDL / DE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33"/>
                </a:solidFill>
                <a:latin typeface="Times New Roman"/>
              </a:rPr>
              <a:t>BDL con conocrdancias semánticas (textos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905120" y="4800600"/>
          <a:ext cx="3738600" cy="696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4800600"/>
                    <a:ext cx="37386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105520" y="1295280"/>
            <a:ext cx="4267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33"/>
              </a:buClr>
              <a:buSzPct val="75000"/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Mejoras adicional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Modificación de asociaciones categoría términ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Basadas en relaciones estructurales de la BD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33"/>
                </a:solidFill>
                <a:latin typeface="Times New Roman"/>
              </a:rPr>
              <a:t>e.g. “car”, “tank” =&gt; VEHICLE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Obtención de relaciones “temáticas”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33"/>
                </a:solidFill>
                <a:latin typeface="Times New Roman"/>
              </a:rPr>
              <a:t>e.g. “tank” =&gt; WA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Operaciones adicionales sobre relaciones de BD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Utilización de corpora de textos adicional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33"/>
                </a:solidFill>
                <a:latin typeface="Times New Roman"/>
              </a:rPr>
              <a:t>sim(term</a:t>
            </a:r>
            <a:r>
              <a:rPr b="0" lang="es-ES_tradnl" sz="12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s-ES_tradnl" sz="1800" spc="-1" strike="noStrike">
                <a:solidFill>
                  <a:srgbClr val="333333"/>
                </a:solidFill>
                <a:latin typeface="Times New Roman"/>
              </a:rPr>
              <a:t>,term</a:t>
            </a:r>
            <a:r>
              <a:rPr b="0" lang="es-ES_tradnl" sz="12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33"/>
                </a:solidFill>
                <a:latin typeface="Times New Roman"/>
              </a:rPr>
              <a:t>Específicos del dominio: e.g. el propio de conjunto de textos a categoriza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33"/>
                </a:solidFill>
                <a:latin typeface="Times New Roman"/>
              </a:rPr>
              <a:t>Independientes del dominio: e.g. Brown Corpu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33520" y="1295280"/>
            <a:ext cx="883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SzPct val="75000"/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entury Schoolbook"/>
              </a:rPr>
              <a:t>Modificación del conjunto de categorí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4c2b"/>
              </a:buClr>
              <a:buFont typeface="Century Schoolboo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Century Schoolbook"/>
              </a:rPr>
              <a:t>Obtención a partir de la BD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24"/>
              </a:spcBef>
              <a:buClr>
                <a:srgbClr val="578963"/>
              </a:buClr>
              <a:buSzPct val="50000"/>
              <a:buFont typeface="Monotype Sorts" charset="2"/>
              <a:buChar char="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Century Schoolbook"/>
              </a:rPr>
              <a:t>Modificación de CDmin y CDmax =&gt; desequilibrio para p &lt; 300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24"/>
              </a:spcBef>
              <a:buClr>
                <a:srgbClr val="578963"/>
              </a:buClr>
              <a:buSzPct val="50000"/>
              <a:buFont typeface="Monotype Sorts" charset="2"/>
              <a:buChar char="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Century Schoolbook"/>
              </a:rPr>
              <a:t>Utilizando corporus de texto adicional =&gt; necesario postprocesamiento manu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4c2b"/>
              </a:buClr>
              <a:buFont typeface="Century Schoolboo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Century Schoolbook"/>
              </a:rPr>
              <a:t>Thesaurus preexistente =&gt; necesario </a:t>
            </a:r>
            <a:br>
              <a:rPr sz="2000"/>
            </a:br>
            <a:r>
              <a:rPr b="0" lang="es-ES_tradnl" sz="2000" spc="-1" strike="noStrike">
                <a:solidFill>
                  <a:srgbClr val="333333"/>
                </a:solidFill>
                <a:latin typeface="Century Schoolbook"/>
              </a:rPr>
              <a:t>establecer asociaciones categorías / concept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Century Schoolbook"/>
              </a:rPr>
              <a:t>    </a:t>
            </a:r>
            <a:r>
              <a:rPr b="1" lang="es-ES_tradnl" sz="2400" spc="-1" strike="noStrike">
                <a:solidFill>
                  <a:srgbClr val="333333"/>
                </a:solidFill>
                <a:latin typeface="Century Schoolbook"/>
              </a:rPr>
              <a:t>Inclusión de análisis sintáctico / semántic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4c2b"/>
              </a:buClr>
              <a:buFont typeface="Century Schoolboo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Century Schoolbook"/>
              </a:rPr>
              <a:t>Perspectiva históri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4c2b"/>
              </a:buClr>
              <a:buFont typeface="Century Schoolboo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Century Schoolbook"/>
              </a:rPr>
              <a:t>Efectivida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4c2b"/>
              </a:buClr>
              <a:buFont typeface="Century Schoolboo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Century Schoolbook"/>
              </a:rPr>
              <a:t>Dependencia del domini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004c2b"/>
              </a:buClr>
              <a:buFont typeface="Century Schoolboo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Century Schoolbook"/>
              </a:rPr>
              <a:t>Esfuerzo de desarroll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Mejoras adicional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2. Encaminamiento de texto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500200"/>
          <a:ext cx="2943000" cy="2694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500200"/>
                    <a:ext cx="294300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66720" y="609120"/>
            <a:ext cx="541044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ados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un conjunto de document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un conjunto de direcciones a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los que deben ser remitid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signar las direcciones adecuadas a cada uno de los documento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jemplos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istribuir un conjunto de escritos presentados a un congreso entre los revisores responsab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istribución de información comercial de tipo publicitario de contenido diverso (e.g. turismo, electrónica, etc.) 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523520"/>
            <a:ext cx="723924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3. Filtrado de texto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95320" y="2666880"/>
          <a:ext cx="4210200" cy="2529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5320" y="2666880"/>
                    <a:ext cx="4210200" cy="25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97160" y="1447560"/>
            <a:ext cx="4451400" cy="45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lasificación de documentos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legados por un flujo de información a un destino concret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istema de recepción de correo electrónico 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istinción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elevantes/irrelevan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istinción de categoría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2720" y="112392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4. Agrupamiento de texto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14600" y="4267080"/>
          <a:ext cx="4603680" cy="2117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4267080"/>
                    <a:ext cx="460368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08000" y="1523880"/>
            <a:ext cx="7801200" cy="216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Dada una colección de documentos textual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Construir conjuntos de documentos agrupados por contenidos semejan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Posible estructura jeráquic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Ejemplo: agrupamiento de las órdenes de UNIX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Ejemplo de aplicación: acceso a la informac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648320"/>
            <a:ext cx="0" cy="99036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5562720"/>
            <a:ext cx="0" cy="22860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4267080"/>
            <a:ext cx="251460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5867280"/>
            <a:ext cx="0" cy="22860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5486400"/>
            <a:ext cx="0" cy="68580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5334120"/>
            <a:ext cx="0" cy="15228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5029200"/>
            <a:ext cx="0" cy="83808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5029200"/>
            <a:ext cx="129528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. Segmentación de texto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905120"/>
          <a:ext cx="4724280" cy="2590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05120"/>
                    <a:ext cx="472428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00880" y="1828800"/>
            <a:ext cx="4076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ado un tex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ividirlo en segmentos o fragment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257800" y="3809880"/>
          <a:ext cx="4343400" cy="2667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7800" y="3809880"/>
                    <a:ext cx="43434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4T14:27:53Z</dcterms:created>
  <dc:creator>Profesor</dc:creator>
  <dc:description/>
  <dc:language>en-US</dc:language>
  <cp:lastModifiedBy>VAQUERO</cp:lastModifiedBy>
  <cp:lastPrinted>1996-07-06T15:57:27Z</cp:lastPrinted>
  <dcterms:modified xsi:type="dcterms:W3CDTF">2002-10-11T08:02:30Z</dcterms:modified>
  <cp:revision>10</cp:revision>
  <dc:subject/>
  <dc:title>Aplicaciones de las bases de datos léxicas</dc:title>
</cp:coreProperties>
</file>