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72B91-A6AC-46EF-995E-E026F6D4A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91AAF-6FCE-49C6-935A-6B9AE0920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729F3-E728-4446-9EFC-4684439C5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2103D-321E-4C2A-BA82-6C266FAB1A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10974-FD23-4124-924A-4CE77F72EB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4E1E5-5A43-4071-9594-7FBC2DAB6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82BFD-9E06-479D-96CB-49F13238B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400F3-B3D5-4962-873C-3B3261BC5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67D7E-E02A-41AE-B422-9FB56ED39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AC99B-6408-4CB9-8ED1-96D07E01C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7696F-B866-462D-84D4-38647AAB1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89FCE-2F19-4AD8-8E07-99EFCD033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geocities.com/adotsaha/NNinExcel.html" TargetMode="External"/><Relationship Id="rId3" Type="http://schemas.openxmlformats.org/officeDocument/2006/relationships/hyperlink" Target="http://www.geocities.com/adotsaha/NNinExcel.html" TargetMode="External"/><Relationship Id="rId4" Type="http://schemas.openxmlformats.org/officeDocument/2006/relationships/hyperlink" Target="http://www.geocities.com/adotsaha/NNinExcel.html" TargetMode="External"/><Relationship Id="rId5" Type="http://schemas.openxmlformats.org/officeDocument/2006/relationships/hyperlink" Target="http://www.geocities.com/adotsaha/NNinExcel.html" TargetMode="External"/><Relationship Id="rId6" Type="http://schemas.openxmlformats.org/officeDocument/2006/relationships/hyperlink" Target="http://www.geocities.com/adotsaha/NNinExcel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thor: Angshuman Sah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geocities.com/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adotsaha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/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NNinExcel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.ht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hysiol.ucl.ac.uk/fedwards/ca1%20neuro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eart.cbl.utoronto.ca/~berj/neuron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266760"/>
            <a:ext cx="8610480" cy="624852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5335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Introduction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Artificial Neural Network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a1%20neuron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3124080"/>
            <a:ext cx="3809880" cy="288612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1828800" y="2743200"/>
            <a:ext cx="3200400" cy="2362320"/>
            <a:chOff x="1828800" y="2743200"/>
            <a:chExt cx="3200400" cy="2362320"/>
          </a:xfrm>
        </p:grpSpPr>
        <p:sp>
          <p:nvSpPr>
            <p:cNvPr id="46" name=""/>
            <p:cNvSpPr/>
            <p:nvPr/>
          </p:nvSpPr>
          <p:spPr>
            <a:xfrm rot="5400000">
              <a:off x="2247480" y="2323800"/>
              <a:ext cx="2362320" cy="32004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5400000">
              <a:off x="4038840" y="335304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5400000">
              <a:off x="4038480" y="388620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5400000">
              <a:off x="4038480" y="441972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5400000">
              <a:off x="3276720" y="358128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" name=""/>
            <p:cNvCxnSpPr>
              <a:stCxn id="47" idx="4"/>
              <a:endCxn id="50" idx="0"/>
            </p:cNvCxnSpPr>
            <p:nvPr/>
          </p:nvCxnSpPr>
          <p:spPr>
            <a:xfrm flipH="1">
              <a:off x="3581640" y="3505320"/>
              <a:ext cx="4575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" name=""/>
            <p:cNvCxnSpPr>
              <a:stCxn id="48" idx="4"/>
              <a:endCxn id="50" idx="0"/>
            </p:cNvCxnSpPr>
            <p:nvPr/>
          </p:nvCxnSpPr>
          <p:spPr>
            <a:xfrm flipH="1" flipV="1">
              <a:off x="3581640" y="3734280"/>
              <a:ext cx="457560" cy="30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" name=""/>
            <p:cNvCxnSpPr>
              <a:stCxn id="49" idx="4"/>
              <a:endCxn id="50" idx="0"/>
            </p:cNvCxnSpPr>
            <p:nvPr/>
          </p:nvCxnSpPr>
          <p:spPr>
            <a:xfrm flipH="1" flipV="1">
              <a:off x="3581640" y="3734280"/>
              <a:ext cx="457560" cy="838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4" name=""/>
            <p:cNvSpPr/>
            <p:nvPr/>
          </p:nvSpPr>
          <p:spPr>
            <a:xfrm flipH="1">
              <a:off x="4343400" y="3505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343400" y="40388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343400" y="4572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1905120" y="40388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5400000">
              <a:off x="3276720" y="4114800"/>
              <a:ext cx="30492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5400000">
              <a:off x="2667240" y="358164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0" idx="4"/>
              <a:endCxn id="59" idx="0"/>
            </p:cNvCxnSpPr>
            <p:nvPr/>
          </p:nvCxnSpPr>
          <p:spPr>
            <a:xfrm flipH="1" flipV="1">
              <a:off x="2971800" y="3733920"/>
              <a:ext cx="305280" cy="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"/>
            <p:cNvCxnSpPr>
              <a:stCxn id="58" idx="4"/>
              <a:endCxn id="59" idx="0"/>
            </p:cNvCxnSpPr>
            <p:nvPr/>
          </p:nvCxnSpPr>
          <p:spPr>
            <a:xfrm flipH="1" flipV="1">
              <a:off x="2971800" y="3733920"/>
              <a:ext cx="305640" cy="53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2" name=""/>
            <p:cNvCxnSpPr>
              <a:stCxn id="49" idx="4"/>
              <a:endCxn id="58" idx="0"/>
            </p:cNvCxnSpPr>
            <p:nvPr/>
          </p:nvCxnSpPr>
          <p:spPr>
            <a:xfrm flipH="1" flipV="1">
              <a:off x="3581640" y="4267440"/>
              <a:ext cx="457560" cy="30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" name=""/>
            <p:cNvCxnSpPr>
              <a:stCxn id="48" idx="4"/>
              <a:endCxn id="58" idx="0"/>
            </p:cNvCxnSpPr>
            <p:nvPr/>
          </p:nvCxnSpPr>
          <p:spPr>
            <a:xfrm flipH="1">
              <a:off x="3581640" y="4038480"/>
              <a:ext cx="4575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4" name=""/>
            <p:cNvSpPr/>
            <p:nvPr/>
          </p:nvSpPr>
          <p:spPr>
            <a:xfrm rot="5400000">
              <a:off x="2666880" y="411480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"/>
            <p:cNvCxnSpPr>
              <a:stCxn id="58" idx="4"/>
              <a:endCxn id="64" idx="0"/>
            </p:cNvCxnSpPr>
            <p:nvPr/>
          </p:nvCxnSpPr>
          <p:spPr>
            <a:xfrm flipH="1" flipV="1">
              <a:off x="2971800" y="4267080"/>
              <a:ext cx="305640" cy="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" name=""/>
            <p:cNvCxnSpPr>
              <a:stCxn id="50" idx="4"/>
              <a:endCxn id="64" idx="0"/>
            </p:cNvCxnSpPr>
            <p:nvPr/>
          </p:nvCxnSpPr>
          <p:spPr>
            <a:xfrm flipH="1">
              <a:off x="2971800" y="3734280"/>
              <a:ext cx="305280" cy="53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7" name=""/>
            <p:cNvSpPr/>
            <p:nvPr/>
          </p:nvSpPr>
          <p:spPr>
            <a:xfrm rot="5400000">
              <a:off x="2209680" y="388620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" name=""/>
            <p:cNvCxnSpPr>
              <a:stCxn id="59" idx="4"/>
              <a:endCxn id="67" idx="0"/>
            </p:cNvCxnSpPr>
            <p:nvPr/>
          </p:nvCxnSpPr>
          <p:spPr>
            <a:xfrm flipH="1">
              <a:off x="2514600" y="3733920"/>
              <a:ext cx="153000" cy="30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"/>
            <p:cNvCxnSpPr>
              <a:stCxn id="64" idx="4"/>
              <a:endCxn id="67" idx="0"/>
            </p:cNvCxnSpPr>
            <p:nvPr/>
          </p:nvCxnSpPr>
          <p:spPr>
            <a:xfrm flipH="1" flipV="1">
              <a:off x="2514600" y="4038480"/>
              <a:ext cx="153000" cy="228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70" name=""/>
          <p:cNvSpPr/>
          <p:nvPr/>
        </p:nvSpPr>
        <p:spPr>
          <a:xfrm>
            <a:off x="3658680" y="2028960"/>
            <a:ext cx="23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ngshuman Sa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86200" y="588600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Source:  ww.physiol.ucl.ac.uk/fedwards/ ca1%20neuron.jp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5011560" y="2453400"/>
            <a:ext cx="4147920" cy="3553560"/>
            <a:chOff x="5011560" y="2453400"/>
            <a:chExt cx="4147920" cy="3553560"/>
          </a:xfrm>
        </p:grpSpPr>
        <p:sp>
          <p:nvSpPr>
            <p:cNvPr id="371" name=""/>
            <p:cNvSpPr/>
            <p:nvPr/>
          </p:nvSpPr>
          <p:spPr>
            <a:xfrm rot="301200">
              <a:off x="5105160" y="4266720"/>
              <a:ext cx="4038480" cy="53352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04400">
              <a:off x="5028840" y="2514240"/>
              <a:ext cx="4038840" cy="121932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732360" y="5638680"/>
              <a:ext cx="1867680" cy="3682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ee parame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8305920" y="4724280"/>
              <a:ext cx="762120" cy="91440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8229600" y="3352680"/>
              <a:ext cx="685800" cy="228600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276720" y="1981080"/>
            <a:ext cx="5257800" cy="4710960"/>
            <a:chOff x="3276720" y="1981080"/>
            <a:chExt cx="5257800" cy="4710960"/>
          </a:xfrm>
        </p:grpSpPr>
        <p:sp>
          <p:nvSpPr>
            <p:cNvPr id="377" name=""/>
            <p:cNvSpPr/>
            <p:nvPr/>
          </p:nvSpPr>
          <p:spPr>
            <a:xfrm>
              <a:off x="4952880" y="1981080"/>
              <a:ext cx="3581640" cy="609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76720" y="5562720"/>
              <a:ext cx="2962080" cy="11293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cided by the structu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f the probl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 Input Nrns = # of X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 Output Nrns = # of Y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191120" y="3885840"/>
              <a:ext cx="685800" cy="16765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191120" y="2362320"/>
              <a:ext cx="914400" cy="3124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00600" y="3657600"/>
              <a:ext cx="3581280" cy="60948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92160" y="60480"/>
            <a:ext cx="44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One particular Model –  an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9000" y="885960"/>
            <a:ext cx="185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52320" y="88596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34120" y="83808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= f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09480" y="1523880"/>
            <a:ext cx="4165560" cy="4419720"/>
            <a:chOff x="609480" y="1523880"/>
            <a:chExt cx="4165560" cy="4419720"/>
          </a:xfrm>
        </p:grpSpPr>
        <p:sp>
          <p:nvSpPr>
            <p:cNvPr id="387" name=""/>
            <p:cNvSpPr/>
            <p:nvPr/>
          </p:nvSpPr>
          <p:spPr>
            <a:xfrm>
              <a:off x="2438280" y="4648320"/>
              <a:ext cx="60984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43000" y="3657600"/>
              <a:ext cx="62856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05320" y="3657600"/>
              <a:ext cx="62856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9480" y="2057400"/>
              <a:ext cx="62892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38280" y="2057400"/>
              <a:ext cx="62892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114800" y="2057400"/>
              <a:ext cx="62856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3" name=""/>
            <p:cNvCxnSpPr>
              <a:stCxn id="388" idx="4"/>
              <a:endCxn id="387" idx="0"/>
            </p:cNvCxnSpPr>
            <p:nvPr/>
          </p:nvCxnSpPr>
          <p:spPr>
            <a:xfrm>
              <a:off x="1457280" y="4266720"/>
              <a:ext cx="128664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4" name=""/>
            <p:cNvCxnSpPr>
              <a:stCxn id="389" idx="4"/>
              <a:endCxn id="387" idx="0"/>
            </p:cNvCxnSpPr>
            <p:nvPr/>
          </p:nvCxnSpPr>
          <p:spPr>
            <a:xfrm flipH="1">
              <a:off x="2742840" y="4266720"/>
              <a:ext cx="107712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5" name=""/>
            <p:cNvCxnSpPr>
              <a:stCxn id="390" idx="4"/>
              <a:endCxn id="388" idx="0"/>
            </p:cNvCxnSpPr>
            <p:nvPr/>
          </p:nvCxnSpPr>
          <p:spPr>
            <a:xfrm>
              <a:off x="923760" y="2666880"/>
              <a:ext cx="534240" cy="99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6" name=""/>
            <p:cNvCxnSpPr>
              <a:stCxn id="390" idx="4"/>
              <a:endCxn id="389" idx="0"/>
            </p:cNvCxnSpPr>
            <p:nvPr/>
          </p:nvCxnSpPr>
          <p:spPr>
            <a:xfrm>
              <a:off x="923760" y="2666880"/>
              <a:ext cx="2896560" cy="99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7" name=""/>
            <p:cNvCxnSpPr>
              <a:stCxn id="391" idx="4"/>
              <a:endCxn id="388" idx="0"/>
            </p:cNvCxnSpPr>
            <p:nvPr/>
          </p:nvCxnSpPr>
          <p:spPr>
            <a:xfrm flipH="1">
              <a:off x="1456920" y="2666880"/>
              <a:ext cx="1296000" cy="99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8" name=""/>
            <p:cNvCxnSpPr>
              <a:stCxn id="392" idx="4"/>
              <a:endCxn id="388" idx="0"/>
            </p:cNvCxnSpPr>
            <p:nvPr/>
          </p:nvCxnSpPr>
          <p:spPr>
            <a:xfrm flipH="1">
              <a:off x="1456560" y="2666880"/>
              <a:ext cx="2972520" cy="99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99" name=""/>
            <p:cNvCxnSpPr>
              <a:stCxn id="391" idx="4"/>
              <a:endCxn id="389" idx="0"/>
            </p:cNvCxnSpPr>
            <p:nvPr/>
          </p:nvCxnSpPr>
          <p:spPr>
            <a:xfrm>
              <a:off x="2752560" y="2666880"/>
              <a:ext cx="1067760" cy="99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00" name=""/>
            <p:cNvCxnSpPr>
              <a:stCxn id="392" idx="4"/>
              <a:endCxn id="389" idx="0"/>
            </p:cNvCxnSpPr>
            <p:nvPr/>
          </p:nvCxnSpPr>
          <p:spPr>
            <a:xfrm flipH="1">
              <a:off x="3818880" y="2666880"/>
              <a:ext cx="610200" cy="99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01" name=""/>
            <p:cNvSpPr/>
            <p:nvPr/>
          </p:nvSpPr>
          <p:spPr>
            <a:xfrm>
              <a:off x="609480" y="1676520"/>
              <a:ext cx="66060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1523880"/>
              <a:ext cx="66060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14800" y="1523880"/>
              <a:ext cx="660240" cy="609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14600" y="533412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0600" y="289548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96720" y="255276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0.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82160" y="2629080"/>
              <a:ext cx="5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-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896920" y="266688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58680" y="2514600"/>
              <a:ext cx="5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-0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68520" y="281952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0.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906200" y="411480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72880" y="4114800"/>
              <a:ext cx="5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-0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5112720" y="1600200"/>
            <a:ext cx="307476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ameters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Input Neur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idden Lay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Hidden Layer 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utput Neur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pecifie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73080" y="6048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Prediction using a particular AN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49000" y="762120"/>
            <a:ext cx="185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52320" y="76212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4120" y="76212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= f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57400" y="5562720"/>
            <a:ext cx="1905120" cy="99036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2057400"/>
            <a:ext cx="6289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8280" y="2057400"/>
            <a:ext cx="62892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14800" y="2057400"/>
            <a:ext cx="62856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2" name=""/>
          <p:cNvCxnSpPr>
            <a:stCxn id="423" idx="4"/>
            <a:endCxn id="418" idx="0"/>
          </p:cNvCxnSpPr>
          <p:nvPr/>
        </p:nvCxnSpPr>
        <p:spPr>
          <a:xfrm>
            <a:off x="1523880" y="4723920"/>
            <a:ext cx="148680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4" name=""/>
          <p:cNvCxnSpPr>
            <a:stCxn id="425" idx="4"/>
            <a:endCxn id="418" idx="0"/>
          </p:cNvCxnSpPr>
          <p:nvPr/>
        </p:nvCxnSpPr>
        <p:spPr>
          <a:xfrm flipH="1">
            <a:off x="3009600" y="4648320"/>
            <a:ext cx="9914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6" name=""/>
          <p:cNvCxnSpPr>
            <a:endCxn id="423" idx="0"/>
          </p:cNvCxnSpPr>
          <p:nvPr/>
        </p:nvCxnSpPr>
        <p:spPr>
          <a:xfrm>
            <a:off x="800280" y="2590560"/>
            <a:ext cx="7243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7" name=""/>
          <p:cNvCxnSpPr>
            <a:stCxn id="419" idx="4"/>
            <a:endCxn id="425" idx="0"/>
          </p:cNvCxnSpPr>
          <p:nvPr/>
        </p:nvCxnSpPr>
        <p:spPr>
          <a:xfrm>
            <a:off x="923400" y="2666880"/>
            <a:ext cx="30776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420" idx="4"/>
            <a:endCxn id="423" idx="0"/>
          </p:cNvCxnSpPr>
          <p:nvPr/>
        </p:nvCxnSpPr>
        <p:spPr>
          <a:xfrm flipH="1">
            <a:off x="1523160" y="2666880"/>
            <a:ext cx="122940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21" idx="4"/>
            <a:endCxn id="423" idx="0"/>
          </p:cNvCxnSpPr>
          <p:nvPr/>
        </p:nvCxnSpPr>
        <p:spPr>
          <a:xfrm flipH="1">
            <a:off x="1523880" y="2666880"/>
            <a:ext cx="290556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0" name=""/>
          <p:cNvCxnSpPr>
            <a:stCxn id="420" idx="4"/>
            <a:endCxn id="425" idx="0"/>
          </p:cNvCxnSpPr>
          <p:nvPr/>
        </p:nvCxnSpPr>
        <p:spPr>
          <a:xfrm>
            <a:off x="2752200" y="2666880"/>
            <a:ext cx="12488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21" idx="4"/>
            <a:endCxn id="425" idx="0"/>
          </p:cNvCxnSpPr>
          <p:nvPr/>
        </p:nvCxnSpPr>
        <p:spPr>
          <a:xfrm flipH="1">
            <a:off x="4000320" y="2666880"/>
            <a:ext cx="4291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2" name=""/>
          <p:cNvSpPr/>
          <p:nvPr/>
        </p:nvSpPr>
        <p:spPr>
          <a:xfrm>
            <a:off x="750600" y="28954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6720" y="25527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82160" y="262908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-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96920" y="26668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658680" y="251460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-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268520" y="281952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29880" y="47242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049200" y="472428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-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540360" y="1447920"/>
            <a:ext cx="4388400" cy="990360"/>
            <a:chOff x="540360" y="1447920"/>
            <a:chExt cx="4388400" cy="990360"/>
          </a:xfrm>
        </p:grpSpPr>
        <p:sp>
          <p:nvSpPr>
            <p:cNvPr id="441" name=""/>
            <p:cNvSpPr/>
            <p:nvPr/>
          </p:nvSpPr>
          <p:spPr>
            <a:xfrm>
              <a:off x="540360" y="1447920"/>
              <a:ext cx="730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69160" y="1447920"/>
              <a:ext cx="74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97960" y="1447920"/>
              <a:ext cx="730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14400" y="1828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43200" y="1828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95680" y="1828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762120" y="3581280"/>
            <a:ext cx="1523880" cy="114300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838080" y="3657600"/>
            <a:ext cx="1400040" cy="977760"/>
            <a:chOff x="838080" y="3657600"/>
            <a:chExt cx="1400040" cy="977760"/>
          </a:xfrm>
        </p:grpSpPr>
        <p:sp>
          <p:nvSpPr>
            <p:cNvPr id="448" name=""/>
            <p:cNvSpPr/>
            <p:nvPr/>
          </p:nvSpPr>
          <p:spPr>
            <a:xfrm>
              <a:off x="1296720" y="365760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8080" y="396252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 (0.2) = 0.5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96720" y="42670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.5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38080" y="39625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38080" y="43434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3200400" y="3581280"/>
            <a:ext cx="1600200" cy="106704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3276720" y="3657600"/>
            <a:ext cx="1447560" cy="977760"/>
            <a:chOff x="3276720" y="3657600"/>
            <a:chExt cx="1447560" cy="977760"/>
          </a:xfrm>
        </p:grpSpPr>
        <p:sp>
          <p:nvSpPr>
            <p:cNvPr id="454" name=""/>
            <p:cNvSpPr/>
            <p:nvPr/>
          </p:nvSpPr>
          <p:spPr>
            <a:xfrm>
              <a:off x="3735000" y="365760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.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14160" y="394344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 (0.9) = 0.7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735000" y="4267080"/>
              <a:ext cx="5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.7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76720" y="43434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76720" y="392436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056680" y="5562720"/>
            <a:ext cx="1819080" cy="958680"/>
            <a:chOff x="2056680" y="5562720"/>
            <a:chExt cx="1819080" cy="958680"/>
          </a:xfrm>
        </p:grpSpPr>
        <p:sp>
          <p:nvSpPr>
            <p:cNvPr id="460" name=""/>
            <p:cNvSpPr/>
            <p:nvPr/>
          </p:nvSpPr>
          <p:spPr>
            <a:xfrm>
              <a:off x="2630160" y="5562720"/>
              <a:ext cx="7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-0.08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56680" y="5867280"/>
              <a:ext cx="18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 (-0.087) = 0.47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30160" y="615312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0.47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71880" y="5848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71880" y="62103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752120" y="1447920"/>
            <a:ext cx="6962400" cy="2361960"/>
            <a:chOff x="1752120" y="1447920"/>
            <a:chExt cx="6962400" cy="2361960"/>
          </a:xfrm>
        </p:grpSpPr>
        <p:sp>
          <p:nvSpPr>
            <p:cNvPr id="466" name=""/>
            <p:cNvSpPr/>
            <p:nvPr/>
          </p:nvSpPr>
          <p:spPr>
            <a:xfrm>
              <a:off x="5493240" y="1447920"/>
              <a:ext cx="3221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2 = 0.5 * 1 –0.1*(-1) –0.2 *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1752120" y="1828800"/>
              <a:ext cx="4953240" cy="19810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352320" y="3733920"/>
            <a:ext cx="5410800" cy="2590560"/>
            <a:chOff x="3352320" y="3733920"/>
            <a:chExt cx="5410800" cy="2590560"/>
          </a:xfrm>
        </p:grpSpPr>
        <p:sp>
          <p:nvSpPr>
            <p:cNvPr id="469" name=""/>
            <p:cNvSpPr/>
            <p:nvPr/>
          </p:nvSpPr>
          <p:spPr>
            <a:xfrm>
              <a:off x="5410080" y="3733920"/>
              <a:ext cx="3353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dicted Y = 0.47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3352320" y="4114800"/>
              <a:ext cx="3505320" cy="22096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4800600" y="5334120"/>
            <a:ext cx="4038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Actual Y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ion Error = (2-0.478) =1.5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905120" y="2514600"/>
            <a:ext cx="6781680" cy="1981080"/>
            <a:chOff x="1905120" y="2514600"/>
            <a:chExt cx="6781680" cy="1981080"/>
          </a:xfrm>
        </p:grpSpPr>
        <p:sp>
          <p:nvSpPr>
            <p:cNvPr id="473" name=""/>
            <p:cNvSpPr/>
            <p:nvPr/>
          </p:nvSpPr>
          <p:spPr>
            <a:xfrm>
              <a:off x="5334120" y="2514600"/>
              <a:ext cx="335268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(x) = e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/ (1 + e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(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= e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0.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/ (1 + e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0.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0.5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1905120" y="3200400"/>
              <a:ext cx="4495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532440" y="53028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build the Model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143000" y="1066680"/>
            <a:ext cx="685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= f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14760" y="1523880"/>
            <a:ext cx="74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Input Neur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# Inputs =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utput Neurons = # Outputs =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10560" y="2082960"/>
            <a:ext cx="7619040" cy="642600"/>
            <a:chOff x="610560" y="2082960"/>
            <a:chExt cx="7619040" cy="642600"/>
          </a:xfrm>
        </p:grpSpPr>
        <p:sp>
          <p:nvSpPr>
            <p:cNvPr id="479" name=""/>
            <p:cNvSpPr/>
            <p:nvPr/>
          </p:nvSpPr>
          <p:spPr>
            <a:xfrm>
              <a:off x="610560" y="2082960"/>
              <a:ext cx="448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 Hidden Layer = ???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33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y  </a:t>
              </a:r>
              <a:r>
                <a:rPr b="1" lang="en-US" sz="1800" spc="-1" strike="noStrike">
                  <a:solidFill>
                    <a:srgbClr val="ff33cc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 Neurons in Hidden Layer = ???</a:t>
              </a:r>
              <a:r>
                <a:rPr b="1" lang="en-US" sz="1800" spc="-1" strike="noStrike">
                  <a:solidFill>
                    <a:srgbClr val="ff33cc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33cc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33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y  </a:t>
              </a:r>
              <a:r>
                <a:rPr b="1" lang="en-US" sz="1800" spc="-1" strike="noStrike">
                  <a:solidFill>
                    <a:srgbClr val="ff33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67280" y="208296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 fixed strategy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y trial and err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362320" y="28954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 is now defined …    How to get the weights 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747520" y="3352680"/>
            <a:ext cx="5572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e Architecture There are 8 weights to dec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W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= (W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, W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, …, W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86000" y="4038480"/>
            <a:ext cx="6553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Data: (Yi , X1i, X2i, …, Xpi )   i= 1,2,…,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particular choice of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e will get predicted Y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…,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i="1" lang="en-US" sz="1800" spc="-1" strike="noStrike">
                <a:solidFill>
                  <a:srgbClr val="ff33cc"/>
                </a:solidFill>
                <a:latin typeface="Arial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over all prediction err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minim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09880" y="5715000"/>
            <a:ext cx="2743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 (Yi – Vi) </a:t>
            </a:r>
            <a:r>
              <a:rPr b="1" lang="en-US" sz="2400" spc="-1" strike="noStrike" baseline="30000">
                <a:solidFill>
                  <a:srgbClr val="ff33cc"/>
                </a:solidFill>
                <a:latin typeface="Arial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57200" y="2971800"/>
            <a:ext cx="1752480" cy="2514600"/>
            <a:chOff x="457200" y="2971800"/>
            <a:chExt cx="1752480" cy="2514600"/>
          </a:xfrm>
        </p:grpSpPr>
        <p:sp>
          <p:nvSpPr>
            <p:cNvPr id="486" name=""/>
            <p:cNvSpPr/>
            <p:nvPr/>
          </p:nvSpPr>
          <p:spPr>
            <a:xfrm>
              <a:off x="457200" y="2971800"/>
              <a:ext cx="1752480" cy="25146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5800" y="3429000"/>
              <a:ext cx="30492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19320" y="342900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52480" y="3429000"/>
              <a:ext cx="30492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14400" y="419112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"/>
            <p:cNvCxnSpPr>
              <a:stCxn id="487" idx="4"/>
              <a:endCxn id="490" idx="0"/>
            </p:cNvCxnSpPr>
            <p:nvPr/>
          </p:nvCxnSpPr>
          <p:spPr>
            <a:xfrm>
              <a:off x="837720" y="3733920"/>
              <a:ext cx="22932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2" name=""/>
            <p:cNvCxnSpPr>
              <a:stCxn id="488" idx="4"/>
              <a:endCxn id="490" idx="0"/>
            </p:cNvCxnSpPr>
            <p:nvPr/>
          </p:nvCxnSpPr>
          <p:spPr>
            <a:xfrm flipH="1">
              <a:off x="1065960" y="3733920"/>
              <a:ext cx="3056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3" name=""/>
            <p:cNvCxnSpPr>
              <a:stCxn id="489" idx="4"/>
              <a:endCxn id="490" idx="0"/>
            </p:cNvCxnSpPr>
            <p:nvPr/>
          </p:nvCxnSpPr>
          <p:spPr>
            <a:xfrm flipH="1">
              <a:off x="1065960" y="3733920"/>
              <a:ext cx="83916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4" name=""/>
            <p:cNvSpPr/>
            <p:nvPr/>
          </p:nvSpPr>
          <p:spPr>
            <a:xfrm>
              <a:off x="8380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7160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90512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71600" y="5029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47920" y="419112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19320" y="472428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0" idx="4"/>
              <a:endCxn id="499" idx="0"/>
            </p:cNvCxnSpPr>
            <p:nvPr/>
          </p:nvCxnSpPr>
          <p:spPr>
            <a:xfrm>
              <a:off x="1066320" y="4495320"/>
              <a:ext cx="30564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1" name=""/>
            <p:cNvCxnSpPr>
              <a:stCxn id="498" idx="4"/>
              <a:endCxn id="499" idx="0"/>
            </p:cNvCxnSpPr>
            <p:nvPr/>
          </p:nvCxnSpPr>
          <p:spPr>
            <a:xfrm flipH="1">
              <a:off x="1370880" y="4495320"/>
              <a:ext cx="2293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2" name=""/>
            <p:cNvCxnSpPr>
              <a:stCxn id="489" idx="4"/>
              <a:endCxn id="498" idx="0"/>
            </p:cNvCxnSpPr>
            <p:nvPr/>
          </p:nvCxnSpPr>
          <p:spPr>
            <a:xfrm flipH="1">
              <a:off x="1599480" y="3733920"/>
              <a:ext cx="3056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3" name=""/>
            <p:cNvCxnSpPr>
              <a:stCxn id="488" idx="4"/>
              <a:endCxn id="498" idx="0"/>
            </p:cNvCxnSpPr>
            <p:nvPr/>
          </p:nvCxnSpPr>
          <p:spPr>
            <a:xfrm>
              <a:off x="1371240" y="3733920"/>
              <a:ext cx="22932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4" name=""/>
            <p:cNvCxnSpPr>
              <a:stCxn id="487" idx="4"/>
              <a:endCxn id="498" idx="0"/>
            </p:cNvCxnSpPr>
            <p:nvPr/>
          </p:nvCxnSpPr>
          <p:spPr>
            <a:xfrm>
              <a:off x="837720" y="3733920"/>
              <a:ext cx="7628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505" name=""/>
          <p:cNvSpPr/>
          <p:nvPr/>
        </p:nvSpPr>
        <p:spPr>
          <a:xfrm>
            <a:off x="76320" y="60480"/>
            <a:ext cx="262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Building AN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531720" y="53028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train the Model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880" y="4343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 (Yi – Vi) </a:t>
            </a:r>
            <a:r>
              <a:rPr b="1" lang="en-US" sz="2400" spc="-1" strike="noStrike" baseline="30000">
                <a:solidFill>
                  <a:srgbClr val="ff33cc"/>
                </a:solidFill>
                <a:latin typeface="Arial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762120" y="1523880"/>
            <a:ext cx="1752480" cy="2514600"/>
            <a:chOff x="762120" y="1523880"/>
            <a:chExt cx="1752480" cy="2514600"/>
          </a:xfrm>
        </p:grpSpPr>
        <p:sp>
          <p:nvSpPr>
            <p:cNvPr id="509" name=""/>
            <p:cNvSpPr/>
            <p:nvPr/>
          </p:nvSpPr>
          <p:spPr>
            <a:xfrm>
              <a:off x="762120" y="1523880"/>
              <a:ext cx="1752480" cy="25146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90720" y="1981080"/>
              <a:ext cx="30492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24240" y="198108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57400" y="1981080"/>
              <a:ext cx="30492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219320" y="274320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0" idx="4"/>
              <a:endCxn id="513" idx="0"/>
            </p:cNvCxnSpPr>
            <p:nvPr/>
          </p:nvCxnSpPr>
          <p:spPr>
            <a:xfrm>
              <a:off x="1142640" y="2286000"/>
              <a:ext cx="22932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5" name=""/>
            <p:cNvCxnSpPr>
              <a:stCxn id="511" idx="4"/>
              <a:endCxn id="513" idx="0"/>
            </p:cNvCxnSpPr>
            <p:nvPr/>
          </p:nvCxnSpPr>
          <p:spPr>
            <a:xfrm flipH="1">
              <a:off x="1370880" y="2286000"/>
              <a:ext cx="3056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6" name=""/>
            <p:cNvCxnSpPr>
              <a:stCxn id="512" idx="4"/>
              <a:endCxn id="513" idx="0"/>
            </p:cNvCxnSpPr>
            <p:nvPr/>
          </p:nvCxnSpPr>
          <p:spPr>
            <a:xfrm flipH="1">
              <a:off x="1370880" y="2286000"/>
              <a:ext cx="83916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17" name=""/>
            <p:cNvSpPr/>
            <p:nvPr/>
          </p:nvSpPr>
          <p:spPr>
            <a:xfrm>
              <a:off x="1143000" y="1523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6520" y="1523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10040" y="1523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76520" y="3581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52840" y="274320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524240" y="327636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3" name=""/>
            <p:cNvCxnSpPr>
              <a:stCxn id="513" idx="4"/>
              <a:endCxn id="522" idx="0"/>
            </p:cNvCxnSpPr>
            <p:nvPr/>
          </p:nvCxnSpPr>
          <p:spPr>
            <a:xfrm>
              <a:off x="1371240" y="3047400"/>
              <a:ext cx="30564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4" name=""/>
            <p:cNvCxnSpPr>
              <a:stCxn id="521" idx="4"/>
              <a:endCxn id="522" idx="0"/>
            </p:cNvCxnSpPr>
            <p:nvPr/>
          </p:nvCxnSpPr>
          <p:spPr>
            <a:xfrm flipH="1">
              <a:off x="1675800" y="3047400"/>
              <a:ext cx="2293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5" name=""/>
            <p:cNvCxnSpPr>
              <a:stCxn id="512" idx="4"/>
              <a:endCxn id="521" idx="0"/>
            </p:cNvCxnSpPr>
            <p:nvPr/>
          </p:nvCxnSpPr>
          <p:spPr>
            <a:xfrm flipH="1">
              <a:off x="1904400" y="2286000"/>
              <a:ext cx="3056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6" name=""/>
            <p:cNvCxnSpPr>
              <a:stCxn id="511" idx="4"/>
              <a:endCxn id="521" idx="0"/>
            </p:cNvCxnSpPr>
            <p:nvPr/>
          </p:nvCxnSpPr>
          <p:spPr>
            <a:xfrm>
              <a:off x="1676160" y="2286000"/>
              <a:ext cx="22932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7" name=""/>
            <p:cNvCxnSpPr>
              <a:stCxn id="510" idx="4"/>
              <a:endCxn id="521" idx="0"/>
            </p:cNvCxnSpPr>
            <p:nvPr/>
          </p:nvCxnSpPr>
          <p:spPr>
            <a:xfrm>
              <a:off x="1142640" y="2286000"/>
              <a:ext cx="7628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28" name=""/>
          <p:cNvGrpSpPr/>
          <p:nvPr/>
        </p:nvGrpSpPr>
        <p:grpSpPr>
          <a:xfrm>
            <a:off x="3443760" y="1066680"/>
            <a:ext cx="5346720" cy="4794840"/>
            <a:chOff x="3443760" y="1066680"/>
            <a:chExt cx="5346720" cy="4794840"/>
          </a:xfrm>
        </p:grpSpPr>
        <p:sp>
          <p:nvSpPr>
            <p:cNvPr id="529" name=""/>
            <p:cNvSpPr/>
            <p:nvPr/>
          </p:nvSpPr>
          <p:spPr>
            <a:xfrm>
              <a:off x="3443760" y="1066680"/>
              <a:ext cx="5346720" cy="47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 with a random set of weights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ed forward the first observation through the ne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Networ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;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= (Y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– 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just the weights so that this error is reduced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( network fits the first observation well 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ed forward the second observation.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Adjust weights to fit the second observation wel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ep repeating till you reach the last observatio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finishes one CYCLE through the data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form many such training cycles till the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overall prediction error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small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14800" y="2057400"/>
              <a:ext cx="38088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562720" y="2057400"/>
              <a:ext cx="38088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71360" y="1619280"/>
            <a:ext cx="368280" cy="2286000"/>
            <a:chOff x="171360" y="1619280"/>
            <a:chExt cx="368280" cy="2286000"/>
          </a:xfrm>
        </p:grpSpPr>
        <p:sp>
          <p:nvSpPr>
            <p:cNvPr id="533" name=""/>
            <p:cNvSpPr/>
            <p:nvPr/>
          </p:nvSpPr>
          <p:spPr>
            <a:xfrm>
              <a:off x="531720" y="1619280"/>
              <a:ext cx="0" cy="228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6200000">
              <a:off x="-484560" y="2604600"/>
              <a:ext cx="168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eed  forw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2666880" y="1447920"/>
            <a:ext cx="381240" cy="2606040"/>
            <a:chOff x="2666880" y="1447920"/>
            <a:chExt cx="381240" cy="2606040"/>
          </a:xfrm>
        </p:grpSpPr>
        <p:sp>
          <p:nvSpPr>
            <p:cNvPr id="536" name=""/>
            <p:cNvSpPr/>
            <p:nvPr/>
          </p:nvSpPr>
          <p:spPr>
            <a:xfrm flipV="1">
              <a:off x="3048120" y="1447920"/>
              <a:ext cx="0" cy="2590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6200000">
              <a:off x="1788840" y="2807640"/>
              <a:ext cx="21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ck Propag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75960" y="60480"/>
            <a:ext cx="24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Training th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531000" y="530280"/>
            <a:ext cx="42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 more detail on Back 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5029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 (Yi – Vi) </a:t>
            </a:r>
            <a:r>
              <a:rPr b="1" lang="en-US" sz="2400" spc="-1" strike="noStrike" baseline="30000">
                <a:solidFill>
                  <a:srgbClr val="ff33cc"/>
                </a:solidFill>
                <a:latin typeface="Arial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657600" y="1600200"/>
            <a:ext cx="4952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weight ‘Shares the Blame’ for prediction error with other weight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Propagation algorithm decides how to distribute the blame among all weights and adjust the weights according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portion of blame leads to small adjustm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portion of the blame leads to large adjust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143000" y="2133720"/>
            <a:ext cx="1752480" cy="2514600"/>
            <a:chOff x="1143000" y="2133720"/>
            <a:chExt cx="1752480" cy="2514600"/>
          </a:xfrm>
        </p:grpSpPr>
        <p:sp>
          <p:nvSpPr>
            <p:cNvPr id="543" name=""/>
            <p:cNvSpPr/>
            <p:nvPr/>
          </p:nvSpPr>
          <p:spPr>
            <a:xfrm>
              <a:off x="1143000" y="2133720"/>
              <a:ext cx="1752480" cy="25146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71600" y="2590920"/>
              <a:ext cx="30492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05120" y="259092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438280" y="2590920"/>
              <a:ext cx="30492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600200" y="335304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8" name=""/>
            <p:cNvCxnSpPr>
              <a:stCxn id="544" idx="4"/>
              <a:endCxn id="547" idx="0"/>
            </p:cNvCxnSpPr>
            <p:nvPr/>
          </p:nvCxnSpPr>
          <p:spPr>
            <a:xfrm>
              <a:off x="1523520" y="2895840"/>
              <a:ext cx="22932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9" name=""/>
            <p:cNvCxnSpPr>
              <a:stCxn id="545" idx="4"/>
              <a:endCxn id="547" idx="0"/>
            </p:cNvCxnSpPr>
            <p:nvPr/>
          </p:nvCxnSpPr>
          <p:spPr>
            <a:xfrm flipH="1">
              <a:off x="1751760" y="2895840"/>
              <a:ext cx="3056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0" name=""/>
            <p:cNvCxnSpPr>
              <a:stCxn id="546" idx="4"/>
              <a:endCxn id="547" idx="0"/>
            </p:cNvCxnSpPr>
            <p:nvPr/>
          </p:nvCxnSpPr>
          <p:spPr>
            <a:xfrm flipH="1">
              <a:off x="1751760" y="2895840"/>
              <a:ext cx="83916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51" name=""/>
            <p:cNvSpPr/>
            <p:nvPr/>
          </p:nvSpPr>
          <p:spPr>
            <a:xfrm>
              <a:off x="152388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05740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5909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5740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33720" y="335304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905120" y="388620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7" name=""/>
            <p:cNvCxnSpPr>
              <a:stCxn id="547" idx="4"/>
              <a:endCxn id="556" idx="0"/>
            </p:cNvCxnSpPr>
            <p:nvPr/>
          </p:nvCxnSpPr>
          <p:spPr>
            <a:xfrm>
              <a:off x="1752120" y="3657240"/>
              <a:ext cx="30564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8" name=""/>
            <p:cNvCxnSpPr>
              <a:stCxn id="555" idx="4"/>
              <a:endCxn id="556" idx="0"/>
            </p:cNvCxnSpPr>
            <p:nvPr/>
          </p:nvCxnSpPr>
          <p:spPr>
            <a:xfrm flipH="1">
              <a:off x="2056680" y="3657240"/>
              <a:ext cx="2293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9" name=""/>
            <p:cNvCxnSpPr>
              <a:stCxn id="546" idx="4"/>
              <a:endCxn id="555" idx="0"/>
            </p:cNvCxnSpPr>
            <p:nvPr/>
          </p:nvCxnSpPr>
          <p:spPr>
            <a:xfrm flipH="1">
              <a:off x="2285280" y="2895840"/>
              <a:ext cx="3056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0" name=""/>
            <p:cNvCxnSpPr>
              <a:stCxn id="545" idx="4"/>
              <a:endCxn id="555" idx="0"/>
            </p:cNvCxnSpPr>
            <p:nvPr/>
          </p:nvCxnSpPr>
          <p:spPr>
            <a:xfrm>
              <a:off x="2057040" y="2895840"/>
              <a:ext cx="22932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1" name=""/>
            <p:cNvCxnSpPr>
              <a:stCxn id="544" idx="4"/>
              <a:endCxn id="555" idx="0"/>
            </p:cNvCxnSpPr>
            <p:nvPr/>
          </p:nvCxnSpPr>
          <p:spPr>
            <a:xfrm>
              <a:off x="1523520" y="2895840"/>
              <a:ext cx="7628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562" name=""/>
          <p:cNvSpPr/>
          <p:nvPr/>
        </p:nvSpPr>
        <p:spPr>
          <a:xfrm>
            <a:off x="76320" y="6048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Back 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528120" y="530280"/>
            <a:ext cx="555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 adjustment formula in Back 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5800" y="2666880"/>
            <a:ext cx="7315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radient Descent Method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very individual weight 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pdation formula looks li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76520" y="3352680"/>
            <a:ext cx="47242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e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W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ol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* (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/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) |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Wol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962520" y="396252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Learning Parameter (between 0 and 1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5376960"/>
            <a:ext cx="71629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(t+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W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(t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* (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 /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) |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W(t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* (W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(t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W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(t-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876920" y="603396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Momentum (between 0 and 1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0" y="2057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E( </a:t>
            </a:r>
            <a:r>
              <a:rPr b="0" i="1" lang="en-US" sz="2400" spc="-1" strike="noStrike" u="sng">
                <a:solidFill>
                  <a:srgbClr val="ff33cc"/>
                </a:solidFill>
                <a:uFillTx/>
                <a:latin typeface="Arial"/>
                <a:ea typeface="Arial"/>
              </a:rPr>
              <a:t>W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 [ Yi – Vi( </a:t>
            </a:r>
            <a:r>
              <a:rPr b="0" i="1" lang="en-US" sz="2400" spc="-1" strike="noStrike" u="sng">
                <a:solidFill>
                  <a:srgbClr val="ff33cc"/>
                </a:solidFill>
                <a:uFillTx/>
                <a:latin typeface="Arial"/>
                <a:ea typeface="Arial"/>
              </a:rPr>
              <a:t>W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 ) ] </a:t>
            </a:r>
            <a:r>
              <a:rPr b="1" lang="en-US" sz="2400" spc="-1" strike="noStrike" baseline="30000">
                <a:solidFill>
                  <a:srgbClr val="ff33cc"/>
                </a:solidFill>
                <a:latin typeface="Arial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85800" y="1066680"/>
            <a:ext cx="7696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the prediction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 observation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a function of the network weights vect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 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…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ce, E,  the total prediction error is also a function of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14400" y="491976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slight variation is also used some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2360" y="60480"/>
            <a:ext cx="55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Weight adjustment during Back 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7320" y="60480"/>
            <a:ext cx="62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Geometric interpretation of the Weight adjus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43200" y="1523880"/>
            <a:ext cx="51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E(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w</a:t>
            </a:r>
            <a:r>
              <a:rPr b="0" lang="en-US" sz="2400" spc="-1" strike="noStrike" baseline="-25000">
                <a:solidFill>
                  <a:srgbClr val="ff33cc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, w</a:t>
            </a:r>
            <a:r>
              <a:rPr b="0" lang="en-US" sz="2400" spc="-1" strike="noStrike" baseline="-25000">
                <a:solidFill>
                  <a:srgbClr val="ff33cc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 [ Yi – Vi(w</a:t>
            </a:r>
            <a:r>
              <a:rPr b="0" lang="en-US" sz="2400" spc="-1" strike="noStrike" baseline="-25000">
                <a:solidFill>
                  <a:srgbClr val="ff33cc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, w</a:t>
            </a:r>
            <a:r>
              <a:rPr b="0" lang="en-US" sz="2400" spc="-1" strike="noStrike" baseline="-25000">
                <a:solidFill>
                  <a:srgbClr val="ff33cc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 ) ] </a:t>
            </a:r>
            <a:r>
              <a:rPr b="1" lang="en-US" sz="2400" spc="-1" strike="noStrike" baseline="30000">
                <a:solidFill>
                  <a:srgbClr val="ff33cc"/>
                </a:solidFill>
                <a:latin typeface="Arial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" y="68580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 very simple network with 2 inputs and 1 output. No hidden layer. There are only two weights whose values needs to be specif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304920" y="1752480"/>
            <a:ext cx="1752480" cy="2514600"/>
            <a:chOff x="304920" y="1752480"/>
            <a:chExt cx="1752480" cy="2514600"/>
          </a:xfrm>
        </p:grpSpPr>
        <p:sp>
          <p:nvSpPr>
            <p:cNvPr id="577" name=""/>
            <p:cNvSpPr/>
            <p:nvPr/>
          </p:nvSpPr>
          <p:spPr>
            <a:xfrm>
              <a:off x="304920" y="1752480"/>
              <a:ext cx="1752480" cy="25146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371600" y="2209680"/>
              <a:ext cx="45684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09480" y="1752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676160" y="1752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218960" y="3809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>
              <a:stCxn id="583" idx="4"/>
              <a:endCxn id="584" idx="0"/>
            </p:cNvCxnSpPr>
            <p:nvPr/>
          </p:nvCxnSpPr>
          <p:spPr>
            <a:xfrm>
              <a:off x="685800" y="2666520"/>
              <a:ext cx="53352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85" name=""/>
            <p:cNvCxnSpPr>
              <a:stCxn id="578" idx="4"/>
              <a:endCxn id="584" idx="0"/>
            </p:cNvCxnSpPr>
            <p:nvPr/>
          </p:nvCxnSpPr>
          <p:spPr>
            <a:xfrm flipH="1">
              <a:off x="1218600" y="2666520"/>
              <a:ext cx="38160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84" name=""/>
            <p:cNvSpPr/>
            <p:nvPr/>
          </p:nvSpPr>
          <p:spPr>
            <a:xfrm>
              <a:off x="990360" y="3352680"/>
              <a:ext cx="45684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57200" y="2209680"/>
              <a:ext cx="45684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799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3989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2286000" y="2133720"/>
            <a:ext cx="6553080" cy="25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ir (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is a point on 2-D pla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ny such point we can get a value of 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E vs (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- a 3-D surface -  ‘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Error Surf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 is to identify that pair for which E is min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means – identify the pair for which the height of the error surface is minim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33520" y="4876920"/>
            <a:ext cx="822960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Gradient Descent Algorith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with a random point ( 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to a ‘better’ point ( w’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’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where the height of error surface is lo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moving till you reach ( w*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*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, where the error is minimu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73800" y="6048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rawling the Error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905120" y="2362320"/>
            <a:ext cx="5943600" cy="1689120"/>
          </a:xfrm>
          <a:custGeom>
            <a:avLst/>
            <a:gdLst/>
            <a:ahLst/>
            <a:rect l="l" t="t" r="r" b="b"/>
            <a:pathLst>
              <a:path w="3744" h="1064">
                <a:moveTo>
                  <a:pt x="0" y="0"/>
                </a:moveTo>
                <a:cubicBezTo>
                  <a:pt x="68" y="44"/>
                  <a:pt x="136" y="88"/>
                  <a:pt x="192" y="192"/>
                </a:cubicBezTo>
                <a:cubicBezTo>
                  <a:pt x="248" y="296"/>
                  <a:pt x="304" y="624"/>
                  <a:pt x="336" y="624"/>
                </a:cubicBezTo>
                <a:cubicBezTo>
                  <a:pt x="368" y="624"/>
                  <a:pt x="344" y="232"/>
                  <a:pt x="384" y="192"/>
                </a:cubicBezTo>
                <a:cubicBezTo>
                  <a:pt x="424" y="152"/>
                  <a:pt x="520" y="328"/>
                  <a:pt x="576" y="384"/>
                </a:cubicBezTo>
                <a:cubicBezTo>
                  <a:pt x="632" y="440"/>
                  <a:pt x="656" y="472"/>
                  <a:pt x="720" y="528"/>
                </a:cubicBezTo>
                <a:cubicBezTo>
                  <a:pt x="784" y="584"/>
                  <a:pt x="888" y="680"/>
                  <a:pt x="960" y="720"/>
                </a:cubicBezTo>
                <a:cubicBezTo>
                  <a:pt x="1032" y="760"/>
                  <a:pt x="1080" y="736"/>
                  <a:pt x="1152" y="768"/>
                </a:cubicBezTo>
                <a:cubicBezTo>
                  <a:pt x="1224" y="800"/>
                  <a:pt x="1312" y="872"/>
                  <a:pt x="1392" y="912"/>
                </a:cubicBezTo>
                <a:cubicBezTo>
                  <a:pt x="1472" y="952"/>
                  <a:pt x="1552" y="984"/>
                  <a:pt x="1632" y="1008"/>
                </a:cubicBezTo>
                <a:cubicBezTo>
                  <a:pt x="1712" y="1032"/>
                  <a:pt x="1800" y="1048"/>
                  <a:pt x="1872" y="1056"/>
                </a:cubicBezTo>
                <a:cubicBezTo>
                  <a:pt x="1944" y="1064"/>
                  <a:pt x="2016" y="1064"/>
                  <a:pt x="2064" y="1056"/>
                </a:cubicBezTo>
                <a:cubicBezTo>
                  <a:pt x="2112" y="1048"/>
                  <a:pt x="2128" y="1040"/>
                  <a:pt x="2160" y="1008"/>
                </a:cubicBezTo>
                <a:cubicBezTo>
                  <a:pt x="2192" y="976"/>
                  <a:pt x="2224" y="912"/>
                  <a:pt x="2256" y="864"/>
                </a:cubicBezTo>
                <a:cubicBezTo>
                  <a:pt x="2288" y="816"/>
                  <a:pt x="2320" y="776"/>
                  <a:pt x="2352" y="720"/>
                </a:cubicBezTo>
                <a:cubicBezTo>
                  <a:pt x="2384" y="664"/>
                  <a:pt x="2400" y="584"/>
                  <a:pt x="2448" y="528"/>
                </a:cubicBezTo>
                <a:cubicBezTo>
                  <a:pt x="2496" y="472"/>
                  <a:pt x="2584" y="416"/>
                  <a:pt x="2640" y="384"/>
                </a:cubicBezTo>
                <a:cubicBezTo>
                  <a:pt x="2696" y="352"/>
                  <a:pt x="2728" y="344"/>
                  <a:pt x="2784" y="336"/>
                </a:cubicBezTo>
                <a:cubicBezTo>
                  <a:pt x="2840" y="328"/>
                  <a:pt x="2904" y="336"/>
                  <a:pt x="2976" y="336"/>
                </a:cubicBezTo>
                <a:cubicBezTo>
                  <a:pt x="3048" y="336"/>
                  <a:pt x="3136" y="344"/>
                  <a:pt x="3216" y="336"/>
                </a:cubicBezTo>
                <a:cubicBezTo>
                  <a:pt x="3296" y="328"/>
                  <a:pt x="3368" y="320"/>
                  <a:pt x="3456" y="288"/>
                </a:cubicBezTo>
                <a:cubicBezTo>
                  <a:pt x="3544" y="256"/>
                  <a:pt x="3696" y="168"/>
                  <a:pt x="3744" y="144"/>
                </a:cubicBezTo>
              </a:path>
            </a:pathLst>
          </a:custGeom>
          <a:noFill/>
          <a:ln w="316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3280" cy="585324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2590920" y="3352680"/>
            <a:ext cx="0" cy="198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33680" y="3289320"/>
            <a:ext cx="108000" cy="133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43200" y="3505320"/>
            <a:ext cx="0" cy="1752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685960" y="3441600"/>
            <a:ext cx="108000" cy="1335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3" idx="0"/>
            <a:endCxn id="595" idx="0"/>
          </p:cNvCxnSpPr>
          <p:nvPr/>
        </p:nvCxnSpPr>
        <p:spPr>
          <a:xfrm flipV="1">
            <a:off x="2590560" y="5257800"/>
            <a:ext cx="153000" cy="76680"/>
          </a:xfrm>
          <a:prstGeom prst="straightConnector1">
            <a:avLst/>
          </a:prstGeom>
          <a:ln w="19080">
            <a:solidFill>
              <a:srgbClr val="0000ff"/>
            </a:solidFill>
            <a:miter/>
          </a:ln>
        </p:spPr>
      </p:cxnSp>
      <p:sp>
        <p:nvSpPr>
          <p:cNvPr id="598" name=""/>
          <p:cNvSpPr/>
          <p:nvPr/>
        </p:nvSpPr>
        <p:spPr>
          <a:xfrm>
            <a:off x="2895480" y="3657600"/>
            <a:ext cx="0" cy="1600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838600" y="3594240"/>
            <a:ext cx="107640" cy="133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595" idx="1"/>
            <a:endCxn id="598" idx="0"/>
          </p:cNvCxnSpPr>
          <p:nvPr/>
        </p:nvCxnSpPr>
        <p:spPr>
          <a:xfrm>
            <a:off x="2742840" y="5257440"/>
            <a:ext cx="153000" cy="1080"/>
          </a:xfrm>
          <a:prstGeom prst="straightConnector1">
            <a:avLst/>
          </a:prstGeom>
          <a:ln w="19080">
            <a:solidFill>
              <a:srgbClr val="0000ff"/>
            </a:solidFill>
            <a:miter/>
          </a:ln>
        </p:spPr>
      </p:cxnSp>
      <p:sp>
        <p:nvSpPr>
          <p:cNvPr id="601" name=""/>
          <p:cNvSpPr/>
          <p:nvPr/>
        </p:nvSpPr>
        <p:spPr>
          <a:xfrm>
            <a:off x="3048120" y="3809880"/>
            <a:ext cx="0" cy="152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990880" y="3746520"/>
            <a:ext cx="108000" cy="133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3" name=""/>
          <p:cNvCxnSpPr>
            <a:stCxn id="598" idx="1"/>
            <a:endCxn id="601" idx="0"/>
          </p:cNvCxnSpPr>
          <p:nvPr/>
        </p:nvCxnSpPr>
        <p:spPr>
          <a:xfrm>
            <a:off x="2895480" y="5257800"/>
            <a:ext cx="153360" cy="76680"/>
          </a:xfrm>
          <a:prstGeom prst="straightConnector1">
            <a:avLst/>
          </a:prstGeom>
          <a:ln w="19080">
            <a:solidFill>
              <a:srgbClr val="0000ff"/>
            </a:solidFill>
            <a:miter/>
          </a:ln>
        </p:spPr>
      </p:cxnSp>
      <p:sp>
        <p:nvSpPr>
          <p:cNvPr id="604" name=""/>
          <p:cNvSpPr/>
          <p:nvPr/>
        </p:nvSpPr>
        <p:spPr>
          <a:xfrm>
            <a:off x="3200400" y="411480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43160" y="3936960"/>
            <a:ext cx="108000" cy="1335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6" name=""/>
          <p:cNvCxnSpPr>
            <a:stCxn id="601" idx="1"/>
            <a:endCxn id="604" idx="0"/>
          </p:cNvCxnSpPr>
          <p:nvPr/>
        </p:nvCxnSpPr>
        <p:spPr>
          <a:xfrm flipV="1">
            <a:off x="3047760" y="5257800"/>
            <a:ext cx="153000" cy="76680"/>
          </a:xfrm>
          <a:prstGeom prst="straightConnector1">
            <a:avLst/>
          </a:prstGeom>
          <a:ln w="19080">
            <a:solidFill>
              <a:srgbClr val="0000ff"/>
            </a:solidFill>
            <a:miter/>
          </a:ln>
        </p:spPr>
      </p:cxnSp>
      <p:sp>
        <p:nvSpPr>
          <p:cNvPr id="607" name=""/>
          <p:cNvSpPr/>
          <p:nvPr/>
        </p:nvSpPr>
        <p:spPr>
          <a:xfrm>
            <a:off x="3352680" y="426708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95800" y="4089240"/>
            <a:ext cx="107640" cy="1335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4" idx="1"/>
            <a:endCxn id="607" idx="0"/>
          </p:cNvCxnSpPr>
          <p:nvPr/>
        </p:nvCxnSpPr>
        <p:spPr>
          <a:xfrm>
            <a:off x="3200040" y="5257440"/>
            <a:ext cx="153000" cy="1080"/>
          </a:xfrm>
          <a:prstGeom prst="straightConnector1">
            <a:avLst/>
          </a:prstGeom>
          <a:ln w="19080">
            <a:solidFill>
              <a:srgbClr val="0000ff"/>
            </a:solidFill>
            <a:miter/>
          </a:ln>
        </p:spPr>
      </p:cxnSp>
      <p:sp>
        <p:nvSpPr>
          <p:cNvPr id="610" name=""/>
          <p:cNvSpPr/>
          <p:nvPr/>
        </p:nvSpPr>
        <p:spPr>
          <a:xfrm>
            <a:off x="3581280" y="434340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524400" y="4267080"/>
            <a:ext cx="107640" cy="1335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2" name=""/>
          <p:cNvCxnSpPr/>
          <p:nvPr/>
        </p:nvCxnSpPr>
        <p:spPr>
          <a:xfrm>
            <a:off x="3352320" y="5257800"/>
            <a:ext cx="229320" cy="76680"/>
          </a:xfrm>
          <a:prstGeom prst="straightConnector1">
            <a:avLst/>
          </a:prstGeom>
          <a:ln w="19080">
            <a:solidFill>
              <a:srgbClr val="0000ff"/>
            </a:solidFill>
            <a:miter/>
          </a:ln>
        </p:spPr>
      </p:cxnSp>
      <p:sp>
        <p:nvSpPr>
          <p:cNvPr id="613" name=""/>
          <p:cNvSpPr/>
          <p:nvPr/>
        </p:nvSpPr>
        <p:spPr>
          <a:xfrm>
            <a:off x="3886200" y="449568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4" name=""/>
          <p:cNvCxnSpPr>
            <a:stCxn id="610" idx="0"/>
            <a:endCxn id="613" idx="0"/>
          </p:cNvCxnSpPr>
          <p:nvPr/>
        </p:nvCxnSpPr>
        <p:spPr>
          <a:xfrm flipV="1">
            <a:off x="3580920" y="5257800"/>
            <a:ext cx="305640" cy="76680"/>
          </a:xfrm>
          <a:prstGeom prst="straightConnector1">
            <a:avLst/>
          </a:prstGeom>
          <a:ln w="19080">
            <a:solidFill>
              <a:srgbClr val="0000ff"/>
            </a:solidFill>
            <a:miter/>
          </a:ln>
        </p:spPr>
      </p:cxnSp>
      <p:sp>
        <p:nvSpPr>
          <p:cNvPr id="615" name=""/>
          <p:cNvSpPr/>
          <p:nvPr/>
        </p:nvSpPr>
        <p:spPr>
          <a:xfrm>
            <a:off x="4114800" y="430524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6" name=""/>
          <p:cNvCxnSpPr>
            <a:stCxn id="613" idx="1"/>
            <a:endCxn id="615" idx="0"/>
          </p:cNvCxnSpPr>
          <p:nvPr/>
        </p:nvCxnSpPr>
        <p:spPr>
          <a:xfrm flipV="1">
            <a:off x="3885840" y="5066640"/>
            <a:ext cx="229320" cy="191160"/>
          </a:xfrm>
          <a:prstGeom prst="straightConnector1">
            <a:avLst/>
          </a:prstGeom>
          <a:ln w="19080">
            <a:solidFill>
              <a:srgbClr val="0000ff"/>
            </a:solidFill>
            <a:miter/>
          </a:ln>
        </p:spPr>
      </p:cxnSp>
      <p:sp>
        <p:nvSpPr>
          <p:cNvPr id="617" name=""/>
          <p:cNvSpPr/>
          <p:nvPr/>
        </p:nvSpPr>
        <p:spPr>
          <a:xfrm>
            <a:off x="4267080" y="434340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8" name=""/>
          <p:cNvCxnSpPr>
            <a:stCxn id="615" idx="1"/>
            <a:endCxn id="617" idx="0"/>
          </p:cNvCxnSpPr>
          <p:nvPr/>
        </p:nvCxnSpPr>
        <p:spPr>
          <a:xfrm>
            <a:off x="4114440" y="5067360"/>
            <a:ext cx="153000" cy="38880"/>
          </a:xfrm>
          <a:prstGeom prst="straightConnector1">
            <a:avLst/>
          </a:prstGeom>
          <a:ln w="19080">
            <a:solidFill>
              <a:srgbClr val="0000ff"/>
            </a:solidFill>
            <a:miter/>
          </a:ln>
        </p:spPr>
      </p:cxnSp>
      <p:sp>
        <p:nvSpPr>
          <p:cNvPr id="619" name=""/>
          <p:cNvSpPr/>
          <p:nvPr/>
        </p:nvSpPr>
        <p:spPr>
          <a:xfrm>
            <a:off x="4572000" y="4419720"/>
            <a:ext cx="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514760" y="4343400"/>
            <a:ext cx="108000" cy="133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1" name=""/>
          <p:cNvCxnSpPr>
            <a:stCxn id="617" idx="1"/>
            <a:endCxn id="619" idx="0"/>
          </p:cNvCxnSpPr>
          <p:nvPr/>
        </p:nvCxnSpPr>
        <p:spPr>
          <a:xfrm>
            <a:off x="4266720" y="5105160"/>
            <a:ext cx="305640" cy="76680"/>
          </a:xfrm>
          <a:prstGeom prst="straightConnector1">
            <a:avLst/>
          </a:prstGeom>
          <a:ln w="19080">
            <a:solidFill>
              <a:srgbClr val="0000ff"/>
            </a:solidFill>
            <a:miter/>
          </a:ln>
        </p:spPr>
      </p:cxnSp>
      <p:sp>
        <p:nvSpPr>
          <p:cNvPr id="622" name=""/>
          <p:cNvSpPr/>
          <p:nvPr/>
        </p:nvSpPr>
        <p:spPr>
          <a:xfrm>
            <a:off x="4724280" y="457200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667400" y="4495680"/>
            <a:ext cx="107640" cy="1335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4" name=""/>
          <p:cNvCxnSpPr>
            <a:stCxn id="619" idx="1"/>
            <a:endCxn id="622" idx="0"/>
          </p:cNvCxnSpPr>
          <p:nvPr/>
        </p:nvCxnSpPr>
        <p:spPr>
          <a:xfrm>
            <a:off x="4571640" y="5181480"/>
            <a:ext cx="153000" cy="153360"/>
          </a:xfrm>
          <a:prstGeom prst="straightConnector1">
            <a:avLst/>
          </a:prstGeom>
          <a:ln w="19080">
            <a:solidFill>
              <a:srgbClr val="0000ff"/>
            </a:solidFill>
            <a:miter/>
          </a:ln>
        </p:spPr>
      </p:cxnSp>
      <p:sp>
        <p:nvSpPr>
          <p:cNvPr id="625" name=""/>
          <p:cNvSpPr/>
          <p:nvPr/>
        </p:nvSpPr>
        <p:spPr>
          <a:xfrm>
            <a:off x="5029200" y="48006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978440" y="4667400"/>
            <a:ext cx="108000" cy="133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7" name=""/>
          <p:cNvCxnSpPr>
            <a:stCxn id="622" idx="1"/>
            <a:endCxn id="625" idx="0"/>
          </p:cNvCxnSpPr>
          <p:nvPr/>
        </p:nvCxnSpPr>
        <p:spPr>
          <a:xfrm flipV="1">
            <a:off x="4723920" y="5257800"/>
            <a:ext cx="305640" cy="76680"/>
          </a:xfrm>
          <a:prstGeom prst="straightConnector1">
            <a:avLst/>
          </a:prstGeom>
          <a:ln w="19080">
            <a:solidFill>
              <a:srgbClr val="0000ff"/>
            </a:solidFill>
            <a:miter/>
          </a:ln>
        </p:spPr>
      </p:cxnSp>
      <p:grpSp>
        <p:nvGrpSpPr>
          <p:cNvPr id="628" name=""/>
          <p:cNvGrpSpPr/>
          <p:nvPr/>
        </p:nvGrpSpPr>
        <p:grpSpPr>
          <a:xfrm>
            <a:off x="5028840" y="4267080"/>
            <a:ext cx="954720" cy="990720"/>
            <a:chOff x="5028840" y="4267080"/>
            <a:chExt cx="954720" cy="990720"/>
          </a:xfrm>
        </p:grpSpPr>
        <p:sp>
          <p:nvSpPr>
            <p:cNvPr id="629" name=""/>
            <p:cNvSpPr/>
            <p:nvPr/>
          </p:nvSpPr>
          <p:spPr>
            <a:xfrm>
              <a:off x="5566680" y="4267080"/>
              <a:ext cx="41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w</a:t>
              </a:r>
              <a:r>
                <a:rPr b="1" lang="en-US" sz="2000" spc="-1" strike="noStrike" baseline="30000">
                  <a:solidFill>
                    <a:srgbClr val="ff33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028840" y="4572000"/>
              <a:ext cx="685800" cy="685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911960" y="4419720"/>
            <a:ext cx="678960" cy="914400"/>
            <a:chOff x="1911960" y="4419720"/>
            <a:chExt cx="678960" cy="914400"/>
          </a:xfrm>
        </p:grpSpPr>
        <p:sp>
          <p:nvSpPr>
            <p:cNvPr id="632" name=""/>
            <p:cNvSpPr/>
            <p:nvPr/>
          </p:nvSpPr>
          <p:spPr>
            <a:xfrm>
              <a:off x="1911960" y="441972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w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209680" y="4724280"/>
              <a:ext cx="381240" cy="6098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4724280" y="1290600"/>
            <a:ext cx="3353760" cy="368280"/>
            <a:chOff x="4724280" y="1290600"/>
            <a:chExt cx="3353760" cy="368280"/>
          </a:xfrm>
        </p:grpSpPr>
        <p:sp>
          <p:nvSpPr>
            <p:cNvPr id="635" name=""/>
            <p:cNvSpPr/>
            <p:nvPr/>
          </p:nvSpPr>
          <p:spPr>
            <a:xfrm>
              <a:off x="6539400" y="1290600"/>
              <a:ext cx="15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ror Su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4724280" y="1447920"/>
              <a:ext cx="182880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7013520" y="1905120"/>
            <a:ext cx="1523520" cy="1981080"/>
            <a:chOff x="7013520" y="1905120"/>
            <a:chExt cx="1523520" cy="1981080"/>
          </a:xfrm>
        </p:grpSpPr>
        <p:sp>
          <p:nvSpPr>
            <p:cNvPr id="638" name=""/>
            <p:cNvSpPr/>
            <p:nvPr/>
          </p:nvSpPr>
          <p:spPr>
            <a:xfrm>
              <a:off x="7013520" y="19051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Mini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086240" y="2209680"/>
              <a:ext cx="304920" cy="167652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6171840" y="4495680"/>
            <a:ext cx="1680120" cy="762120"/>
            <a:chOff x="6171840" y="4495680"/>
            <a:chExt cx="1680120" cy="762120"/>
          </a:xfrm>
        </p:grpSpPr>
        <p:sp>
          <p:nvSpPr>
            <p:cNvPr id="641" name=""/>
            <p:cNvSpPr/>
            <p:nvPr/>
          </p:nvSpPr>
          <p:spPr>
            <a:xfrm>
              <a:off x="6251040" y="4495680"/>
              <a:ext cx="160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ight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6171840" y="4800600"/>
              <a:ext cx="609480" cy="4572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4952520" y="4114800"/>
            <a:ext cx="2860560" cy="762120"/>
            <a:chOff x="4952520" y="4114800"/>
            <a:chExt cx="2860560" cy="762120"/>
          </a:xfrm>
        </p:grpSpPr>
        <p:sp>
          <p:nvSpPr>
            <p:cNvPr id="644" name=""/>
            <p:cNvSpPr/>
            <p:nvPr/>
          </p:nvSpPr>
          <p:spPr>
            <a:xfrm>
              <a:off x="6175440" y="411480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Mini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4952520" y="4343400"/>
              <a:ext cx="1295640" cy="53352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4648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Arial"/>
              </a:rPr>
              <a:t> (Yi – Vi) </a:t>
            </a:r>
            <a:r>
              <a:rPr b="1" lang="en-US" sz="2400" spc="-1" strike="noStrike" baseline="30000">
                <a:solidFill>
                  <a:srgbClr val="ff33cc"/>
                </a:solidFill>
                <a:latin typeface="Arial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819520" y="6094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the 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Network archite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# Hidden layers, #Neurons in each Hidden Lay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80880" y="1676520"/>
            <a:ext cx="1752480" cy="2514600"/>
            <a:chOff x="380880" y="1676520"/>
            <a:chExt cx="1752480" cy="2514600"/>
          </a:xfrm>
        </p:grpSpPr>
        <p:sp>
          <p:nvSpPr>
            <p:cNvPr id="649" name=""/>
            <p:cNvSpPr/>
            <p:nvPr/>
          </p:nvSpPr>
          <p:spPr>
            <a:xfrm>
              <a:off x="380880" y="1676520"/>
              <a:ext cx="1752480" cy="25146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9480" y="2133720"/>
              <a:ext cx="30492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43000" y="213372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676160" y="2133720"/>
              <a:ext cx="30492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8080" y="289584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4" name=""/>
            <p:cNvCxnSpPr>
              <a:stCxn id="650" idx="4"/>
              <a:endCxn id="653" idx="0"/>
            </p:cNvCxnSpPr>
            <p:nvPr/>
          </p:nvCxnSpPr>
          <p:spPr>
            <a:xfrm>
              <a:off x="761400" y="2438640"/>
              <a:ext cx="22932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5" name=""/>
            <p:cNvCxnSpPr>
              <a:stCxn id="651" idx="4"/>
              <a:endCxn id="653" idx="0"/>
            </p:cNvCxnSpPr>
            <p:nvPr/>
          </p:nvCxnSpPr>
          <p:spPr>
            <a:xfrm flipH="1">
              <a:off x="989640" y="2438640"/>
              <a:ext cx="3056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6" name=""/>
            <p:cNvCxnSpPr>
              <a:stCxn id="652" idx="4"/>
              <a:endCxn id="653" idx="0"/>
            </p:cNvCxnSpPr>
            <p:nvPr/>
          </p:nvCxnSpPr>
          <p:spPr>
            <a:xfrm flipH="1">
              <a:off x="989640" y="2438640"/>
              <a:ext cx="83916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57" name=""/>
            <p:cNvSpPr/>
            <p:nvPr/>
          </p:nvSpPr>
          <p:spPr>
            <a:xfrm>
              <a:off x="761760" y="1676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295280" y="1676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28800" y="1676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95280" y="37339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71600" y="289584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3000" y="342900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3" idx="4"/>
              <a:endCxn id="662" idx="0"/>
            </p:cNvCxnSpPr>
            <p:nvPr/>
          </p:nvCxnSpPr>
          <p:spPr>
            <a:xfrm>
              <a:off x="990000" y="3200040"/>
              <a:ext cx="30564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4" name=""/>
            <p:cNvCxnSpPr>
              <a:stCxn id="661" idx="4"/>
              <a:endCxn id="662" idx="0"/>
            </p:cNvCxnSpPr>
            <p:nvPr/>
          </p:nvCxnSpPr>
          <p:spPr>
            <a:xfrm flipH="1">
              <a:off x="1294560" y="3200040"/>
              <a:ext cx="2293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5" name=""/>
            <p:cNvCxnSpPr>
              <a:stCxn id="652" idx="4"/>
              <a:endCxn id="661" idx="0"/>
            </p:cNvCxnSpPr>
            <p:nvPr/>
          </p:nvCxnSpPr>
          <p:spPr>
            <a:xfrm flipH="1">
              <a:off x="1523160" y="2438640"/>
              <a:ext cx="3056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6" name=""/>
            <p:cNvCxnSpPr>
              <a:stCxn id="651" idx="4"/>
              <a:endCxn id="661" idx="0"/>
            </p:cNvCxnSpPr>
            <p:nvPr/>
          </p:nvCxnSpPr>
          <p:spPr>
            <a:xfrm>
              <a:off x="1294920" y="2438640"/>
              <a:ext cx="22932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7" name=""/>
            <p:cNvCxnSpPr>
              <a:stCxn id="650" idx="4"/>
              <a:endCxn id="661" idx="0"/>
            </p:cNvCxnSpPr>
            <p:nvPr/>
          </p:nvCxnSpPr>
          <p:spPr>
            <a:xfrm>
              <a:off x="761400" y="2438640"/>
              <a:ext cx="7628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68" name=""/>
          <p:cNvSpPr/>
          <p:nvPr/>
        </p:nvSpPr>
        <p:spPr>
          <a:xfrm>
            <a:off x="76320" y="60480"/>
            <a:ext cx="24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Training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819520" y="1752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Initial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Network with random we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733920" y="32767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Feed for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I-th observation thru the 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the prediction error on I-th obse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733920" y="39625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Back propag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error and adjust wei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352680" y="49528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for Conve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169800" y="2743200"/>
            <a:ext cx="4678560" cy="2121120"/>
            <a:chOff x="3169800" y="2743200"/>
            <a:chExt cx="4678560" cy="2121120"/>
          </a:xfrm>
        </p:grpSpPr>
        <p:sp>
          <p:nvSpPr>
            <p:cNvPr id="674" name=""/>
            <p:cNvSpPr/>
            <p:nvPr/>
          </p:nvSpPr>
          <p:spPr>
            <a:xfrm>
              <a:off x="3429000" y="2743200"/>
              <a:ext cx="441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I = 1 to # Training Data 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429000" y="449604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xt 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6" name=""/>
            <p:cNvCxnSpPr>
              <a:stCxn id="674" idx="1"/>
              <a:endCxn id="675" idx="1"/>
            </p:cNvCxnSpPr>
            <p:nvPr/>
          </p:nvCxnSpPr>
          <p:spPr>
            <a:xfrm flipH="1" flipV="1" rot="10800000">
              <a:off x="3428640" y="2927160"/>
              <a:ext cx="2160" cy="175320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677" name=""/>
          <p:cNvGrpSpPr/>
          <p:nvPr/>
        </p:nvGrpSpPr>
        <p:grpSpPr>
          <a:xfrm>
            <a:off x="2788920" y="2209680"/>
            <a:ext cx="4678560" cy="3720960"/>
            <a:chOff x="2788920" y="2209680"/>
            <a:chExt cx="4678560" cy="3720960"/>
          </a:xfrm>
        </p:grpSpPr>
        <p:sp>
          <p:nvSpPr>
            <p:cNvPr id="678" name=""/>
            <p:cNvSpPr/>
            <p:nvPr/>
          </p:nvSpPr>
          <p:spPr>
            <a:xfrm>
              <a:off x="3048120" y="2209680"/>
              <a:ext cx="441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 </a:t>
              </a:r>
              <a:r>
                <a:rPr b="0" lang="en-US" sz="1800" spc="-1" strike="noStrike">
                  <a:solidFill>
                    <a:srgbClr val="ff33cc"/>
                  </a:solidFill>
                  <a:latin typeface="Arial"/>
                </a:rPr>
                <a:t>till Convergenc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riterion is not m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48120" y="55623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d 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0" name=""/>
            <p:cNvCxnSpPr>
              <a:stCxn id="678" idx="1"/>
              <a:endCxn id="679" idx="1"/>
            </p:cNvCxnSpPr>
            <p:nvPr/>
          </p:nvCxnSpPr>
          <p:spPr>
            <a:xfrm flipH="1" flipV="1" rot="10800000">
              <a:off x="3047760" y="2393280"/>
              <a:ext cx="2160" cy="3353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81" name=""/>
          <p:cNvSpPr/>
          <p:nvPr/>
        </p:nvSpPr>
        <p:spPr>
          <a:xfrm>
            <a:off x="2895480" y="1371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the 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Learning parameter and Momen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304920" y="6858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o stop training the Network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4880" y="60480"/>
            <a:ext cx="29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onvergence Criter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62120" y="11430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– when we reach the </a:t>
            </a: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global mini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error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198108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ggest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 if the decrease in total prediction error (since last cycle) is</a:t>
            </a:r>
            <a:r>
              <a:rPr b="0" i="1" lang="en-US" sz="1800" spc="-1" strike="noStrike">
                <a:solidFill>
                  <a:srgbClr val="ff33cc"/>
                </a:solidFill>
                <a:latin typeface="Arial"/>
              </a:rPr>
              <a:t> sm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 if the overall changes in the weights (since last cycle) are</a:t>
            </a:r>
            <a:r>
              <a:rPr b="0" i="1" lang="en-US" sz="1800" spc="-1" strike="noStrike">
                <a:solidFill>
                  <a:srgbClr val="ff33cc"/>
                </a:solidFill>
                <a:latin typeface="Arial"/>
              </a:rPr>
              <a:t> sm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62720" y="1523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on’t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8080" y="152388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we know we have reached ther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3520" y="3048120"/>
            <a:ext cx="8610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rawbac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keeps on decreasing. We get a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very good fit to training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BUT 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network thus obtained have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poor generalizing p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unseen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henomenon is also known as  -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Over fit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Train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twork is said to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Memor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training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o that when an X in training set is given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the network  faithfully produces the corresponding 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However for X’s which the network didn’t see before, it predicts poorl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24160" y="609480"/>
            <a:ext cx="81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Neural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road class of models that mimic functioning inside the human br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1676520"/>
            <a:ext cx="5867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various classes of NN mode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different from each other depending on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typ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diction, Classification , Cluste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 of the mod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building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62960" y="4784760"/>
            <a:ext cx="650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is discussion we are going to focus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Feed-forward Back-propagation Neural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sed for Prediction and Classification probl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480" y="349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74880" y="60480"/>
            <a:ext cx="29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onvergence Criter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57200" y="762120"/>
            <a:ext cx="792468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dified Suggest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 the training data into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Training 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Validation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set - build the model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 set - test the performance of the model on unseen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371600" y="2514600"/>
            <a:ext cx="7543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as we have more and more training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n Training set keeps on decreas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n Validation set keeps first decreases and then increa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609480" y="3886200"/>
            <a:ext cx="3505320" cy="2438280"/>
            <a:chOff x="609480" y="3886200"/>
            <a:chExt cx="3505320" cy="2438280"/>
          </a:xfrm>
        </p:grpSpPr>
        <p:sp>
          <p:nvSpPr>
            <p:cNvPr id="693" name=""/>
            <p:cNvSpPr/>
            <p:nvPr/>
          </p:nvSpPr>
          <p:spPr>
            <a:xfrm>
              <a:off x="609480" y="3886200"/>
              <a:ext cx="3505320" cy="243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219320" y="40384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219320" y="586728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16200000">
              <a:off x="577080" y="47595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rr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050640" y="582948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371600" y="4343400"/>
              <a:ext cx="2286000" cy="1397160"/>
            </a:xfrm>
            <a:custGeom>
              <a:avLst/>
              <a:gdLst/>
              <a:ahLst/>
              <a:rect l="l" t="t" r="r" b="b"/>
              <a:pathLst>
                <a:path w="1440" h="880">
                  <a:moveTo>
                    <a:pt x="0" y="0"/>
                  </a:moveTo>
                  <a:cubicBezTo>
                    <a:pt x="20" y="88"/>
                    <a:pt x="40" y="176"/>
                    <a:pt x="96" y="288"/>
                  </a:cubicBezTo>
                  <a:cubicBezTo>
                    <a:pt x="152" y="400"/>
                    <a:pt x="240" y="592"/>
                    <a:pt x="336" y="672"/>
                  </a:cubicBezTo>
                  <a:cubicBezTo>
                    <a:pt x="432" y="752"/>
                    <a:pt x="552" y="736"/>
                    <a:pt x="672" y="768"/>
                  </a:cubicBezTo>
                  <a:cubicBezTo>
                    <a:pt x="792" y="800"/>
                    <a:pt x="928" y="848"/>
                    <a:pt x="1056" y="864"/>
                  </a:cubicBezTo>
                  <a:cubicBezTo>
                    <a:pt x="1184" y="880"/>
                    <a:pt x="1312" y="872"/>
                    <a:pt x="1440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23880" y="4267080"/>
              <a:ext cx="1981440" cy="1155960"/>
            </a:xfrm>
            <a:custGeom>
              <a:avLst/>
              <a:gdLst/>
              <a:ahLst/>
              <a:rect l="l" t="t" r="r" b="b"/>
              <a:pathLst>
                <a:path w="1248" h="728">
                  <a:moveTo>
                    <a:pt x="0" y="0"/>
                  </a:moveTo>
                  <a:cubicBezTo>
                    <a:pt x="20" y="116"/>
                    <a:pt x="40" y="232"/>
                    <a:pt x="96" y="336"/>
                  </a:cubicBezTo>
                  <a:cubicBezTo>
                    <a:pt x="152" y="440"/>
                    <a:pt x="280" y="560"/>
                    <a:pt x="336" y="624"/>
                  </a:cubicBezTo>
                  <a:cubicBezTo>
                    <a:pt x="392" y="688"/>
                    <a:pt x="384" y="712"/>
                    <a:pt x="432" y="720"/>
                  </a:cubicBezTo>
                  <a:cubicBezTo>
                    <a:pt x="480" y="728"/>
                    <a:pt x="560" y="712"/>
                    <a:pt x="624" y="672"/>
                  </a:cubicBezTo>
                  <a:cubicBezTo>
                    <a:pt x="688" y="632"/>
                    <a:pt x="752" y="560"/>
                    <a:pt x="816" y="480"/>
                  </a:cubicBezTo>
                  <a:cubicBezTo>
                    <a:pt x="880" y="400"/>
                    <a:pt x="936" y="256"/>
                    <a:pt x="1008" y="192"/>
                  </a:cubicBezTo>
                  <a:cubicBezTo>
                    <a:pt x="1080" y="128"/>
                    <a:pt x="1208" y="112"/>
                    <a:pt x="1248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899080" y="4114800"/>
              <a:ext cx="114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746440" y="533412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09680" y="4114800"/>
              <a:ext cx="0" cy="1752480"/>
            </a:xfrm>
            <a:prstGeom prst="line">
              <a:avLst/>
            </a:prstGeom>
            <a:ln w="936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4343400" y="3962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 training when the error on Validation set starts increa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73800" y="6048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hoice of Training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2971800"/>
            <a:ext cx="7924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ing Par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big – Large leaps in weight space – risk of missing global mini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small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akes long time to converge to global min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Once stuck in local minima, difficult to get out of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33520" y="9144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Parameter and Moment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eeds to be supplied by user from outside. Should be between 0 and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hould be  the optimal values of these training parameter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o clear consensus on any fixed strateg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owever, effects of wrongly specifying them are well stud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38080" y="4800600"/>
            <a:ext cx="792504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ggestio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al and Error – Try various choices of Learning Parameter and Momen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which choice leads to minimum prediction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76680" y="6048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Wrap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80880" y="465120"/>
            <a:ext cx="8610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ficial Neural network (ANN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 class of models inspired by biological Neur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for various modeling problems – Prediction, Classification, Clustering, 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articular subclass of ANN’s – Feed forward Back propagation network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d in layers – Input, hidden,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layer is a collection of a number of artificial Neu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rons in one layer in connected to neurons in nex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s have weigh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ting an ANN model is to find the values of these weight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training data set – weights are found by Feed forward Back propagation algorithm, which is a form of Gradient Descent Method – a popular technique for function minimizatio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architecture as well as the training parameters are decided upon by trial and error. Try various choices and pick the one that gives lowest prediction err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24160" y="530280"/>
            <a:ext cx="821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important functional unit in human brain – a class of cells called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NEUR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2200" y="5013360"/>
            <a:ext cx="41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endri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 Receiv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3400" y="34920"/>
            <a:ext cx="245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A bit of biology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neuron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143000"/>
            <a:ext cx="1835280" cy="2895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68520" y="4165560"/>
            <a:ext cx="414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ppocampal Neur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 heart.cbl.utoronto.ca/ ~berj/projects.htm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1219320"/>
            <a:ext cx="1836720" cy="28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553080" y="1447560"/>
            <a:ext cx="1371600" cy="914760"/>
            <a:chOff x="6553080" y="1447560"/>
            <a:chExt cx="1371600" cy="914760"/>
          </a:xfrm>
        </p:grpSpPr>
        <p:sp>
          <p:nvSpPr>
            <p:cNvPr id="83" name=""/>
            <p:cNvSpPr/>
            <p:nvPr/>
          </p:nvSpPr>
          <p:spPr>
            <a:xfrm>
              <a:off x="7010280" y="1905120"/>
              <a:ext cx="38124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6553080" y="16765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6876720" y="14860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315200" y="1447560"/>
              <a:ext cx="380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7391520" y="16765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238880" y="14479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876720" y="3048120"/>
            <a:ext cx="838440" cy="380880"/>
            <a:chOff x="6876720" y="3048120"/>
            <a:chExt cx="838440" cy="380880"/>
          </a:xfrm>
        </p:grpSpPr>
        <p:sp>
          <p:nvSpPr>
            <p:cNvPr id="90" name=""/>
            <p:cNvSpPr/>
            <p:nvPr/>
          </p:nvSpPr>
          <p:spPr>
            <a:xfrm flipH="1">
              <a:off x="6876720" y="304812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0" y="3048120"/>
              <a:ext cx="759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82000" y="3048120"/>
              <a:ext cx="53316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7201080" y="2362320"/>
            <a:ext cx="0" cy="685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97000" y="5013360"/>
            <a:ext cx="41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ell Bo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 Process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28000" y="5470560"/>
            <a:ext cx="66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x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 Carries processed information to other neu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1920" y="5943600"/>
            <a:ext cx="77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ynap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ction between Axon end and Dendrites of other Neu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752480" y="1676520"/>
            <a:ext cx="4800600" cy="535320"/>
            <a:chOff x="1752480" y="1676520"/>
            <a:chExt cx="4800600" cy="535320"/>
          </a:xfrm>
        </p:grpSpPr>
        <p:sp>
          <p:nvSpPr>
            <p:cNvPr id="98" name=""/>
            <p:cNvSpPr/>
            <p:nvPr/>
          </p:nvSpPr>
          <p:spPr>
            <a:xfrm>
              <a:off x="3581280" y="1812960"/>
              <a:ext cx="141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Dendri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1752480" y="1676520"/>
              <a:ext cx="1905120" cy="3808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029200" y="1676520"/>
              <a:ext cx="1523880" cy="304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676160" y="2209320"/>
            <a:ext cx="5410440" cy="399240"/>
            <a:chOff x="1676160" y="2209320"/>
            <a:chExt cx="5410440" cy="399240"/>
          </a:xfrm>
        </p:grpSpPr>
        <p:sp>
          <p:nvSpPr>
            <p:cNvPr id="102" name=""/>
            <p:cNvSpPr/>
            <p:nvPr/>
          </p:nvSpPr>
          <p:spPr>
            <a:xfrm>
              <a:off x="3581280" y="2209680"/>
              <a:ext cx="141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Cell B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676160" y="2362320"/>
              <a:ext cx="20574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952880" y="2209320"/>
              <a:ext cx="2133720" cy="2286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752120" y="2590920"/>
            <a:ext cx="5410800" cy="474840"/>
            <a:chOff x="1752120" y="2590920"/>
            <a:chExt cx="5410800" cy="474840"/>
          </a:xfrm>
        </p:grpSpPr>
        <p:sp>
          <p:nvSpPr>
            <p:cNvPr id="106" name=""/>
            <p:cNvSpPr/>
            <p:nvPr/>
          </p:nvSpPr>
          <p:spPr>
            <a:xfrm>
              <a:off x="3810960" y="2666880"/>
              <a:ext cx="88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Ax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752120" y="2895480"/>
              <a:ext cx="20574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724280" y="2590920"/>
              <a:ext cx="2438640" cy="304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552360" y="426708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76520" y="3124080"/>
            <a:ext cx="5486400" cy="914400"/>
            <a:chOff x="1676520" y="3124080"/>
            <a:chExt cx="5486400" cy="914400"/>
          </a:xfrm>
        </p:grpSpPr>
        <p:grpSp>
          <p:nvGrpSpPr>
            <p:cNvPr id="111" name=""/>
            <p:cNvGrpSpPr/>
            <p:nvPr/>
          </p:nvGrpSpPr>
          <p:grpSpPr>
            <a:xfrm>
              <a:off x="6248160" y="3276720"/>
              <a:ext cx="914760" cy="761760"/>
              <a:chOff x="6248160" y="3276720"/>
              <a:chExt cx="914760" cy="761760"/>
            </a:xfrm>
          </p:grpSpPr>
          <p:sp>
            <p:nvSpPr>
              <p:cNvPr id="112" name=""/>
              <p:cNvSpPr/>
              <p:nvPr/>
            </p:nvSpPr>
            <p:spPr>
              <a:xfrm>
                <a:off x="6477120" y="3695760"/>
                <a:ext cx="228600" cy="34272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6248160" y="3657240"/>
                <a:ext cx="228600" cy="152280"/>
              </a:xfrm>
              <a:prstGeom prst="line">
                <a:avLst/>
              </a:prstGeom>
              <a:ln w="9360">
                <a:solidFill>
                  <a:srgbClr val="00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flipV="1">
                <a:off x="6400440" y="3428640"/>
                <a:ext cx="95400" cy="266760"/>
              </a:xfrm>
              <a:prstGeom prst="line">
                <a:avLst/>
              </a:prstGeom>
              <a:ln w="9360">
                <a:solidFill>
                  <a:srgbClr val="00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6705720" y="3504960"/>
                <a:ext cx="457200" cy="228600"/>
              </a:xfrm>
              <a:prstGeom prst="line">
                <a:avLst/>
              </a:prstGeom>
              <a:ln w="9360">
                <a:solidFill>
                  <a:srgbClr val="00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6705720" y="3733560"/>
                <a:ext cx="228600" cy="75960"/>
              </a:xfrm>
              <a:prstGeom prst="line">
                <a:avLst/>
              </a:prstGeom>
              <a:ln w="9360">
                <a:solidFill>
                  <a:srgbClr val="00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6629400" y="3276720"/>
                <a:ext cx="152280" cy="380880"/>
              </a:xfrm>
              <a:prstGeom prst="line">
                <a:avLst/>
              </a:prstGeom>
              <a:ln w="9360">
                <a:solidFill>
                  <a:srgbClr val="00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3658680" y="3124080"/>
              <a:ext cx="129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Synap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057040" y="3352680"/>
              <a:ext cx="1676520" cy="4572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29200" y="3352680"/>
              <a:ext cx="16002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77120" y="3124080"/>
              <a:ext cx="533160" cy="381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676520" y="36576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3600" y="3816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An Artificial Neu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4280" y="4187880"/>
            <a:ext cx="769536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Inputs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other neurons or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fed-in through connections with ‘weight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Input = Weighted sum of  inputs from all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function (Activation function) converts the input to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goes to other neurons or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76440" y="2647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848040" y="2190600"/>
            <a:ext cx="1981080" cy="914400"/>
            <a:chOff x="3848040" y="2190600"/>
            <a:chExt cx="1981080" cy="914400"/>
          </a:xfrm>
        </p:grpSpPr>
        <p:sp>
          <p:nvSpPr>
            <p:cNvPr id="127" name=""/>
            <p:cNvSpPr/>
            <p:nvPr/>
          </p:nvSpPr>
          <p:spPr>
            <a:xfrm>
              <a:off x="3848040" y="2190600"/>
              <a:ext cx="198108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4271760" y="2247840"/>
              <a:ext cx="1058040" cy="857160"/>
              <a:chOff x="4271760" y="2247840"/>
              <a:chExt cx="1058040" cy="857160"/>
            </a:xfrm>
          </p:grpSpPr>
          <p:sp>
            <p:nvSpPr>
              <p:cNvPr id="129" name=""/>
              <p:cNvSpPr/>
              <p:nvPr/>
            </p:nvSpPr>
            <p:spPr>
              <a:xfrm>
                <a:off x="4778280" y="226692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321080" y="264780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1141600">
                <a:off x="4305240" y="2311200"/>
                <a:ext cx="990720" cy="571680"/>
              </a:xfrm>
              <a:custGeom>
                <a:avLst/>
                <a:gdLst/>
                <a:ahLst/>
                <a:rect l="l" t="t" r="r" b="b"/>
                <a:pathLst>
                  <a:path w="912" h="504">
                    <a:moveTo>
                      <a:pt x="912" y="40"/>
                    </a:moveTo>
                    <a:cubicBezTo>
                      <a:pt x="784" y="20"/>
                      <a:pt x="656" y="0"/>
                      <a:pt x="576" y="40"/>
                    </a:cubicBezTo>
                    <a:cubicBezTo>
                      <a:pt x="496" y="80"/>
                      <a:pt x="480" y="208"/>
                      <a:pt x="432" y="280"/>
                    </a:cubicBezTo>
                    <a:cubicBezTo>
                      <a:pt x="384" y="352"/>
                      <a:pt x="360" y="440"/>
                      <a:pt x="288" y="472"/>
                    </a:cubicBezTo>
                    <a:cubicBezTo>
                      <a:pt x="216" y="504"/>
                      <a:pt x="40" y="472"/>
                      <a:pt x="0" y="472"/>
                    </a:cubicBezTo>
                  </a:path>
                </a:pathLst>
              </a:custGeom>
              <a:noFill/>
              <a:ln w="158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4458960" y="2190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905440" y="2647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277040" y="2037960"/>
            <a:ext cx="1067040" cy="1295280"/>
            <a:chOff x="7277040" y="2037960"/>
            <a:chExt cx="1067040" cy="1295280"/>
          </a:xfrm>
        </p:grpSpPr>
        <p:sp>
          <p:nvSpPr>
            <p:cNvPr id="135" name=""/>
            <p:cNvSpPr/>
            <p:nvPr/>
          </p:nvSpPr>
          <p:spPr>
            <a:xfrm flipV="1">
              <a:off x="7277040" y="2037960"/>
              <a:ext cx="838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7277040" y="2463480"/>
              <a:ext cx="106704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77040" y="2723760"/>
              <a:ext cx="9907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77040" y="2723760"/>
              <a:ext cx="838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883080" y="142560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76240" y="2038320"/>
            <a:ext cx="45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3080" y="317808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58760" y="22017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8080" y="2949480"/>
            <a:ext cx="2513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=  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br>
              <a:rPr sz="2000"/>
            </a:b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… +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81040" y="21891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= f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33440" y="173340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09760" y="226692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333440" y="272376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44120" y="165420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67800" y="203508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87160" y="2525760"/>
            <a:ext cx="279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45200" y="302580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3240" y="9144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Dendr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9920" y="91440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Cell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7320" y="914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Ax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1828800"/>
            <a:ext cx="4647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60880" y="1504800"/>
            <a:ext cx="32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Direction of flow of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22360" y="838080"/>
            <a:ext cx="69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various choices for Transfer / Activation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33480" y="4191120"/>
            <a:ext cx="2266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/ (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990720" y="1600200"/>
            <a:ext cx="2361960" cy="2286000"/>
            <a:chOff x="990720" y="1600200"/>
            <a:chExt cx="2361960" cy="2286000"/>
          </a:xfrm>
        </p:grpSpPr>
        <p:sp>
          <p:nvSpPr>
            <p:cNvPr id="160" name=""/>
            <p:cNvSpPr/>
            <p:nvPr/>
          </p:nvSpPr>
          <p:spPr>
            <a:xfrm>
              <a:off x="990720" y="1600200"/>
              <a:ext cx="236196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33720" y="17524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19320" y="27432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1220200">
              <a:off x="1199880" y="2209680"/>
              <a:ext cx="1981080" cy="990720"/>
            </a:xfrm>
            <a:custGeom>
              <a:avLst/>
              <a:gdLst/>
              <a:ahLst/>
              <a:rect l="l" t="t" r="r" b="b"/>
              <a:pathLst>
                <a:path w="912" h="504">
                  <a:moveTo>
                    <a:pt x="912" y="40"/>
                  </a:moveTo>
                  <a:cubicBezTo>
                    <a:pt x="784" y="20"/>
                    <a:pt x="656" y="0"/>
                    <a:pt x="576" y="40"/>
                  </a:cubicBezTo>
                  <a:cubicBezTo>
                    <a:pt x="496" y="80"/>
                    <a:pt x="480" y="208"/>
                    <a:pt x="432" y="280"/>
                  </a:cubicBezTo>
                  <a:cubicBezTo>
                    <a:pt x="384" y="352"/>
                    <a:pt x="360" y="440"/>
                    <a:pt x="288" y="472"/>
                  </a:cubicBezTo>
                  <a:cubicBezTo>
                    <a:pt x="216" y="504"/>
                    <a:pt x="40" y="472"/>
                    <a:pt x="0" y="472"/>
                  </a:cubicBezTo>
                </a:path>
              </a:pathLst>
            </a:custGeom>
            <a:noFill/>
            <a:ln w="158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33720" y="21337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85760" y="32767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49640" y="30672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68400" y="1962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581280" y="1619280"/>
            <a:ext cx="2362320" cy="2286000"/>
            <a:chOff x="3581280" y="1619280"/>
            <a:chExt cx="2362320" cy="2286000"/>
          </a:xfrm>
        </p:grpSpPr>
        <p:sp>
          <p:nvSpPr>
            <p:cNvPr id="169" name=""/>
            <p:cNvSpPr/>
            <p:nvPr/>
          </p:nvSpPr>
          <p:spPr>
            <a:xfrm>
              <a:off x="3581280" y="1619280"/>
              <a:ext cx="236232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24280" y="177156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9880" y="32767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1220200">
              <a:off x="3790440" y="2228760"/>
              <a:ext cx="1981440" cy="990720"/>
            </a:xfrm>
            <a:custGeom>
              <a:avLst/>
              <a:gdLst/>
              <a:ahLst/>
              <a:rect l="l" t="t" r="r" b="b"/>
              <a:pathLst>
                <a:path w="912" h="504">
                  <a:moveTo>
                    <a:pt x="912" y="40"/>
                  </a:moveTo>
                  <a:cubicBezTo>
                    <a:pt x="784" y="20"/>
                    <a:pt x="656" y="0"/>
                    <a:pt x="576" y="40"/>
                  </a:cubicBezTo>
                  <a:cubicBezTo>
                    <a:pt x="496" y="80"/>
                    <a:pt x="480" y="208"/>
                    <a:pt x="432" y="280"/>
                  </a:cubicBezTo>
                  <a:cubicBezTo>
                    <a:pt x="384" y="352"/>
                    <a:pt x="360" y="440"/>
                    <a:pt x="288" y="472"/>
                  </a:cubicBezTo>
                  <a:cubicBezTo>
                    <a:pt x="216" y="504"/>
                    <a:pt x="40" y="472"/>
                    <a:pt x="0" y="472"/>
                  </a:cubicBezTo>
                </a:path>
              </a:pathLst>
            </a:custGeom>
            <a:noFill/>
            <a:ln w="158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24280" y="2152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25720" y="2990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59320" y="1981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48320" y="2743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87600" y="2590920"/>
              <a:ext cx="43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172200" y="1619280"/>
            <a:ext cx="236232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177156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3276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5200" y="2152800"/>
            <a:ext cx="114300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6640" y="2990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49880" y="1981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00800" y="3200400"/>
            <a:ext cx="933480" cy="0"/>
          </a:xfrm>
          <a:prstGeom prst="line">
            <a:avLst/>
          </a:prstGeom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7160" y="4187880"/>
            <a:ext cx="208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 =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(1 +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4187880"/>
            <a:ext cx="221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s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if x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f x &gt;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45720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3400" y="38160"/>
            <a:ext cx="24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Transf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2000" y="114480"/>
            <a:ext cx="37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ANN – Feed-forward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7440" y="685800"/>
            <a:ext cx="44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lection of neurons form a ‘Layer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4724280"/>
            <a:ext cx="2438280" cy="762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3352680"/>
            <a:ext cx="3276360" cy="762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981080"/>
            <a:ext cx="4191120" cy="762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219320" y="2057400"/>
            <a:ext cx="3600360" cy="3352680"/>
            <a:chOff x="1219320" y="2057400"/>
            <a:chExt cx="3600360" cy="3352680"/>
          </a:xfrm>
        </p:grpSpPr>
        <p:sp>
          <p:nvSpPr>
            <p:cNvPr id="195" name=""/>
            <p:cNvSpPr/>
            <p:nvPr/>
          </p:nvSpPr>
          <p:spPr>
            <a:xfrm>
              <a:off x="1981080" y="4800600"/>
              <a:ext cx="60984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71800" y="4800600"/>
              <a:ext cx="60948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00200" y="3429000"/>
              <a:ext cx="62856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71840" y="3429000"/>
              <a:ext cx="62856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3429000"/>
              <a:ext cx="62856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19320" y="2057400"/>
              <a:ext cx="62856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86000" y="2057400"/>
              <a:ext cx="62856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76720" y="2057400"/>
              <a:ext cx="62856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91120" y="2057400"/>
              <a:ext cx="62856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14480" y="4038120"/>
            <a:ext cx="2057040" cy="762480"/>
            <a:chOff x="1914480" y="4038120"/>
            <a:chExt cx="2057040" cy="762480"/>
          </a:xfrm>
        </p:grpSpPr>
        <p:cxnSp>
          <p:nvCxnSpPr>
            <p:cNvPr id="205" name=""/>
            <p:cNvCxnSpPr>
              <a:stCxn id="197" idx="4"/>
              <a:endCxn id="195" idx="0"/>
            </p:cNvCxnSpPr>
            <p:nvPr/>
          </p:nvCxnSpPr>
          <p:spPr>
            <a:xfrm>
              <a:off x="1914480" y="4038120"/>
              <a:ext cx="3722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6" name=""/>
            <p:cNvCxnSpPr>
              <a:stCxn id="197" idx="4"/>
              <a:endCxn id="196" idx="0"/>
            </p:cNvCxnSpPr>
            <p:nvPr/>
          </p:nvCxnSpPr>
          <p:spPr>
            <a:xfrm>
              <a:off x="1914480" y="4038120"/>
              <a:ext cx="136296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7" name=""/>
            <p:cNvCxnSpPr>
              <a:stCxn id="198" idx="4"/>
              <a:endCxn id="196" idx="0"/>
            </p:cNvCxnSpPr>
            <p:nvPr/>
          </p:nvCxnSpPr>
          <p:spPr>
            <a:xfrm>
              <a:off x="2885760" y="4038120"/>
              <a:ext cx="39132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8" name=""/>
            <p:cNvCxnSpPr>
              <a:stCxn id="198" idx="4"/>
              <a:endCxn id="195" idx="0"/>
            </p:cNvCxnSpPr>
            <p:nvPr/>
          </p:nvCxnSpPr>
          <p:spPr>
            <a:xfrm flipH="1">
              <a:off x="2285280" y="4038120"/>
              <a:ext cx="6008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9" name=""/>
            <p:cNvCxnSpPr>
              <a:stCxn id="199" idx="4"/>
              <a:endCxn id="196" idx="0"/>
            </p:cNvCxnSpPr>
            <p:nvPr/>
          </p:nvCxnSpPr>
          <p:spPr>
            <a:xfrm flipH="1">
              <a:off x="3276360" y="4038120"/>
              <a:ext cx="69552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0" name=""/>
            <p:cNvCxnSpPr>
              <a:stCxn id="199" idx="4"/>
              <a:endCxn id="195" idx="0"/>
            </p:cNvCxnSpPr>
            <p:nvPr/>
          </p:nvCxnSpPr>
          <p:spPr>
            <a:xfrm flipH="1">
              <a:off x="2285280" y="4038120"/>
              <a:ext cx="168660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11" name=""/>
          <p:cNvGrpSpPr/>
          <p:nvPr/>
        </p:nvGrpSpPr>
        <p:grpSpPr>
          <a:xfrm>
            <a:off x="1533240" y="2666520"/>
            <a:ext cx="2972160" cy="762480"/>
            <a:chOff x="1533240" y="2666520"/>
            <a:chExt cx="2972160" cy="762480"/>
          </a:xfrm>
        </p:grpSpPr>
        <p:cxnSp>
          <p:nvCxnSpPr>
            <p:cNvPr id="212" name=""/>
            <p:cNvCxnSpPr>
              <a:stCxn id="200" idx="4"/>
              <a:endCxn id="197" idx="0"/>
            </p:cNvCxnSpPr>
            <p:nvPr/>
          </p:nvCxnSpPr>
          <p:spPr>
            <a:xfrm>
              <a:off x="1533600" y="2666520"/>
              <a:ext cx="38160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3" name=""/>
            <p:cNvCxnSpPr>
              <a:stCxn id="200" idx="4"/>
              <a:endCxn id="198" idx="0"/>
            </p:cNvCxnSpPr>
            <p:nvPr/>
          </p:nvCxnSpPr>
          <p:spPr>
            <a:xfrm>
              <a:off x="1533240" y="2666520"/>
              <a:ext cx="13532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4" name=""/>
            <p:cNvCxnSpPr>
              <a:stCxn id="200" idx="4"/>
              <a:endCxn id="199" idx="0"/>
            </p:cNvCxnSpPr>
            <p:nvPr/>
          </p:nvCxnSpPr>
          <p:spPr>
            <a:xfrm>
              <a:off x="1533240" y="2666520"/>
              <a:ext cx="243900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5" name=""/>
            <p:cNvCxnSpPr>
              <a:stCxn id="201" idx="4"/>
              <a:endCxn id="197" idx="0"/>
            </p:cNvCxnSpPr>
            <p:nvPr/>
          </p:nvCxnSpPr>
          <p:spPr>
            <a:xfrm flipH="1">
              <a:off x="1913760" y="2666520"/>
              <a:ext cx="68652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6" name=""/>
            <p:cNvCxnSpPr>
              <a:stCxn id="202" idx="4"/>
              <a:endCxn id="197" idx="0"/>
            </p:cNvCxnSpPr>
            <p:nvPr/>
          </p:nvCxnSpPr>
          <p:spPr>
            <a:xfrm flipH="1">
              <a:off x="1913760" y="2666520"/>
              <a:ext cx="16772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7" name=""/>
            <p:cNvCxnSpPr>
              <a:stCxn id="203" idx="4"/>
              <a:endCxn id="197" idx="0"/>
            </p:cNvCxnSpPr>
            <p:nvPr/>
          </p:nvCxnSpPr>
          <p:spPr>
            <a:xfrm flipH="1">
              <a:off x="1913760" y="2666520"/>
              <a:ext cx="25916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8" name=""/>
            <p:cNvCxnSpPr>
              <a:stCxn id="201" idx="4"/>
              <a:endCxn id="198" idx="0"/>
            </p:cNvCxnSpPr>
            <p:nvPr/>
          </p:nvCxnSpPr>
          <p:spPr>
            <a:xfrm>
              <a:off x="2600280" y="2666520"/>
              <a:ext cx="28656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9" name=""/>
            <p:cNvCxnSpPr>
              <a:stCxn id="201" idx="4"/>
              <a:endCxn id="199" idx="0"/>
            </p:cNvCxnSpPr>
            <p:nvPr/>
          </p:nvCxnSpPr>
          <p:spPr>
            <a:xfrm>
              <a:off x="2600280" y="2666520"/>
              <a:ext cx="137232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0" name=""/>
            <p:cNvCxnSpPr>
              <a:stCxn id="202" idx="4"/>
              <a:endCxn id="198" idx="0"/>
            </p:cNvCxnSpPr>
            <p:nvPr/>
          </p:nvCxnSpPr>
          <p:spPr>
            <a:xfrm flipH="1">
              <a:off x="2886120" y="2666520"/>
              <a:ext cx="7052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1" name=""/>
            <p:cNvCxnSpPr>
              <a:stCxn id="202" idx="4"/>
              <a:endCxn id="199" idx="0"/>
            </p:cNvCxnSpPr>
            <p:nvPr/>
          </p:nvCxnSpPr>
          <p:spPr>
            <a:xfrm>
              <a:off x="3591000" y="2666520"/>
              <a:ext cx="38160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" name=""/>
            <p:cNvCxnSpPr>
              <a:stCxn id="203" idx="4"/>
              <a:endCxn id="198" idx="0"/>
            </p:cNvCxnSpPr>
            <p:nvPr/>
          </p:nvCxnSpPr>
          <p:spPr>
            <a:xfrm flipH="1">
              <a:off x="2885760" y="2666520"/>
              <a:ext cx="162000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3" name=""/>
            <p:cNvCxnSpPr>
              <a:stCxn id="203" idx="4"/>
              <a:endCxn id="199" idx="0"/>
            </p:cNvCxnSpPr>
            <p:nvPr/>
          </p:nvCxnSpPr>
          <p:spPr>
            <a:xfrm flipH="1">
              <a:off x="3971520" y="2666520"/>
              <a:ext cx="5342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24" name=""/>
          <p:cNvGrpSpPr/>
          <p:nvPr/>
        </p:nvGrpSpPr>
        <p:grpSpPr>
          <a:xfrm>
            <a:off x="171360" y="2209680"/>
            <a:ext cx="368280" cy="3353040"/>
            <a:chOff x="171360" y="2209680"/>
            <a:chExt cx="368280" cy="3353040"/>
          </a:xfrm>
        </p:grpSpPr>
        <p:sp>
          <p:nvSpPr>
            <p:cNvPr id="225" name=""/>
            <p:cNvSpPr/>
            <p:nvPr/>
          </p:nvSpPr>
          <p:spPr>
            <a:xfrm>
              <a:off x="533520" y="2209680"/>
              <a:ext cx="0" cy="33530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6200000">
              <a:off x="-1141920" y="3603240"/>
              <a:ext cx="29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cc"/>
                  </a:solidFill>
                  <a:latin typeface="Arial"/>
                </a:rPr>
                <a:t>Direction of information 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219320" y="1371600"/>
            <a:ext cx="3657600" cy="609480"/>
            <a:chOff x="1219320" y="1371600"/>
            <a:chExt cx="3657600" cy="609480"/>
          </a:xfrm>
        </p:grpSpPr>
        <p:sp>
          <p:nvSpPr>
            <p:cNvPr id="228" name=""/>
            <p:cNvSpPr/>
            <p:nvPr/>
          </p:nvSpPr>
          <p:spPr>
            <a:xfrm>
              <a:off x="1219320" y="1371600"/>
              <a:ext cx="60948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62320" y="1371600"/>
              <a:ext cx="60948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52680" y="1371600"/>
              <a:ext cx="60984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43400" y="137160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981080" y="5562720"/>
            <a:ext cx="1600200" cy="761760"/>
            <a:chOff x="1981080" y="5562720"/>
            <a:chExt cx="1600200" cy="761760"/>
          </a:xfrm>
        </p:grpSpPr>
        <p:sp>
          <p:nvSpPr>
            <p:cNvPr id="233" name=""/>
            <p:cNvSpPr/>
            <p:nvPr/>
          </p:nvSpPr>
          <p:spPr>
            <a:xfrm>
              <a:off x="2666880" y="58672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81080" y="556272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48120" y="5562720"/>
              <a:ext cx="533160" cy="609480"/>
            </a:xfrm>
            <a:prstGeom prst="downArrow">
              <a:avLst>
                <a:gd name="adj1" fmla="val 50000"/>
                <a:gd name="adj2" fmla="val 28579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105520" y="1600200"/>
            <a:ext cx="3809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ach neuron gets ON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one input, directly from out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05520" y="4724280"/>
            <a:ext cx="35049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utput of each neuron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directly goes to out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81480" y="3200400"/>
            <a:ext cx="35053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dden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nnects Input and Outpu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lay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757080" y="1355760"/>
            <a:ext cx="39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hidden layers can 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76920" y="13557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5880" y="13557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13557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066680" y="2438280"/>
            <a:ext cx="1752840" cy="2514600"/>
            <a:chOff x="1066680" y="2438280"/>
            <a:chExt cx="1752840" cy="2514600"/>
          </a:xfrm>
        </p:grpSpPr>
        <p:sp>
          <p:nvSpPr>
            <p:cNvPr id="244" name=""/>
            <p:cNvSpPr/>
            <p:nvPr/>
          </p:nvSpPr>
          <p:spPr>
            <a:xfrm>
              <a:off x="1066680" y="2438280"/>
              <a:ext cx="1752840" cy="25146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95280" y="3200040"/>
              <a:ext cx="30492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28800" y="3200040"/>
              <a:ext cx="30492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62320" y="320004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85840"/>
              <a:ext cx="30492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9" name=""/>
            <p:cNvCxnSpPr>
              <a:stCxn id="245" idx="4"/>
              <a:endCxn id="248" idx="0"/>
            </p:cNvCxnSpPr>
            <p:nvPr/>
          </p:nvCxnSpPr>
          <p:spPr>
            <a:xfrm>
              <a:off x="1447560" y="3504960"/>
              <a:ext cx="5338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0" name=""/>
            <p:cNvCxnSpPr>
              <a:stCxn id="246" idx="4"/>
              <a:endCxn id="248" idx="0"/>
            </p:cNvCxnSpPr>
            <p:nvPr/>
          </p:nvCxnSpPr>
          <p:spPr>
            <a:xfrm>
              <a:off x="1980720" y="3504960"/>
              <a:ext cx="10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1" name=""/>
            <p:cNvCxnSpPr>
              <a:stCxn id="247" idx="4"/>
              <a:endCxn id="248" idx="0"/>
            </p:cNvCxnSpPr>
            <p:nvPr/>
          </p:nvCxnSpPr>
          <p:spPr>
            <a:xfrm flipH="1">
              <a:off x="1980720" y="3504960"/>
              <a:ext cx="53424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2" name=""/>
            <p:cNvSpPr/>
            <p:nvPr/>
          </p:nvSpPr>
          <p:spPr>
            <a:xfrm>
              <a:off x="1447920" y="2742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81080" y="2742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14600" y="2742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81080" y="41907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809880" y="2362320"/>
            <a:ext cx="1752840" cy="2514600"/>
            <a:chOff x="3809880" y="2362320"/>
            <a:chExt cx="1752840" cy="2514600"/>
          </a:xfrm>
        </p:grpSpPr>
        <p:sp>
          <p:nvSpPr>
            <p:cNvPr id="257" name=""/>
            <p:cNvSpPr/>
            <p:nvPr/>
          </p:nvSpPr>
          <p:spPr>
            <a:xfrm>
              <a:off x="3809880" y="2362320"/>
              <a:ext cx="1752840" cy="25146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8480" y="2819520"/>
              <a:ext cx="30492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2000" y="2819520"/>
              <a:ext cx="30492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05520" y="281952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67080" y="3581640"/>
              <a:ext cx="30492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2" name=""/>
            <p:cNvCxnSpPr>
              <a:stCxn id="258" idx="4"/>
              <a:endCxn id="261" idx="0"/>
            </p:cNvCxnSpPr>
            <p:nvPr/>
          </p:nvCxnSpPr>
          <p:spPr>
            <a:xfrm>
              <a:off x="4190760" y="3124440"/>
              <a:ext cx="22932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3" name=""/>
            <p:cNvCxnSpPr>
              <a:stCxn id="259" idx="4"/>
              <a:endCxn id="261" idx="0"/>
            </p:cNvCxnSpPr>
            <p:nvPr/>
          </p:nvCxnSpPr>
          <p:spPr>
            <a:xfrm flipH="1">
              <a:off x="4419360" y="3124440"/>
              <a:ext cx="3052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4" name=""/>
            <p:cNvCxnSpPr>
              <a:stCxn id="260" idx="4"/>
              <a:endCxn id="261" idx="0"/>
            </p:cNvCxnSpPr>
            <p:nvPr/>
          </p:nvCxnSpPr>
          <p:spPr>
            <a:xfrm flipH="1">
              <a:off x="4419360" y="3124440"/>
              <a:ext cx="8388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65" name=""/>
            <p:cNvSpPr/>
            <p:nvPr/>
          </p:nvSpPr>
          <p:spPr>
            <a:xfrm>
              <a:off x="4191120" y="2362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24280" y="2362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57800" y="2362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2428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00600" y="3581640"/>
              <a:ext cx="30492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72000" y="411516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1" name=""/>
            <p:cNvCxnSpPr>
              <a:stCxn id="261" idx="4"/>
              <a:endCxn id="270" idx="0"/>
            </p:cNvCxnSpPr>
            <p:nvPr/>
          </p:nvCxnSpPr>
          <p:spPr>
            <a:xfrm>
              <a:off x="4419720" y="3886200"/>
              <a:ext cx="3052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2" name=""/>
            <p:cNvCxnSpPr>
              <a:stCxn id="269" idx="4"/>
              <a:endCxn id="270" idx="0"/>
            </p:cNvCxnSpPr>
            <p:nvPr/>
          </p:nvCxnSpPr>
          <p:spPr>
            <a:xfrm flipH="1">
              <a:off x="4723560" y="3886200"/>
              <a:ext cx="2293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3" name=""/>
            <p:cNvCxnSpPr>
              <a:stCxn id="260" idx="4"/>
              <a:endCxn id="269" idx="0"/>
            </p:cNvCxnSpPr>
            <p:nvPr/>
          </p:nvCxnSpPr>
          <p:spPr>
            <a:xfrm flipH="1">
              <a:off x="4952160" y="3124440"/>
              <a:ext cx="3056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74" name=""/>
            <p:cNvCxnSpPr>
              <a:stCxn id="259" idx="4"/>
              <a:endCxn id="269" idx="0"/>
            </p:cNvCxnSpPr>
            <p:nvPr/>
          </p:nvCxnSpPr>
          <p:spPr>
            <a:xfrm>
              <a:off x="4723920" y="3124440"/>
              <a:ext cx="22932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6095880" y="2133720"/>
            <a:ext cx="2362320" cy="3200400"/>
            <a:chOff x="6095880" y="2133720"/>
            <a:chExt cx="2362320" cy="3200400"/>
          </a:xfrm>
        </p:grpSpPr>
        <p:sp>
          <p:nvSpPr>
            <p:cNvPr id="276" name=""/>
            <p:cNvSpPr/>
            <p:nvPr/>
          </p:nvSpPr>
          <p:spPr>
            <a:xfrm>
              <a:off x="6095880" y="2133720"/>
              <a:ext cx="2362320" cy="32004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05720" y="281952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8880" y="281952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72400" y="281952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34320" y="358128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"/>
            <p:cNvCxnSpPr>
              <a:stCxn id="277" idx="4"/>
              <a:endCxn id="280" idx="0"/>
            </p:cNvCxnSpPr>
            <p:nvPr/>
          </p:nvCxnSpPr>
          <p:spPr>
            <a:xfrm>
              <a:off x="6857640" y="3124080"/>
              <a:ext cx="22932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"/>
            <p:cNvCxnSpPr>
              <a:stCxn id="278" idx="4"/>
              <a:endCxn id="280" idx="0"/>
            </p:cNvCxnSpPr>
            <p:nvPr/>
          </p:nvCxnSpPr>
          <p:spPr>
            <a:xfrm flipH="1">
              <a:off x="7085880" y="3124080"/>
              <a:ext cx="3056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3" name=""/>
            <p:cNvCxnSpPr>
              <a:stCxn id="279" idx="4"/>
              <a:endCxn id="280" idx="0"/>
            </p:cNvCxnSpPr>
            <p:nvPr/>
          </p:nvCxnSpPr>
          <p:spPr>
            <a:xfrm flipH="1">
              <a:off x="7086240" y="3124080"/>
              <a:ext cx="8388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4" name=""/>
            <p:cNvSpPr/>
            <p:nvPr/>
          </p:nvSpPr>
          <p:spPr>
            <a:xfrm>
              <a:off x="6858000" y="2362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91520" y="2362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24680" y="2362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91520" y="4800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67480" y="3581280"/>
              <a:ext cx="30492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934320" y="419112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stCxn id="280" idx="4"/>
              <a:endCxn id="289" idx="0"/>
            </p:cNvCxnSpPr>
            <p:nvPr/>
          </p:nvCxnSpPr>
          <p:spPr>
            <a:xfrm>
              <a:off x="7086240" y="388584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1" name=""/>
            <p:cNvCxnSpPr>
              <a:stCxn id="288" idx="4"/>
              <a:endCxn id="289" idx="0"/>
            </p:cNvCxnSpPr>
            <p:nvPr/>
          </p:nvCxnSpPr>
          <p:spPr>
            <a:xfrm flipH="1">
              <a:off x="7086240" y="3885840"/>
              <a:ext cx="53424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2" name=""/>
            <p:cNvCxnSpPr>
              <a:stCxn id="279" idx="4"/>
              <a:endCxn id="288" idx="0"/>
            </p:cNvCxnSpPr>
            <p:nvPr/>
          </p:nvCxnSpPr>
          <p:spPr>
            <a:xfrm flipH="1">
              <a:off x="7619760" y="3124080"/>
              <a:ext cx="3052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3" name=""/>
            <p:cNvCxnSpPr>
              <a:stCxn id="278" idx="4"/>
              <a:endCxn id="288" idx="0"/>
            </p:cNvCxnSpPr>
            <p:nvPr/>
          </p:nvCxnSpPr>
          <p:spPr>
            <a:xfrm>
              <a:off x="7391160" y="3124080"/>
              <a:ext cx="22932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4" name=""/>
            <p:cNvSpPr/>
            <p:nvPr/>
          </p:nvSpPr>
          <p:spPr>
            <a:xfrm>
              <a:off x="7467480" y="419112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88" idx="4"/>
              <a:endCxn id="294" idx="0"/>
            </p:cNvCxnSpPr>
            <p:nvPr/>
          </p:nvCxnSpPr>
          <p:spPr>
            <a:xfrm>
              <a:off x="7619760" y="388584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" name=""/>
            <p:cNvCxnSpPr>
              <a:stCxn id="280" idx="4"/>
              <a:endCxn id="294" idx="0"/>
            </p:cNvCxnSpPr>
            <p:nvPr/>
          </p:nvCxnSpPr>
          <p:spPr>
            <a:xfrm>
              <a:off x="7086600" y="3885840"/>
              <a:ext cx="53424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7" name=""/>
            <p:cNvSpPr/>
            <p:nvPr/>
          </p:nvSpPr>
          <p:spPr>
            <a:xfrm>
              <a:off x="7238880" y="464832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8" name=""/>
            <p:cNvCxnSpPr>
              <a:stCxn id="289" idx="4"/>
              <a:endCxn id="297" idx="0"/>
            </p:cNvCxnSpPr>
            <p:nvPr/>
          </p:nvCxnSpPr>
          <p:spPr>
            <a:xfrm>
              <a:off x="7086240" y="4495680"/>
              <a:ext cx="30564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9" name=""/>
            <p:cNvCxnSpPr>
              <a:stCxn id="294" idx="4"/>
              <a:endCxn id="297" idx="0"/>
            </p:cNvCxnSpPr>
            <p:nvPr/>
          </p:nvCxnSpPr>
          <p:spPr>
            <a:xfrm flipH="1">
              <a:off x="7390800" y="4495680"/>
              <a:ext cx="229320" cy="15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300" name=""/>
          <p:cNvSpPr/>
          <p:nvPr/>
        </p:nvSpPr>
        <p:spPr>
          <a:xfrm>
            <a:off x="72000" y="114480"/>
            <a:ext cx="37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ANN – Feed-forward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760320" y="68580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ple of things to n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81080" y="4800600"/>
            <a:ext cx="60984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71800" y="4800600"/>
            <a:ext cx="609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00200" y="3429000"/>
            <a:ext cx="62856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71840" y="3429000"/>
            <a:ext cx="62856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57600" y="3429000"/>
            <a:ext cx="62856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14400" y="2057400"/>
            <a:ext cx="62856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33720" y="2057400"/>
            <a:ext cx="62856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00400" y="2057400"/>
            <a:ext cx="62856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43400" y="2057400"/>
            <a:ext cx="62856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14480" y="4038120"/>
            <a:ext cx="2057040" cy="762480"/>
            <a:chOff x="1914480" y="4038120"/>
            <a:chExt cx="2057040" cy="762480"/>
          </a:xfrm>
        </p:grpSpPr>
        <p:cxnSp>
          <p:nvCxnSpPr>
            <p:cNvPr id="312" name=""/>
            <p:cNvCxnSpPr>
              <a:stCxn id="304" idx="4"/>
              <a:endCxn id="302" idx="0"/>
            </p:cNvCxnSpPr>
            <p:nvPr/>
          </p:nvCxnSpPr>
          <p:spPr>
            <a:xfrm>
              <a:off x="1914480" y="4038120"/>
              <a:ext cx="3722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" name=""/>
            <p:cNvCxnSpPr>
              <a:stCxn id="304" idx="4"/>
              <a:endCxn id="303" idx="0"/>
            </p:cNvCxnSpPr>
            <p:nvPr/>
          </p:nvCxnSpPr>
          <p:spPr>
            <a:xfrm>
              <a:off x="1914480" y="4038120"/>
              <a:ext cx="136296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4" name=""/>
            <p:cNvCxnSpPr>
              <a:stCxn id="305" idx="4"/>
              <a:endCxn id="303" idx="0"/>
            </p:cNvCxnSpPr>
            <p:nvPr/>
          </p:nvCxnSpPr>
          <p:spPr>
            <a:xfrm>
              <a:off x="2885760" y="4038120"/>
              <a:ext cx="39132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5" name=""/>
            <p:cNvCxnSpPr>
              <a:stCxn id="305" idx="4"/>
              <a:endCxn id="302" idx="0"/>
            </p:cNvCxnSpPr>
            <p:nvPr/>
          </p:nvCxnSpPr>
          <p:spPr>
            <a:xfrm flipH="1">
              <a:off x="2285280" y="4038120"/>
              <a:ext cx="6008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6" name=""/>
            <p:cNvCxnSpPr>
              <a:stCxn id="306" idx="4"/>
              <a:endCxn id="303" idx="0"/>
            </p:cNvCxnSpPr>
            <p:nvPr/>
          </p:nvCxnSpPr>
          <p:spPr>
            <a:xfrm flipH="1">
              <a:off x="3276360" y="4038120"/>
              <a:ext cx="69552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7" name=""/>
            <p:cNvCxnSpPr>
              <a:stCxn id="306" idx="4"/>
              <a:endCxn id="302" idx="0"/>
            </p:cNvCxnSpPr>
            <p:nvPr/>
          </p:nvCxnSpPr>
          <p:spPr>
            <a:xfrm flipH="1">
              <a:off x="2285280" y="4038120"/>
              <a:ext cx="168660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318" name=""/>
          <p:cNvGrpSpPr/>
          <p:nvPr/>
        </p:nvGrpSpPr>
        <p:grpSpPr>
          <a:xfrm>
            <a:off x="1371240" y="2666520"/>
            <a:ext cx="3133800" cy="762480"/>
            <a:chOff x="1371240" y="2666520"/>
            <a:chExt cx="3133800" cy="762480"/>
          </a:xfrm>
        </p:grpSpPr>
        <p:cxnSp>
          <p:nvCxnSpPr>
            <p:cNvPr id="319" name=""/>
            <p:cNvCxnSpPr>
              <a:stCxn id="307" idx="4"/>
              <a:endCxn id="304" idx="0"/>
            </p:cNvCxnSpPr>
            <p:nvPr/>
          </p:nvCxnSpPr>
          <p:spPr>
            <a:xfrm>
              <a:off x="1371240" y="2666520"/>
              <a:ext cx="40212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0" name=""/>
            <p:cNvCxnSpPr>
              <a:stCxn id="307" idx="4"/>
              <a:endCxn id="305" idx="0"/>
            </p:cNvCxnSpPr>
            <p:nvPr/>
          </p:nvCxnSpPr>
          <p:spPr>
            <a:xfrm>
              <a:off x="1371240" y="2666520"/>
              <a:ext cx="142668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1" name=""/>
            <p:cNvCxnSpPr>
              <a:stCxn id="307" idx="4"/>
              <a:endCxn id="306" idx="0"/>
            </p:cNvCxnSpPr>
            <p:nvPr/>
          </p:nvCxnSpPr>
          <p:spPr>
            <a:xfrm>
              <a:off x="1371600" y="2666520"/>
              <a:ext cx="25718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2" name=""/>
            <p:cNvCxnSpPr>
              <a:stCxn id="308" idx="4"/>
              <a:endCxn id="304" idx="0"/>
            </p:cNvCxnSpPr>
            <p:nvPr/>
          </p:nvCxnSpPr>
          <p:spPr>
            <a:xfrm flipH="1">
              <a:off x="1772640" y="2666520"/>
              <a:ext cx="72360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3" name=""/>
            <p:cNvCxnSpPr>
              <a:stCxn id="309" idx="4"/>
              <a:endCxn id="304" idx="0"/>
            </p:cNvCxnSpPr>
            <p:nvPr/>
          </p:nvCxnSpPr>
          <p:spPr>
            <a:xfrm flipH="1">
              <a:off x="1772640" y="2666520"/>
              <a:ext cx="176832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4" name=""/>
            <p:cNvCxnSpPr>
              <a:stCxn id="310" idx="4"/>
              <a:endCxn id="304" idx="0"/>
            </p:cNvCxnSpPr>
            <p:nvPr/>
          </p:nvCxnSpPr>
          <p:spPr>
            <a:xfrm flipH="1">
              <a:off x="1772640" y="2666520"/>
              <a:ext cx="273240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5" name=""/>
            <p:cNvCxnSpPr>
              <a:stCxn id="308" idx="4"/>
              <a:endCxn id="305" idx="0"/>
            </p:cNvCxnSpPr>
            <p:nvPr/>
          </p:nvCxnSpPr>
          <p:spPr>
            <a:xfrm>
              <a:off x="2495880" y="2666520"/>
              <a:ext cx="3020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6" name=""/>
            <p:cNvCxnSpPr>
              <a:stCxn id="308" idx="4"/>
              <a:endCxn id="306" idx="0"/>
            </p:cNvCxnSpPr>
            <p:nvPr/>
          </p:nvCxnSpPr>
          <p:spPr>
            <a:xfrm>
              <a:off x="2495880" y="2666520"/>
              <a:ext cx="14468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7" name=""/>
            <p:cNvCxnSpPr>
              <a:stCxn id="309" idx="4"/>
              <a:endCxn id="305" idx="0"/>
            </p:cNvCxnSpPr>
            <p:nvPr/>
          </p:nvCxnSpPr>
          <p:spPr>
            <a:xfrm flipH="1">
              <a:off x="2797200" y="2666520"/>
              <a:ext cx="74376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8" name=""/>
            <p:cNvCxnSpPr>
              <a:stCxn id="309" idx="4"/>
              <a:endCxn id="306" idx="0"/>
            </p:cNvCxnSpPr>
            <p:nvPr/>
          </p:nvCxnSpPr>
          <p:spPr>
            <a:xfrm>
              <a:off x="3540600" y="2666520"/>
              <a:ext cx="40212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29" name=""/>
            <p:cNvCxnSpPr>
              <a:stCxn id="310" idx="4"/>
              <a:endCxn id="305" idx="0"/>
            </p:cNvCxnSpPr>
            <p:nvPr/>
          </p:nvCxnSpPr>
          <p:spPr>
            <a:xfrm flipH="1">
              <a:off x="2796840" y="2666520"/>
              <a:ext cx="170820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0" name=""/>
            <p:cNvCxnSpPr>
              <a:stCxn id="310" idx="4"/>
              <a:endCxn id="306" idx="0"/>
            </p:cNvCxnSpPr>
            <p:nvPr/>
          </p:nvCxnSpPr>
          <p:spPr>
            <a:xfrm flipH="1">
              <a:off x="3942360" y="2666520"/>
              <a:ext cx="5630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331" name=""/>
          <p:cNvGrpSpPr/>
          <p:nvPr/>
        </p:nvGrpSpPr>
        <p:grpSpPr>
          <a:xfrm>
            <a:off x="914400" y="1371600"/>
            <a:ext cx="3962160" cy="609480"/>
            <a:chOff x="914400" y="1371600"/>
            <a:chExt cx="3962160" cy="609480"/>
          </a:xfrm>
        </p:grpSpPr>
        <p:sp>
          <p:nvSpPr>
            <p:cNvPr id="332" name=""/>
            <p:cNvSpPr/>
            <p:nvPr/>
          </p:nvSpPr>
          <p:spPr>
            <a:xfrm>
              <a:off x="914400" y="1371600"/>
              <a:ext cx="66024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52440" y="1371600"/>
              <a:ext cx="66024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25240" y="1371600"/>
              <a:ext cx="660600" cy="609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98760" y="1371600"/>
              <a:ext cx="577800" cy="609480"/>
            </a:xfrm>
            <a:prstGeom prst="downArrow">
              <a:avLst>
                <a:gd name="adj1" fmla="val 50000"/>
                <a:gd name="adj2" fmla="val 26371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981080" y="5562720"/>
            <a:ext cx="1600200" cy="761760"/>
            <a:chOff x="1981080" y="5562720"/>
            <a:chExt cx="1600200" cy="761760"/>
          </a:xfrm>
        </p:grpSpPr>
        <p:sp>
          <p:nvSpPr>
            <p:cNvPr id="337" name=""/>
            <p:cNvSpPr/>
            <p:nvPr/>
          </p:nvSpPr>
          <p:spPr>
            <a:xfrm>
              <a:off x="2666880" y="58672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81080" y="556272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8120" y="5562720"/>
              <a:ext cx="533160" cy="609480"/>
            </a:xfrm>
            <a:prstGeom prst="downArrow">
              <a:avLst>
                <a:gd name="adj1" fmla="val 50000"/>
                <a:gd name="adj2" fmla="val 28579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5520" y="160020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a layer neurons are NOT  connected to each othe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ron in one layer is connected to neurons ONLY in the NEXT layer. (Feed-forw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81480" y="3657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mping of layer is NOT 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295280" y="2154960"/>
            <a:ext cx="2819520" cy="3066120"/>
            <a:chOff x="1295280" y="2154960"/>
            <a:chExt cx="2819520" cy="3066120"/>
          </a:xfrm>
        </p:grpSpPr>
        <p:sp>
          <p:nvSpPr>
            <p:cNvPr id="343" name=""/>
            <p:cNvSpPr/>
            <p:nvPr/>
          </p:nvSpPr>
          <p:spPr>
            <a:xfrm>
              <a:off x="1295280" y="23623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86000" y="51055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71800" y="37339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2687760" y="4898160"/>
              <a:ext cx="322920" cy="322920"/>
              <a:chOff x="2687760" y="4898160"/>
              <a:chExt cx="322920" cy="322920"/>
            </a:xfrm>
          </p:grpSpPr>
          <p:sp>
            <p:nvSpPr>
              <p:cNvPr id="347" name=""/>
              <p:cNvSpPr/>
              <p:nvPr/>
            </p:nvSpPr>
            <p:spPr>
              <a:xfrm rot="2700000">
                <a:off x="2803680" y="4876560"/>
                <a:ext cx="91080" cy="365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8100000">
                <a:off x="2803680" y="4876560"/>
                <a:ext cx="91080" cy="365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221640" y="3526560"/>
              <a:ext cx="322560" cy="322560"/>
              <a:chOff x="3221640" y="3526560"/>
              <a:chExt cx="322560" cy="322560"/>
            </a:xfrm>
          </p:grpSpPr>
          <p:sp>
            <p:nvSpPr>
              <p:cNvPr id="350" name=""/>
              <p:cNvSpPr/>
              <p:nvPr/>
            </p:nvSpPr>
            <p:spPr>
              <a:xfrm rot="2700000">
                <a:off x="3337200" y="3504960"/>
                <a:ext cx="91080" cy="365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8100000">
                <a:off x="3337200" y="3504960"/>
                <a:ext cx="91080" cy="365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1697760" y="2154960"/>
              <a:ext cx="322560" cy="322560"/>
              <a:chOff x="1697760" y="2154960"/>
              <a:chExt cx="322560" cy="322560"/>
            </a:xfrm>
          </p:grpSpPr>
          <p:sp>
            <p:nvSpPr>
              <p:cNvPr id="353" name=""/>
              <p:cNvSpPr/>
              <p:nvPr/>
            </p:nvSpPr>
            <p:spPr>
              <a:xfrm rot="2700000">
                <a:off x="1813320" y="2133360"/>
                <a:ext cx="91080" cy="365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8100000">
                <a:off x="1813320" y="2133360"/>
                <a:ext cx="91080" cy="365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5" name=""/>
          <p:cNvGrpSpPr/>
          <p:nvPr/>
        </p:nvGrpSpPr>
        <p:grpSpPr>
          <a:xfrm>
            <a:off x="478440" y="2362320"/>
            <a:ext cx="1502640" cy="2819160"/>
            <a:chOff x="478440" y="2362320"/>
            <a:chExt cx="1502640" cy="2819160"/>
          </a:xfrm>
        </p:grpSpPr>
        <p:sp>
          <p:nvSpPr>
            <p:cNvPr id="356" name=""/>
            <p:cNvSpPr/>
            <p:nvPr/>
          </p:nvSpPr>
          <p:spPr>
            <a:xfrm>
              <a:off x="520560" y="2362320"/>
              <a:ext cx="1460520" cy="2819160"/>
            </a:xfrm>
            <a:custGeom>
              <a:avLst/>
              <a:gdLst/>
              <a:ahLst/>
              <a:rect l="l" t="t" r="r" b="b"/>
              <a:pathLst>
                <a:path w="920" h="1776">
                  <a:moveTo>
                    <a:pt x="296" y="0"/>
                  </a:moveTo>
                  <a:cubicBezTo>
                    <a:pt x="148" y="428"/>
                    <a:pt x="0" y="856"/>
                    <a:pt x="104" y="1152"/>
                  </a:cubicBezTo>
                  <a:cubicBezTo>
                    <a:pt x="208" y="1448"/>
                    <a:pt x="564" y="1612"/>
                    <a:pt x="920" y="17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478440" y="3678840"/>
              <a:ext cx="322560" cy="322560"/>
              <a:chOff x="478440" y="3678840"/>
              <a:chExt cx="322560" cy="322560"/>
            </a:xfrm>
          </p:grpSpPr>
          <p:sp>
            <p:nvSpPr>
              <p:cNvPr id="358" name=""/>
              <p:cNvSpPr/>
              <p:nvPr/>
            </p:nvSpPr>
            <p:spPr>
              <a:xfrm rot="2700000">
                <a:off x="594000" y="3657240"/>
                <a:ext cx="91080" cy="365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8100000">
                <a:off x="594000" y="3657240"/>
                <a:ext cx="91080" cy="3650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0" name=""/>
          <p:cNvSpPr/>
          <p:nvPr/>
        </p:nvSpPr>
        <p:spPr>
          <a:xfrm>
            <a:off x="72000" y="114480"/>
            <a:ext cx="37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ANN – Feed-forward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528480" y="669960"/>
            <a:ext cx="51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we mean by ‘ A particular Model ‘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4040" y="1143000"/>
            <a:ext cx="210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: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52680" y="11430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4120" y="114300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: Y = 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198108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n AN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54400" y="1981080"/>
            <a:ext cx="62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ebraic form of f(.) is too complicated to write d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78200" y="2743200"/>
            <a:ext cx="40730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 it is characteriz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Input Neu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Hidden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Neurons in each Hidden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utput Neu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S for all the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1560" y="5181480"/>
            <a:ext cx="79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tting ‘ an ANN model = Specifying values for all those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4160" y="11448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One particular AN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11:01:46Z</dcterms:created>
  <dc:creator>Angshuman Saha</dc:creator>
  <dc:description/>
  <dc:language>en-US</dc:language>
  <cp:lastModifiedBy>GE Global Research</cp:lastModifiedBy>
  <dcterms:modified xsi:type="dcterms:W3CDTF">2003-08-25T01:39:46Z</dcterms:modified>
  <cp:revision>129</cp:revision>
  <dc:subject/>
  <dc:title>PowerPoint Presentation</dc:title>
</cp:coreProperties>
</file>