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AADC-F775-43F2-B3FC-366B59952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FFA-0770-4617-A6A4-36BACFFC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540-916C-4ED6-9F1E-C5A437ED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D6B3-8278-4DCB-8DB9-85D02FDA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F7FD-5A5C-4135-9550-45C52C00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0962-64DD-4830-AA84-85D0CD9F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AA84-DB29-4A65-ADEE-4EC82080D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57BA-784F-4986-AE38-56DF6C40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AEB8-6BF6-45AA-9530-9345751E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6892-4307-4F28-9F9F-5004624C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F4CE-B55C-49FB-BBA3-A8289DAA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9ED9-FE50-4D21-8036-77946577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D7E6-809B-44CE-ABF2-EA9B3FAF8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1C7B-BBE7-4DE2-923A-3AC3CF50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59C56-DA81-4D75-AC8C-3C89D001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29F4-9FB7-4683-AF62-605401A75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5C8A-6804-4FA3-A4A7-228E3006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E2EA-3DAC-44E7-97CB-5420FE08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FAE-C018-455E-9CBE-73513D9B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B3F8-396B-4675-93B0-FC8768D7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1627-B91A-4F91-BE0A-832A4DA36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5E26-47DA-44AF-B581-52ECDE6D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1337-4099-428C-A1AB-DAC7DB0BA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CC20-8429-4B4A-AC49-9A97BA5F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541F-45FB-4182-AB74-56F1C7A150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D604-F831-48F4-8A69-55CD9A712C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57400" y="-360"/>
            <a:ext cx="6399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336699"/>
                </a:solidFill>
                <a:latin typeface="Arial Narrow"/>
              </a:rPr>
              <a:t>Recuperação de Informação B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0574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ap. 02: Modeling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(Generalized Vector Model  &amp;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Neural Network Model)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2.7.1, 2.7.3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eptember 15, 1999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48948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187200"/>
            <a:ext cx="6553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Computation of Index Term Vectors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2438280" y="1066680"/>
          <a:ext cx="7134480" cy="311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066680"/>
                    <a:ext cx="713448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6308640" y="152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43000" y="2286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09480" y="3352680"/>
            <a:ext cx="8076960" cy="4114800"/>
            <a:chOff x="609480" y="3352680"/>
            <a:chExt cx="8076960" cy="4114800"/>
          </a:xfrm>
        </p:grpSpPr>
        <p:sp>
          <p:nvSpPr>
            <p:cNvPr id="169" name=""/>
            <p:cNvSpPr/>
            <p:nvPr/>
          </p:nvSpPr>
          <p:spPr>
            <a:xfrm>
              <a:off x="6841800" y="39621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09480" y="3352680"/>
              <a:ext cx="807696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k1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= </a:t>
              </a:r>
              <a:r>
                <a:rPr b="0" lang="pt-BR" sz="2600" spc="-1" strike="noStrike" u="sng">
                  <a:solidFill>
                    <a:srgbClr val="009999"/>
                  </a:solidFill>
                  <a:uFillTx/>
                  <a:latin typeface="Arial"/>
                </a:rPr>
                <a:t>           1            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  (3 </a:t>
              </a: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m2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+ 2 </a:t>
              </a: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m6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+ </a:t>
              </a: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m8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     sqrt(3  + 2   + 1  )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k2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= </a:t>
              </a:r>
              <a:r>
                <a:rPr b="0" lang="pt-BR" sz="2600" spc="-1" strike="noStrike" u="sng">
                  <a:solidFill>
                    <a:srgbClr val="009999"/>
                  </a:solidFill>
                  <a:uFillTx/>
                  <a:latin typeface="Arial"/>
                </a:rPr>
                <a:t>           1            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  (5 </a:t>
              </a: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m3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+ 3 </a:t>
              </a: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m7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+ 2  </a:t>
              </a: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m8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     sqrt(5  + 3   + 2  )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49"/>
                </a:spcBef>
                <a:buClr>
                  <a:srgbClr val="336699"/>
                </a:buClr>
                <a:buSzPct val="75000"/>
                <a:buFont typeface="Monotype Sort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k3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= </a:t>
              </a:r>
              <a:r>
                <a:rPr b="0" lang="pt-BR" sz="2600" spc="-1" strike="noStrike" u="sng">
                  <a:solidFill>
                    <a:srgbClr val="009999"/>
                  </a:solidFill>
                  <a:uFillTx/>
                  <a:latin typeface="Arial"/>
                </a:rPr>
                <a:t>           1            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  (1 </a:t>
              </a: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m6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+ 5 </a:t>
              </a: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m7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+ 4 </a:t>
              </a:r>
              <a:r>
                <a:rPr b="1" lang="pt-BR" sz="2600" spc="-1" strike="noStrike">
                  <a:solidFill>
                    <a:srgbClr val="009999"/>
                  </a:solidFill>
                  <a:latin typeface="Arial"/>
                </a:rPr>
                <a:t>m8 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600" spc="-1" strike="noStrike">
                  <a:solidFill>
                    <a:srgbClr val="009999"/>
                  </a:solidFill>
                  <a:latin typeface="Arial"/>
                </a:rPr>
                <a:t>      sqrt(1  + 5   + 4  )</a:t>
              </a:r>
              <a:endParaRPr b="0" lang="en-US" sz="2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96560" y="3733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82360" y="3733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8160" y="373356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896560" y="4572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582360" y="4572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8160" y="4572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96560" y="5410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582360" y="5410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44480" y="5410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60720" y="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52280"/>
            <a:ext cx="6553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Computation of Document Vectors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80240" y="15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14240" y="2286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152280" y="2895480"/>
            <a:ext cx="8076960" cy="4114800"/>
            <a:chOff x="152280" y="2895480"/>
            <a:chExt cx="8076960" cy="4114800"/>
          </a:xfrm>
        </p:grpSpPr>
        <p:sp>
          <p:nvSpPr>
            <p:cNvPr id="185" name=""/>
            <p:cNvSpPr/>
            <p:nvPr/>
          </p:nvSpPr>
          <p:spPr>
            <a:xfrm>
              <a:off x="6384600" y="3504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52280" y="2895480"/>
              <a:ext cx="807696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1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           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2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3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 =             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3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4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5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4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6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        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7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          5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q  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 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3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438280" y="3276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24080" y="3276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09880" y="32763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38280" y="41148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24080" y="41148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09880" y="41148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38280" y="49528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24080" y="49528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5840" y="49528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aphicFrame>
        <p:nvGraphicFramePr>
          <p:cNvPr id="196" name=""/>
          <p:cNvGraphicFramePr/>
          <p:nvPr/>
        </p:nvGraphicFramePr>
        <p:xfrm>
          <a:off x="2209680" y="685800"/>
          <a:ext cx="6934320" cy="313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685800"/>
                    <a:ext cx="69343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1066680" y="609480"/>
            <a:ext cx="8076960" cy="4114800"/>
            <a:chOff x="1066680" y="609480"/>
            <a:chExt cx="8076960" cy="4114800"/>
          </a:xfrm>
        </p:grpSpPr>
        <p:sp>
          <p:nvSpPr>
            <p:cNvPr id="199" name=""/>
            <p:cNvSpPr/>
            <p:nvPr/>
          </p:nvSpPr>
          <p:spPr>
            <a:xfrm>
              <a:off x="7299000" y="12189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066680" y="609480"/>
              <a:ext cx="807696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</a:t>
              </a:r>
              <a:r>
                <a:rPr b="0" lang="pt-BR" sz="2400" spc="-1" strike="noStrike" u="sng">
                  <a:solidFill>
                    <a:srgbClr val="009999"/>
                  </a:solidFill>
                  <a:uFillTx/>
                  <a:latin typeface="Arial"/>
                </a:rPr>
                <a:t>           1           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   (3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m2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m6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m8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sqrt(3  + 2   + 1  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</a:t>
              </a:r>
              <a:r>
                <a:rPr b="0" lang="pt-BR" sz="2400" spc="-1" strike="noStrike" u="sng">
                  <a:solidFill>
                    <a:srgbClr val="009999"/>
                  </a:solidFill>
                  <a:uFillTx/>
                  <a:latin typeface="Arial"/>
                </a:rPr>
                <a:t>           1           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   (5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m3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3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m7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2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m8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sqrt(5  + 3   + 2  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</a:t>
              </a:r>
              <a:r>
                <a:rPr b="0" lang="pt-BR" sz="2400" spc="-1" strike="noStrike" u="sng">
                  <a:solidFill>
                    <a:srgbClr val="009999"/>
                  </a:solidFill>
                  <a:uFillTx/>
                  <a:latin typeface="Arial"/>
                </a:rPr>
                <a:t>           1           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   (1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m6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5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m7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4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m8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)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sqrt(1  + 5   + 4  )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58680" y="914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68160" y="914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53960" y="914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8680" y="1752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68160" y="1752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53960" y="1752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5868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26816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95396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19320" y="3124080"/>
            <a:ext cx="8076960" cy="4114800"/>
            <a:chOff x="1219320" y="3124080"/>
            <a:chExt cx="8076960" cy="4114800"/>
          </a:xfrm>
        </p:grpSpPr>
        <p:sp>
          <p:nvSpPr>
            <p:cNvPr id="211" name=""/>
            <p:cNvSpPr/>
            <p:nvPr/>
          </p:nvSpPr>
          <p:spPr>
            <a:xfrm>
              <a:off x="7451640" y="373356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219320" y="3124080"/>
              <a:ext cx="807696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normAutofit/>
            </a:bodyPr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1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           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2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3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 =             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3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4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5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4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6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        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d7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          5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601"/>
                </a:spcBef>
                <a:buClr>
                  <a:srgbClr val="ff9966"/>
                </a:buClr>
                <a:buSzPct val="65000"/>
                <a:buFont typeface="Monotype Sorts" charset="2"/>
                <a:buChar char="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q  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=    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1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2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2  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+  3 </a:t>
              </a:r>
              <a:r>
                <a:rPr b="1" lang="pt-BR" sz="2400" spc="-1" strike="noStrike">
                  <a:solidFill>
                    <a:srgbClr val="009999"/>
                  </a:solidFill>
                  <a:latin typeface="Arial"/>
                </a:rPr>
                <a:t>k3 </a:t>
              </a:r>
              <a:r>
                <a:rPr b="0" lang="pt-BR" sz="2400" spc="-1" strike="noStrike">
                  <a:solidFill>
                    <a:srgbClr val="009999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05320" y="35049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191120" y="35049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76920" y="35049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505320" y="43434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3434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876920" y="434340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05320" y="5181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91120" y="518148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52880" y="5181480"/>
              <a:ext cx="18432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380880" y="152280"/>
            <a:ext cx="6553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Ranking Computation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lus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el considers correlations among index term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ot clear in which situations it is superior to the standard Vector mod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omputation costs are higher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Model does introduce interesting new ideas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2120" y="0"/>
            <a:ext cx="71629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336699"/>
                </a:solidFill>
                <a:latin typeface="Arial Narrow"/>
              </a:rPr>
              <a:t>Generalized Vector Mode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Classic models enforce independence of index terms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or the Vector model: 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53760" indent="-25128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et of term vectors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{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k1, k2, ..., kt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} are linearly independent and form a basis for the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subspace of interest.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Frequently, this is interpreted as: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653760" indent="-2512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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,j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ki </a:t>
            </a:r>
            <a:r>
              <a:rPr b="1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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 kj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= 0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99"/>
                </a:solidFill>
                <a:latin typeface="Arial"/>
              </a:rPr>
              <a:t>In 1985, Wong, Ziarko, and Wong proposed an interpretation in which the set of terms is linearly independent, but not pairwise orthogonal.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 Narrow"/>
              </a:rPr>
              <a:t>Key Idea</a:t>
            </a: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: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30492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8000"/>
          </a:bodyPr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n the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generalized vector model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, two index terms might be non-orthogonal and are represented in terms of smaller components (minterms).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s before let,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891360" indent="-1782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wij be the weight associated with [ki,dj]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891360" indent="-1782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{k1, k2, ..., kt} be the set of all term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579240" indent="-222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If these weights are all binary, all patterns of occurrence of terms within documents can be represented by the minterms: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891360" indent="-1782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1 = (0,0, ..., 0)        m5 = (0,0,1, ..., 0) 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2 = (1,0, ..., 0)         •                  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3 = (0,1, ..., 0)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•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4 = (1,1, ..., 0)        m2  = (1,1,1, ..., 1)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891360" indent="-1782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In here, m2 indicates documents in which solely the term k1 occurs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891360" indent="-1782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8720" y="5181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860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Key Idea: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6858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basis for the  </a:t>
            </a:r>
            <a:r>
              <a:rPr b="0" i="1" lang="pt-BR" sz="2600" spc="-1" strike="noStrike">
                <a:solidFill>
                  <a:srgbClr val="009999"/>
                </a:solidFill>
                <a:latin typeface="Arial"/>
              </a:rPr>
              <a:t>generalized vector model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is formed by a set of 2  vectors defined over the set of minterms, as follows: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0  1  2  ...    2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m1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= (1, 0, 0, ..., 0, 0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m2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= (0, 1, 0, ..., 0, 0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m3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= (0, 0, 1, ..., 0, 0)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•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•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•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m2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= (0, 0, 0, ..., 0, 1)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Notice that,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1108440" indent="-22140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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i,j  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mi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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mj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= 0  i.e., pairwise orthog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344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35160" y="5029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8600" y="15228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Key Idea: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2000"/>
          </a:bodyPr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Minterm vectors are pairwise orthogonal. But, this does not mean that the index terms are independent: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he minterm m4 is given by: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m4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= (1, 1, 0, ..., 0, 0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his minterm indicates the occurrence of the terms k1  and  k2  within a same document. If such document exists in a collection, we say that the minterm m4 is active and that a dependency between these two terms is induced.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he generalized vector model adopts as a basic foundation the notion that cooccurence of terms within documents induces dependencies among them.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143000" y="2286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lvl="1" marL="676080" indent="-25992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e vector associated with the term ki is computed as: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            c    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mr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ki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= 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</a:rPr>
              <a:t>                               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sqrt(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         c    ) 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c    = </a:t>
            </a:r>
            <a:r>
              <a:rPr b="0" lang="pt-BR" sz="24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                        wij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The weight c    associated with the pair [ki,mr] sums up  the weights of the term ki in all the documents which have a term occurrence pattern given by mr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99"/>
                </a:solidFill>
                <a:latin typeface="Arial"/>
              </a:rPr>
              <a:t>Notice that for a collection of size N, only N minterms affect the ranking (and not 2  )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Forming the Term Vector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980360" y="1676520"/>
            <a:ext cx="1456200" cy="461160"/>
            <a:chOff x="1980360" y="1676520"/>
            <a:chExt cx="1456200" cy="461160"/>
          </a:xfrm>
        </p:grpSpPr>
        <p:sp>
          <p:nvSpPr>
            <p:cNvPr id="102" name=""/>
            <p:cNvSpPr/>
            <p:nvPr/>
          </p:nvSpPr>
          <p:spPr>
            <a:xfrm>
              <a:off x="1980360" y="1676520"/>
              <a:ext cx="145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</a:t>
              </a:r>
              <a:r>
                <a:rPr b="0" lang="pt-BR" sz="1800" spc="-1" strike="noStrike">
                  <a:solidFill>
                    <a:srgbClr val="009999"/>
                  </a:solidFill>
                  <a:latin typeface="Times New Roman"/>
                </a:rPr>
                <a:t>r, g  (m  )=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15680" y="18306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99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821320" y="18306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3658680" y="16002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i,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666160" y="2362320"/>
            <a:ext cx="1456200" cy="461160"/>
            <a:chOff x="2666160" y="2362320"/>
            <a:chExt cx="1456200" cy="461160"/>
          </a:xfrm>
        </p:grpSpPr>
        <p:sp>
          <p:nvSpPr>
            <p:cNvPr id="107" name=""/>
            <p:cNvSpPr/>
            <p:nvPr/>
          </p:nvSpPr>
          <p:spPr>
            <a:xfrm>
              <a:off x="2666160" y="2362320"/>
              <a:ext cx="145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</a:t>
              </a:r>
              <a:r>
                <a:rPr b="0" lang="pt-BR" sz="1800" spc="-1" strike="noStrike">
                  <a:solidFill>
                    <a:srgbClr val="009999"/>
                  </a:solidFill>
                  <a:latin typeface="Times New Roman"/>
                </a:rPr>
                <a:t>r, g  (m  )=1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1480" y="2516400"/>
              <a:ext cx="23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99"/>
                  </a:solidFill>
                  <a:latin typeface="Times New Roman"/>
                </a:rPr>
                <a:t>i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507120" y="2516400"/>
              <a:ext cx="259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115880" y="23623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i,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2560" y="21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6360" y="32004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i,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132640" y="3276720"/>
            <a:ext cx="21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dj | </a:t>
            </a:r>
            <a:r>
              <a:rPr b="0" lang="pt-BR" sz="1800" spc="-1" strike="noStrike">
                <a:solidFill>
                  <a:srgbClr val="009999"/>
                </a:solidFill>
                <a:latin typeface="Symbol"/>
                <a:ea typeface="Symbol"/>
              </a:rPr>
              <a:t>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l, gl(</a:t>
            </a:r>
            <a:r>
              <a:rPr b="1" lang="pt-BR" sz="1800" spc="-1" strike="noStrike">
                <a:solidFill>
                  <a:srgbClr val="009999"/>
                </a:solidFill>
                <a:latin typeface="Times New Roman"/>
              </a:rPr>
              <a:t>dj</a:t>
            </a: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)=gl(mr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96560" y="396252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i,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4320" y="52578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43000" y="22860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" y="914400"/>
            <a:ext cx="891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A degree of correlation between the terms ki and kj can now be computed as: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  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ki • kj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=  </a:t>
            </a:r>
            <a:r>
              <a:rPr b="0" lang="pt-BR" sz="2600" spc="-1" strike="noStrike">
                <a:solidFill>
                  <a:srgbClr val="009999"/>
                </a:solidFill>
                <a:latin typeface="Symbol"/>
                <a:ea typeface="Symbol"/>
              </a:rPr>
              <a:t>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              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	</a:t>
            </a: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      c   *  c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9999"/>
                </a:solidFill>
                <a:latin typeface="Arial"/>
              </a:rPr>
              <a:t>This degree of correlation sums up (in a weighted form) the dependencies between ki and kj induced by the documents in the collection (represented by the mr minterms).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 Narrow"/>
              </a:rPr>
              <a:t>Dependency between Index Terms</a:t>
            </a:r>
            <a:endParaRPr b="0" lang="en-US" sz="3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9960" y="22860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j,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478200" y="228600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99"/>
                </a:solidFill>
                <a:latin typeface="Times New Roman"/>
              </a:rPr>
              <a:t>i,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60560" y="2362320"/>
            <a:ext cx="2568960" cy="489600"/>
            <a:chOff x="3760560" y="2362320"/>
            <a:chExt cx="2568960" cy="489600"/>
          </a:xfrm>
        </p:grpSpPr>
        <p:grpSp>
          <p:nvGrpSpPr>
            <p:cNvPr id="122" name=""/>
            <p:cNvGrpSpPr/>
            <p:nvPr/>
          </p:nvGrpSpPr>
          <p:grpSpPr>
            <a:xfrm>
              <a:off x="3760560" y="2362320"/>
              <a:ext cx="2568960" cy="461160"/>
              <a:chOff x="3760560" y="2362320"/>
              <a:chExt cx="2568960" cy="461160"/>
            </a:xfrm>
          </p:grpSpPr>
          <p:sp>
            <p:nvSpPr>
              <p:cNvPr id="123" name=""/>
              <p:cNvSpPr/>
              <p:nvPr/>
            </p:nvSpPr>
            <p:spPr>
              <a:xfrm>
                <a:off x="3760560" y="2362320"/>
                <a:ext cx="2568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9999"/>
                    </a:solidFill>
                    <a:latin typeface="Symbol"/>
                    <a:ea typeface="Symbol"/>
                  </a:rPr>
                  <a:t></a:t>
                </a:r>
                <a:r>
                  <a:rPr b="0" lang="pt-BR" sz="1800" spc="-1" strike="noStrike">
                    <a:solidFill>
                      <a:srgbClr val="009999"/>
                    </a:solidFill>
                    <a:latin typeface="Times New Roman"/>
                  </a:rPr>
                  <a:t>r, g  (m  )=1 </a:t>
                </a:r>
                <a:r>
                  <a:rPr b="0" lang="pt-BR" sz="1800" spc="-1" strike="noStrike">
                    <a:solidFill>
                      <a:srgbClr val="009999"/>
                    </a:solidFill>
                    <a:latin typeface="Symbol"/>
                    <a:ea typeface="Symbol"/>
                  </a:rPr>
                  <a:t></a:t>
                </a:r>
                <a:r>
                  <a:rPr b="0" lang="pt-BR" sz="1800" spc="-1" strike="noStrike">
                    <a:solidFill>
                      <a:srgbClr val="009999"/>
                    </a:solidFill>
                    <a:latin typeface="Times New Roman"/>
                  </a:rPr>
                  <a:t> g  (m  )=1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68520" y="2516400"/>
                <a:ext cx="23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9999"/>
                    </a:solidFill>
                    <a:latin typeface="Times New Roman"/>
                  </a:rPr>
                  <a:t>i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574160" y="2516400"/>
                <a:ext cx="259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400" spc="-1" strike="noStrike">
                    <a:solidFill>
                      <a:srgbClr val="009999"/>
                    </a:solidFill>
                    <a:latin typeface="Times New Roman"/>
                  </a:rPr>
                  <a:t>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>
              <a:off x="5412240" y="2514600"/>
              <a:ext cx="24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j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16800" y="2462040"/>
              <a:ext cx="27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152280"/>
            <a:ext cx="525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The Generalized Vector Model: An Example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62485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44120" y="457200"/>
            <a:ext cx="3036600" cy="2375640"/>
            <a:chOff x="4344120" y="457200"/>
            <a:chExt cx="3036600" cy="2375640"/>
          </a:xfrm>
        </p:grpSpPr>
        <p:sp>
          <p:nvSpPr>
            <p:cNvPr id="131" name=""/>
            <p:cNvSpPr/>
            <p:nvPr/>
          </p:nvSpPr>
          <p:spPr>
            <a:xfrm>
              <a:off x="4495680" y="609480"/>
              <a:ext cx="1675800" cy="160020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57440" y="1295280"/>
              <a:ext cx="1752480" cy="1524240"/>
            </a:xfrm>
            <a:prstGeom prst="ellipse">
              <a:avLst/>
            </a:prstGeom>
            <a:noFill/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62360" y="457200"/>
              <a:ext cx="1752120" cy="160020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10800" y="1752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77280" y="10666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248880" y="1600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725000" y="1447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15360" y="14479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5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39400" y="99072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53800" y="8380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10000"/>
                  </a:solidFill>
                  <a:latin typeface="Times New Roman"/>
                </a:rPr>
                <a:t>d7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44120" y="60948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99"/>
                  </a:solidFill>
                  <a:latin typeface="Times New Roman"/>
                </a:rPr>
                <a:t>k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11000" y="45720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ff0000"/>
                  </a:solidFill>
                  <a:latin typeface="Times New Roman"/>
                </a:rPr>
                <a:t>k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66200" y="2525760"/>
              <a:ext cx="36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9900"/>
                  </a:solidFill>
                  <a:latin typeface="Times New Roman"/>
                </a:rPr>
                <a:t>k3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aphicFrame>
        <p:nvGraphicFramePr>
          <p:cNvPr id="144" name=""/>
          <p:cNvGraphicFramePr/>
          <p:nvPr/>
        </p:nvGraphicFramePr>
        <p:xfrm>
          <a:off x="452520" y="3119400"/>
          <a:ext cx="8561160" cy="348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3119400"/>
                    <a:ext cx="856116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228600" y="1143000"/>
          <a:ext cx="6934320" cy="313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43000"/>
                    <a:ext cx="69343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718080" y="4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228600"/>
            <a:ext cx="5257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 Narrow"/>
              </a:rPr>
              <a:t>Computation of C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53960" y="45720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Times New Roman"/>
              </a:rPr>
              <a:t>i,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495680" y="1143000"/>
          <a:ext cx="7386840" cy="3119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143000"/>
                    <a:ext cx="738684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3962520" y="4572000"/>
          <a:ext cx="7667640" cy="3119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62520" y="4572000"/>
                    <a:ext cx="7667640" cy="31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71470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5372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81600" y="3809880"/>
            <a:ext cx="3268440" cy="531000"/>
            <a:chOff x="381600" y="3809880"/>
            <a:chExt cx="3268440" cy="531000"/>
          </a:xfrm>
        </p:grpSpPr>
        <p:sp>
          <p:nvSpPr>
            <p:cNvPr id="158" name=""/>
            <p:cNvSpPr/>
            <p:nvPr/>
          </p:nvSpPr>
          <p:spPr>
            <a:xfrm>
              <a:off x="381600" y="3809880"/>
              <a:ext cx="326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9999"/>
                  </a:solidFill>
                  <a:latin typeface="Times New Roman"/>
                </a:rPr>
                <a:t>c    = </a:t>
              </a:r>
              <a:r>
                <a:rPr b="0" lang="pt-BR" sz="24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</a:t>
              </a:r>
              <a:r>
                <a:rPr b="0" lang="pt-BR" sz="2400" spc="-1" strike="noStrike">
                  <a:solidFill>
                    <a:srgbClr val="009999"/>
                  </a:solidFill>
                  <a:latin typeface="Times New Roman"/>
                </a:rPr>
                <a:t>                        wij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1880" y="4003560"/>
              <a:ext cx="354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i,r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18680" y="4003560"/>
              <a:ext cx="1886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dj | </a:t>
              </a:r>
              <a:r>
                <a:rPr b="0" lang="pt-BR" sz="1600" spc="-1" strike="noStrike">
                  <a:solidFill>
                    <a:srgbClr val="009999"/>
                  </a:solidFill>
                  <a:latin typeface="Symbol"/>
                  <a:ea typeface="Symbol"/>
                </a:rPr>
                <a:t>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l, gl(</a:t>
              </a:r>
              <a:r>
                <a:rPr b="1" lang="pt-BR" sz="1600" spc="-1" strike="noStrike">
                  <a:solidFill>
                    <a:srgbClr val="009999"/>
                  </a:solidFill>
                  <a:latin typeface="Times New Roman"/>
                </a:rPr>
                <a:t>dj</a:t>
              </a:r>
              <a:r>
                <a:rPr b="0" lang="pt-BR" sz="1600" spc="-1" strike="noStrike">
                  <a:solidFill>
                    <a:srgbClr val="009999"/>
                  </a:solidFill>
                  <a:latin typeface="Times New Roman"/>
                </a:rPr>
                <a:t>)=gl(mr)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11280" y="83808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9999"/>
                </a:solidFill>
                <a:latin typeface="Times New Roman"/>
              </a:rPr>
              <a:t>wij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30T17:37:47Z</dcterms:created>
  <dc:creator>berthier</dc:creator>
  <dc:description/>
  <dc:language>en-US</dc:language>
  <cp:lastModifiedBy>berthier</cp:lastModifiedBy>
  <dcterms:modified xsi:type="dcterms:W3CDTF">1999-09-15T19:36:05Z</dcterms:modified>
  <cp:revision>21</cp:revision>
  <dc:subject/>
  <dc:title>Recuperação de Informação B</dc:title>
</cp:coreProperties>
</file>