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B0BC-1A60-4931-AE47-983C825DA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263C-DC12-43D8-AF2C-656B8D5D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2355-E208-42AA-9BEC-BCF46682B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9234-56EA-4815-B4CB-271D240D1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F143-B6F8-42DE-A6D8-96701DD09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6A85F-BC31-48A6-8B63-B47568B9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79F7-60AE-4353-9DE8-1821EB3C9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6ADA-CD83-4A8E-8393-34E673A9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7A80-DC43-4F7E-A8D4-2E1D984B1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29A43-43CA-464C-B02C-F9AD3F73C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B82D-1ACC-4A5E-9E88-92089E6E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B323-8267-4A7E-8309-25F49489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67D9-62D9-402F-84B3-38862759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C099-6144-4626-8A96-AF3EC1B9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9059-C158-484C-906D-2686D320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8CF3-9233-4122-B82A-C4CF7AA5F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E23D-2881-4465-8ABD-0B768BB16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1F2A-B6D0-4AD0-ADB2-CDE1F420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83A2-4E89-432F-8E6A-F99064E9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1102-BE0D-4541-9DFA-3C9542C0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4805-5213-43FB-87C4-74030025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20C7-6A22-4CC9-9064-3883DBD50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CA9B-3D33-4376-9A02-03F10084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D27C-8939-435B-B004-97F30A4A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EDCB-6C47-4363-AC6F-72E7F8AB3C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3FEBF-9D9E-4F43-979F-CDD236DE50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6699"/>
                </a:solidFill>
                <a:latin typeface="Arial Narrow"/>
              </a:rPr>
              <a:t>Recuperação de Informação B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0574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Cap. 02: Modeling </a:t>
            </a: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             </a:t>
            </a: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(Latent Semantic Indexing &amp;      </a:t>
            </a: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 Neural Network Model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2.7.2,  2.7.3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9999"/>
                </a:solidFill>
                <a:latin typeface="Arial"/>
              </a:rPr>
              <a:t>September 27, 1999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Neural Network Mode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Classic IR: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Terms are used to index documents and queries 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Retrieval is based on index term matching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Motivation: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Neural networks are known to be good pattern matchers 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Neural Network Mode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Neural Networks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The human brain is composed of billions of neuron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Each neuron can be viewed as a small processing unit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A neuron is stimulated by input signals and emits output signals in reaction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A chain reaction of propagating signals is called a </a:t>
            </a: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spread activation process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27920" indent="-28008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As a result of spread activation, the brain might command the body to take physical reaction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33720" y="228600"/>
            <a:ext cx="6095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Neural Network Model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1523880"/>
            <a:ext cx="8839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A neural network is an oversimplified representation of the neuron interconnections in the human brain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nodes are processing units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edges are synaptic connections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the strength of a propagating signal is modelled by a weight assigned to each edge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the state of a node is defined by its </a:t>
            </a: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activation level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depending on its activation level, a node might issue an output signal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152280"/>
            <a:ext cx="6095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Neural Network for IR: 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914400"/>
            <a:ext cx="8839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From the work by Wilkinson &amp; Hingston, SIGIR’91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447920" y="1676520"/>
            <a:ext cx="6503760" cy="4357080"/>
            <a:chOff x="1447920" y="1676520"/>
            <a:chExt cx="6503760" cy="4357080"/>
          </a:xfrm>
        </p:grpSpPr>
        <p:sp>
          <p:nvSpPr>
            <p:cNvPr id="116" name=""/>
            <p:cNvSpPr/>
            <p:nvPr/>
          </p:nvSpPr>
          <p:spPr>
            <a:xfrm>
              <a:off x="6886440" y="5473440"/>
              <a:ext cx="617760" cy="458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886440" y="4351320"/>
              <a:ext cx="617760" cy="45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86440" y="3740040"/>
              <a:ext cx="617760" cy="45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86440" y="2566800"/>
              <a:ext cx="617760" cy="458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71760" y="4860720"/>
              <a:ext cx="617400" cy="458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571760" y="3943080"/>
              <a:ext cx="617400" cy="458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71760" y="3025800"/>
              <a:ext cx="617400" cy="458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62520" y="1676520"/>
              <a:ext cx="1296720" cy="50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9999"/>
                  </a:solidFill>
                  <a:latin typeface="Times New Roman"/>
                </a:rPr>
                <a:t>Document</a:t>
              </a:r>
              <a:r>
                <a:rPr b="1" lang="pt-BR" sz="1600" spc="-1" strike="noStrike">
                  <a:solidFill>
                    <a:srgbClr val="009999"/>
                  </a:solidFill>
                  <a:latin typeface="Times New Roman"/>
                </a:rPr>
                <a:t>  </a:t>
              </a:r>
              <a:r>
                <a:rPr b="1" lang="pt-BR" sz="1800" spc="-1" strike="noStrike">
                  <a:solidFill>
                    <a:srgbClr val="009999"/>
                  </a:solidFill>
                  <a:latin typeface="Times New Roman"/>
                </a:rPr>
                <a:t>Terms</a:t>
              </a:r>
              <a:r>
                <a:rPr b="1" lang="pt-BR" sz="1600" spc="-1" strike="noStrike">
                  <a:solidFill>
                    <a:srgbClr val="009999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90840" y="2414520"/>
              <a:ext cx="617760" cy="45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290840" y="3433680"/>
              <a:ext cx="617760" cy="45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90840" y="3943080"/>
              <a:ext cx="617760" cy="458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267080" y="4419360"/>
              <a:ext cx="617760" cy="458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90840" y="5473440"/>
              <a:ext cx="617760" cy="458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7132680" y="3179520"/>
              <a:ext cx="123840" cy="356760"/>
              <a:chOff x="7132680" y="3179520"/>
              <a:chExt cx="123840" cy="356760"/>
            </a:xfrm>
          </p:grpSpPr>
          <p:sp>
            <p:nvSpPr>
              <p:cNvPr id="130" name=""/>
              <p:cNvSpPr/>
              <p:nvPr/>
            </p:nvSpPr>
            <p:spPr>
              <a:xfrm>
                <a:off x="7132680" y="3179520"/>
                <a:ext cx="123840" cy="50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132680" y="3332520"/>
                <a:ext cx="123840" cy="50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132680" y="3485520"/>
                <a:ext cx="123840" cy="50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4537080" y="5014800"/>
              <a:ext cx="123840" cy="356760"/>
              <a:chOff x="4537080" y="5014800"/>
              <a:chExt cx="123840" cy="356760"/>
            </a:xfrm>
          </p:grpSpPr>
          <p:sp>
            <p:nvSpPr>
              <p:cNvPr id="134" name=""/>
              <p:cNvSpPr/>
              <p:nvPr/>
            </p:nvSpPr>
            <p:spPr>
              <a:xfrm>
                <a:off x="4537080" y="5014800"/>
                <a:ext cx="123840" cy="50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537080" y="5167800"/>
                <a:ext cx="123840" cy="50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37080" y="5320800"/>
                <a:ext cx="123840" cy="50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1447920" y="1676520"/>
              <a:ext cx="988920" cy="50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9999"/>
                  </a:solidFill>
                  <a:latin typeface="Times New Roman"/>
                </a:rPr>
                <a:t>Query  Terms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7132680" y="4964040"/>
              <a:ext cx="123840" cy="355320"/>
              <a:chOff x="7132680" y="4964040"/>
              <a:chExt cx="123840" cy="355320"/>
            </a:xfrm>
          </p:grpSpPr>
          <p:sp>
            <p:nvSpPr>
              <p:cNvPr id="139" name=""/>
              <p:cNvSpPr/>
              <p:nvPr/>
            </p:nvSpPr>
            <p:spPr>
              <a:xfrm>
                <a:off x="7132680" y="4964040"/>
                <a:ext cx="123840" cy="50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132680" y="5116320"/>
                <a:ext cx="123840" cy="50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132680" y="5268600"/>
                <a:ext cx="123840" cy="50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4537080" y="2974680"/>
              <a:ext cx="123840" cy="356760"/>
              <a:chOff x="4537080" y="2974680"/>
              <a:chExt cx="123840" cy="356760"/>
            </a:xfrm>
          </p:grpSpPr>
          <p:sp>
            <p:nvSpPr>
              <p:cNvPr id="143" name=""/>
              <p:cNvSpPr/>
              <p:nvPr/>
            </p:nvSpPr>
            <p:spPr>
              <a:xfrm>
                <a:off x="4537080" y="2974680"/>
                <a:ext cx="123840" cy="50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37080" y="3127680"/>
                <a:ext cx="123840" cy="50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37080" y="3280680"/>
                <a:ext cx="123840" cy="50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6629400" y="1752480"/>
              <a:ext cx="1322280" cy="50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9999"/>
                  </a:solidFill>
                  <a:latin typeface="Times New Roman"/>
                </a:rPr>
                <a:t>Documents</a:t>
              </a:r>
              <a:r>
                <a:rPr b="0" lang="pt-BR" sz="2400" spc="-1" strike="noStrike">
                  <a:solidFill>
                    <a:srgbClr val="009999"/>
                  </a:solidFill>
                  <a:latin typeface="Times New Roman"/>
                </a:rPr>
                <a:t> 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695600" y="3078000"/>
              <a:ext cx="55548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9999"/>
                  </a:solidFill>
                  <a:latin typeface="Times New Roman"/>
                </a:rPr>
                <a:t>k</a:t>
              </a:r>
              <a:r>
                <a:rPr b="1" lang="pt-BR" sz="1800" spc="-1" strike="noStrike" baseline="-25000">
                  <a:solidFill>
                    <a:srgbClr val="009999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46440" y="3179520"/>
              <a:ext cx="6192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95600" y="3995640"/>
              <a:ext cx="617400" cy="50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9999"/>
                  </a:solidFill>
                  <a:latin typeface="Times New Roman"/>
                </a:rPr>
                <a:t>k</a:t>
              </a:r>
              <a:r>
                <a:rPr b="1" lang="pt-BR" sz="1800" spc="-1" strike="noStrike" baseline="-25000">
                  <a:solidFill>
                    <a:srgbClr val="009999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95600" y="4913280"/>
              <a:ext cx="617400" cy="50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9999"/>
                  </a:solidFill>
                  <a:latin typeface="Times New Roman"/>
                </a:rPr>
                <a:t>k</a:t>
              </a:r>
              <a:r>
                <a:rPr b="1" lang="pt-BR" sz="1800" spc="-1" strike="noStrike" baseline="-25000">
                  <a:solidFill>
                    <a:srgbClr val="009999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44640" y="3179520"/>
              <a:ext cx="6192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3240" y="3484440"/>
              <a:ext cx="557280" cy="40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9999"/>
                  </a:solidFill>
                  <a:latin typeface="Times New Roman"/>
                </a:rPr>
                <a:t>k</a:t>
              </a:r>
              <a:r>
                <a:rPr b="1" lang="pt-BR" sz="1800" spc="-1" strike="noStrike" baseline="-25000">
                  <a:solidFill>
                    <a:srgbClr val="009999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13240" y="3995640"/>
              <a:ext cx="619200" cy="50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9999"/>
                  </a:solidFill>
                  <a:latin typeface="Times New Roman"/>
                </a:rPr>
                <a:t>k</a:t>
              </a:r>
              <a:r>
                <a:rPr b="1" lang="pt-BR" sz="1800" spc="-1" strike="noStrike" baseline="-25000">
                  <a:solidFill>
                    <a:srgbClr val="009999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13240" y="4505040"/>
              <a:ext cx="6192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9999"/>
                  </a:solidFill>
                  <a:latin typeface="Times New Roman"/>
                </a:rPr>
                <a:t>k</a:t>
              </a:r>
              <a:r>
                <a:rPr b="1" lang="pt-BR" sz="1800" spc="-1" strike="noStrike" baseline="-25000">
                  <a:solidFill>
                    <a:srgbClr val="009999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13240" y="2465280"/>
              <a:ext cx="495360" cy="50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9999"/>
                  </a:solidFill>
                  <a:latin typeface="Times New Roman"/>
                </a:rPr>
                <a:t>k</a:t>
              </a:r>
              <a:r>
                <a:rPr b="1" lang="pt-BR" sz="1800" spc="-1" strike="noStrike" baseline="-25000">
                  <a:solidFill>
                    <a:srgbClr val="009999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13240" y="5524200"/>
              <a:ext cx="6192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9999"/>
                  </a:solidFill>
                  <a:latin typeface="Times New Roman"/>
                </a:rPr>
                <a:t>k</a:t>
              </a:r>
              <a:r>
                <a:rPr b="1" lang="pt-BR" sz="1800" spc="-1" strike="noStrike" baseline="-25000">
                  <a:solidFill>
                    <a:srgbClr val="009999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46920" y="2619360"/>
              <a:ext cx="619200" cy="50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9999"/>
                  </a:solidFill>
                  <a:latin typeface="Times New Roman"/>
                </a:rPr>
                <a:t>d</a:t>
              </a:r>
              <a:r>
                <a:rPr b="1" lang="pt-BR" sz="1800" spc="-1" strike="noStrike" baseline="-25000">
                  <a:solidFill>
                    <a:srgbClr val="009999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08840" y="3790800"/>
              <a:ext cx="6192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9999"/>
                  </a:solidFill>
                  <a:latin typeface="Times New Roman"/>
                </a:rPr>
                <a:t>d</a:t>
              </a:r>
              <a:r>
                <a:rPr b="1" lang="pt-BR" sz="1800" spc="-1" strike="noStrike" baseline="-25000">
                  <a:solidFill>
                    <a:srgbClr val="009999"/>
                  </a:solidFill>
                  <a:latin typeface="Times New Roman"/>
                </a:rPr>
                <a:t>j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946920" y="4351320"/>
              <a:ext cx="619200" cy="50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9999"/>
                  </a:solidFill>
                  <a:latin typeface="Times New Roman"/>
                </a:rPr>
                <a:t>d</a:t>
              </a:r>
              <a:r>
                <a:rPr b="1" lang="pt-BR" sz="1800" spc="-1" strike="noStrike" baseline="-25000">
                  <a:solidFill>
                    <a:srgbClr val="009999"/>
                  </a:solidFill>
                  <a:latin typeface="Times New Roman"/>
                </a:rPr>
                <a:t>j+1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008840" y="5473440"/>
              <a:ext cx="619200" cy="50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9999"/>
                  </a:solidFill>
                  <a:latin typeface="Times New Roman"/>
                </a:rPr>
                <a:t>d</a:t>
              </a:r>
              <a:r>
                <a:rPr b="1" lang="pt-BR" sz="1800" spc="-1" strike="noStrike" baseline="-25000">
                  <a:solidFill>
                    <a:srgbClr val="009999"/>
                  </a:solidFill>
                  <a:latin typeface="Times New Roman"/>
                </a:rPr>
                <a:t>N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89160" y="3230280"/>
              <a:ext cx="2101680" cy="407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189160" y="4198680"/>
              <a:ext cx="2101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2189160" y="4708080"/>
              <a:ext cx="2101680" cy="35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08600" y="3689280"/>
              <a:ext cx="2038320" cy="76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4908600" y="3995640"/>
              <a:ext cx="1977840" cy="151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908600" y="4606920"/>
              <a:ext cx="1977840" cy="5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908600" y="4147920"/>
              <a:ext cx="2038320" cy="1427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846680" y="2822400"/>
              <a:ext cx="2039760" cy="714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08600" y="5727600"/>
              <a:ext cx="19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09480" y="228600"/>
            <a:ext cx="6096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Neural Network for IR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990720"/>
            <a:ext cx="8839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Three layers network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Signals propagate across the network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First level of propagation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Query terms issue the first signals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These signals propagate accross the network to reach the document nodes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Second level of propagation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Document nodes might themselves generate new signals which affect the document term nodes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601560" indent="-23148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Document term nodes might respond with new signals of their own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28600" y="228600"/>
            <a:ext cx="6095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Quantifying Signal Propagation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1371600"/>
            <a:ext cx="8839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Normalize signal strength (MAX = 1)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Query terms emit initial signal equal to 1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Weight associated with an edge from a query term node  ki to a document term node ki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9999"/>
                </a:solidFill>
                <a:latin typeface="Arial"/>
              </a:rPr>
              <a:t>Wiq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= </a:t>
            </a:r>
            <a:r>
              <a:rPr b="0" lang="pt-BR" sz="2600" spc="-1" strike="noStrike" u="sng">
                <a:solidFill>
                  <a:srgbClr val="009999"/>
                </a:solidFill>
                <a:uFillTx/>
                <a:latin typeface="Arial"/>
              </a:rPr>
              <a:t>         wiq        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sqrt ( </a:t>
            </a:r>
            <a:r>
              <a:rPr b="0" lang="pt-BR" sz="2600" spc="-1" strike="noStrike">
                <a:solidFill>
                  <a:srgbClr val="009999"/>
                </a:solidFill>
                <a:latin typeface="Symbol"/>
                <a:ea typeface="Symbol"/>
              </a:rPr>
              <a:t></a:t>
            </a:r>
            <a:r>
              <a:rPr b="1" lang="pt-BR" sz="1400" spc="-1" strike="noStrike">
                <a:solidFill>
                  <a:srgbClr val="009999"/>
                </a:solidFill>
                <a:latin typeface="Arial"/>
              </a:rPr>
              <a:t>i</a:t>
            </a:r>
            <a:r>
              <a:rPr b="0" lang="pt-BR" sz="1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wiq  )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Weight associated with an edge from a document term node ki to a document node dj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9999"/>
                </a:solidFill>
                <a:latin typeface="Arial"/>
              </a:rPr>
              <a:t>Wij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= </a:t>
            </a:r>
            <a:r>
              <a:rPr b="0" lang="pt-BR" sz="2600" spc="-1" strike="noStrike" u="sng">
                <a:solidFill>
                  <a:srgbClr val="009999"/>
                </a:solidFill>
                <a:uFillTx/>
                <a:latin typeface="Arial"/>
              </a:rPr>
              <a:t>         wij        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        sqrt ( </a:t>
            </a:r>
            <a:r>
              <a:rPr b="0" lang="pt-BR" sz="2600" spc="-1" strike="noStrike">
                <a:solidFill>
                  <a:srgbClr val="009999"/>
                </a:solidFill>
                <a:latin typeface="Symbol"/>
                <a:ea typeface="Symbol"/>
              </a:rPr>
              <a:t></a:t>
            </a:r>
            <a:r>
              <a:rPr b="1" lang="pt-BR" sz="1400" spc="-1" strike="noStrike">
                <a:solidFill>
                  <a:srgbClr val="009999"/>
                </a:solidFill>
                <a:latin typeface="Arial"/>
              </a:rPr>
              <a:t>i</a:t>
            </a:r>
            <a:r>
              <a:rPr b="0" lang="pt-BR" sz="1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wij  ) 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87280" y="3733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8680" y="5638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228600" y="0"/>
            <a:ext cx="6095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Quantifying Signal Propagation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838080"/>
            <a:ext cx="8839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After the first level of signal propagation, the activation level of a document node dj is given by: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9999"/>
                </a:solidFill>
                <a:latin typeface="Symbol"/>
                <a:ea typeface="Symbol"/>
              </a:rPr>
              <a:t></a:t>
            </a:r>
            <a:r>
              <a:rPr b="1" lang="pt-BR" sz="1600" spc="-1" strike="noStrike">
                <a:solidFill>
                  <a:srgbClr val="009999"/>
                </a:solidFill>
                <a:latin typeface="Arial"/>
              </a:rPr>
              <a:t>i</a:t>
            </a:r>
            <a:r>
              <a:rPr b="0" lang="pt-BR" sz="3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9999"/>
                </a:solidFill>
                <a:latin typeface="Arial"/>
              </a:rPr>
              <a:t>Wiq</a:t>
            </a:r>
            <a:r>
              <a:rPr b="0" lang="pt-BR" sz="30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009999"/>
                </a:solidFill>
                <a:latin typeface="Arial"/>
              </a:rPr>
              <a:t>Wij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=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               </a:t>
            </a:r>
            <a:r>
              <a:rPr b="0" lang="pt-BR" sz="3000" spc="-1" strike="noStrike" u="sng">
                <a:solidFill>
                  <a:srgbClr val="009999"/>
                </a:solidFill>
                <a:uFillTx/>
                <a:latin typeface="Symbol"/>
                <a:ea typeface="Symbol"/>
              </a:rPr>
              <a:t></a:t>
            </a:r>
            <a:r>
              <a:rPr b="1" lang="pt-BR" sz="1600" spc="-1" strike="noStrike" u="sng">
                <a:solidFill>
                  <a:srgbClr val="009999"/>
                </a:solidFill>
                <a:uFillTx/>
                <a:latin typeface="Arial"/>
              </a:rPr>
              <a:t>i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 wiq wij                 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   sqrt ( 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</a:t>
            </a:r>
            <a:r>
              <a:rPr b="1" lang="pt-BR" sz="1500" spc="-1" strike="noStrike">
                <a:solidFill>
                  <a:srgbClr val="009999"/>
                </a:solidFill>
                <a:latin typeface="Arial"/>
              </a:rPr>
              <a:t>i</a:t>
            </a:r>
            <a:r>
              <a:rPr b="0" lang="pt-BR" sz="15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wiq  ) * sqrt ( 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</a:t>
            </a:r>
            <a:r>
              <a:rPr b="1" lang="pt-BR" sz="1500" spc="-1" strike="noStrike">
                <a:solidFill>
                  <a:srgbClr val="009999"/>
                </a:solidFill>
                <a:latin typeface="Arial"/>
              </a:rPr>
              <a:t>i</a:t>
            </a:r>
            <a:r>
              <a:rPr b="0" lang="pt-BR" sz="15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wij  )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2" marL="994320" indent="-19872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which is exactly the ranking of the Vector model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New signals might be exchanged among document term nodes and document nodes in a process analogous to a feedback cycle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A minimum threshold should be enforced to avoid spurious signal generation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748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49800" y="25909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362320" y="457200"/>
            <a:ext cx="6095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Conclusions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04920" y="1447920"/>
            <a:ext cx="8839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Model provides an interesting formulation of the IR problem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Model has not been tested extensively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It is not clear the improvements that the model might provide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52480" y="152280"/>
            <a:ext cx="7162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Latent Semantic Indexing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1066680"/>
            <a:ext cx="876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Classic IR might lead to poor retrieval due to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unrelated documents might be included in the answer set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relevant documents that do not contain at least one index term are not retrieved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9999"/>
                </a:solidFill>
                <a:latin typeface="Arial"/>
              </a:rPr>
              <a:t>Reasoning: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retrieval based on index terms is vague and noisy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The user information need is more related to concepts and ideas than to index term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A document that shares concepts with another document known to be relevant might be of interest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52480" y="304920"/>
            <a:ext cx="7162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Latent Semantic Indexing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The key idea is to map documents and queries into a lower dimensional space (i.e., composed of higher level concepts which are in fewer number than the index terms)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Retrieval in this reduced concept space might be superior to retrieval in the space of index term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52480" y="304920"/>
            <a:ext cx="7162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Latent Semantic Indexing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Definition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Let t be the total number of index terms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Let N be the number of documents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Let  (Mij)  be a term-document matrix with t rows and N columns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To each element of this matrix is assigned a weight wij associated with the pair [ki,dj]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The weight wij can be based on a tf-idf weighting scheme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52480" y="304920"/>
            <a:ext cx="7162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Latent Semantic Indexing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The matrix  (Mij) can be decomposed into 3 matrices (singular value decomposition) as follows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(Mij) = (K) (S) (D)</a:t>
            </a:r>
            <a:r>
              <a:rPr b="0" lang="pt-BR" sz="2600" spc="-1" strike="noStrike" baseline="30000">
                <a:solidFill>
                  <a:srgbClr val="009999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(K) is the matrix of eigenvectors derived from (M)(M)</a:t>
            </a:r>
            <a:r>
              <a:rPr b="0" lang="pt-BR" sz="2600" spc="-1" strike="noStrike" baseline="30000">
                <a:solidFill>
                  <a:srgbClr val="009999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(D)</a:t>
            </a:r>
            <a:r>
              <a:rPr b="0" lang="pt-BR" sz="2600" spc="-1" strike="noStrike" baseline="30000">
                <a:solidFill>
                  <a:srgbClr val="009999"/>
                </a:solidFill>
                <a:latin typeface="Arial"/>
              </a:rPr>
              <a:t>t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is the matrix of eigenvectors derived from (M)</a:t>
            </a:r>
            <a:r>
              <a:rPr b="0" lang="pt-BR" sz="2600" spc="-1" strike="noStrike" baseline="30000">
                <a:solidFill>
                  <a:srgbClr val="009999"/>
                </a:solidFill>
                <a:latin typeface="Arial"/>
              </a:rPr>
              <a:t>t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(M)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(S) is an  </a:t>
            </a: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r x r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 diagonal matrix of singular values where 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r = min(t,N)  that is, the rank of (Mij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676520" y="0"/>
            <a:ext cx="71625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Computing an Example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990720"/>
            <a:ext cx="876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Let  (Mij)  be given by the matrix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Compute the matrices (K), (S), and (D)</a:t>
            </a:r>
            <a:r>
              <a:rPr b="0" lang="pt-BR" sz="2600" spc="-1" strike="noStrike" baseline="30000">
                <a:solidFill>
                  <a:srgbClr val="009999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660960" indent="-25416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09480" y="1676520"/>
          <a:ext cx="8534520" cy="348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76520"/>
                    <a:ext cx="8534520" cy="34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752480" y="0"/>
            <a:ext cx="7162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Latent Semantic Indexing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838080"/>
            <a:ext cx="876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In the matrix (S), select only the  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s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largest singular value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Keep the corresponding columns in (K) and (D)</a:t>
            </a:r>
            <a:r>
              <a:rPr b="0" lang="pt-BR" sz="2800" spc="-1" strike="noStrike" baseline="30000">
                <a:solidFill>
                  <a:srgbClr val="009999"/>
                </a:solidFill>
                <a:latin typeface="Arial"/>
              </a:rPr>
              <a:t>t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The resultant matrix  is called (M)</a:t>
            </a:r>
            <a:r>
              <a:rPr b="0" lang="pt-BR" sz="2800" spc="-1" strike="noStrike" baseline="-25000">
                <a:solidFill>
                  <a:srgbClr val="009999"/>
                </a:solidFill>
                <a:latin typeface="Arial"/>
              </a:rPr>
              <a:t>s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and is given by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(M)s = (K)</a:t>
            </a:r>
            <a:r>
              <a:rPr b="0" lang="pt-BR" sz="2600" spc="-1" strike="noStrike" baseline="-25000">
                <a:solidFill>
                  <a:srgbClr val="009999"/>
                </a:solidFill>
                <a:latin typeface="Arial"/>
              </a:rPr>
              <a:t>s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(S)</a:t>
            </a:r>
            <a:r>
              <a:rPr b="0" lang="pt-BR" sz="2600" spc="-1" strike="noStrike" baseline="-25000">
                <a:solidFill>
                  <a:srgbClr val="009999"/>
                </a:solidFill>
                <a:latin typeface="Arial"/>
              </a:rPr>
              <a:t>s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(D)</a:t>
            </a:r>
            <a:r>
              <a:rPr b="0" lang="pt-BR" sz="2600" spc="-1" strike="noStrike" baseline="30000">
                <a:solidFill>
                  <a:srgbClr val="009999"/>
                </a:solidFill>
                <a:latin typeface="Arial"/>
              </a:rPr>
              <a:t>t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where  s, s &lt; r, is the dimensionality of the concept space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The parameter  s  should be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large enough to allow fitting the characteristics of the data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small enough to filter out the non-relevant representational details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8000" y="297180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99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752480" y="0"/>
            <a:ext cx="7162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Latent Ranking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880" y="838080"/>
            <a:ext cx="876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The user query can be modelled as a pseudo-document in the original (M) matrix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Assume the query is modelled as the document numbered  0  in the (M) matrix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The matrix 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(M)</a:t>
            </a:r>
            <a:r>
              <a:rPr b="0" lang="pt-BR" sz="2800" spc="-1" strike="noStrike" baseline="30000">
                <a:solidFill>
                  <a:srgbClr val="009999"/>
                </a:solidFill>
                <a:latin typeface="Arial"/>
              </a:rPr>
              <a:t>t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(M)</a:t>
            </a:r>
            <a:r>
              <a:rPr b="0" lang="pt-BR" sz="2800" spc="-1" strike="noStrike" baseline="-25000">
                <a:solidFill>
                  <a:srgbClr val="009999"/>
                </a:solidFill>
                <a:latin typeface="Arial"/>
              </a:rPr>
              <a:t>s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quantifies the relantionship between any two documents in the reduced concept space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The first row of this matrix provides the rank of all the documents with regard to the user query (represented as the document numbered 0)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59400" y="3352680"/>
            <a:ext cx="26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99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Conclus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Latent semantic indexing provides an interesting conceptualization of the IR problem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It allows reducing the complexity of the underline representational framework which might be explored, for instance, with the purpose of interfacing with the user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30T17:37:47Z</dcterms:created>
  <dc:creator>berthier</dc:creator>
  <dc:description/>
  <dc:language>en-US</dc:language>
  <cp:lastModifiedBy>berthier</cp:lastModifiedBy>
  <dcterms:modified xsi:type="dcterms:W3CDTF">1999-09-27T21:08:52Z</dcterms:modified>
  <cp:revision>31</cp:revision>
  <dc:subject/>
  <dc:title>Recuperação de Informação B</dc:title>
</cp:coreProperties>
</file>