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7AA6-EAB5-46C5-877D-8B9D83471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5D7D-624E-411A-A631-3C5E72045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3F10-A3A5-45DF-95E8-5195A330A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A6BB-D3B0-43D9-8EC3-B4E1FED65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FAA33-17FB-467F-AC72-B089DD240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87781-40A1-4F6C-BE26-564CE56A5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E620D-2F34-4FDF-9900-1FCBE412D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701CB-CDAA-4BE4-ADC0-DFC55F11E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1F545-B45C-4040-BF88-5706897F3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AFE51-E701-4C24-A414-10644C67C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8B7A4-2ECC-4675-B473-440C15FD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693C-A041-45C5-8254-BBC14EA60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BC3FD-EB5E-450B-9D85-82FC10BD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D13D5-3AC1-469D-96CE-0F8F47DD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DF74A-0AD5-4FD8-9615-0DCC8294B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4E341-AD13-4945-87E7-1C717AD35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15F5A-67D2-405D-AB32-2CAFA841E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3FF5-66FD-4AD7-9023-3F2B0A801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D31A-6016-4C3A-AA9A-98C9A6DA0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8BF7-C08B-4136-9A5A-8576BC366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92F0-7C12-436A-A783-4ADF34E14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685F-BA3E-4C9E-9B00-091EB74B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C767-5579-486A-A3A6-2345811A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96E9-C6EE-4BF2-B8BD-8820E1B4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58D9C-E3D4-430D-A1DA-121E7C7D91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0219A-0EDD-4959-BEB8-630D86C25A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57400" y="-360"/>
            <a:ext cx="63993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336699"/>
                </a:solidFill>
                <a:latin typeface="Arial Narrow"/>
              </a:rPr>
              <a:t>Recuperação de Informação B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05740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Cap. 02: Modeling (Structured Text Models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2.9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October 4, 1999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590920" y="380880"/>
            <a:ext cx="6095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6699"/>
                </a:solidFill>
                <a:latin typeface="Arial Narrow"/>
              </a:rPr>
              <a:t>Conclusions</a:t>
            </a:r>
            <a:endParaRPr b="0" lang="en-US" sz="4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175248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The non-overlapping lists model is simple and allows efficient implementation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But, types of queries that can be asked are limited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Also, model does not include any provision for ranking the documents by degree of similarity to the query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What does structural similarity mean?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828800" y="380880"/>
            <a:ext cx="6095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6699"/>
                </a:solidFill>
                <a:latin typeface="Arial Narrow"/>
              </a:rPr>
              <a:t>Proximal  Nodes</a:t>
            </a:r>
            <a:endParaRPr b="0" lang="en-US" sz="4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1752480"/>
            <a:ext cx="8381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Due to Navarro and Baeza-Yates, 1997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Idea: define a strict hierarchical index over the text. This enrichs the previous model that used flat lists.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Multiple index hierarchies might be defined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Two distinct index hierarchies might refer to text regions that overlap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286000" y="228600"/>
            <a:ext cx="6095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6699"/>
                </a:solidFill>
                <a:latin typeface="Arial Narrow"/>
              </a:rPr>
              <a:t>Definitions</a:t>
            </a:r>
            <a:endParaRPr b="0" lang="en-US" sz="4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295280"/>
            <a:ext cx="8381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Each indexing structure is a strict hierarchy composed of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chapters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sections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subsections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paragraphs 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lines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Each of these components is called a 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node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To each node is associated a text region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981080" y="228600"/>
            <a:ext cx="60962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6699"/>
                </a:solidFill>
                <a:latin typeface="Arial Narrow"/>
              </a:rPr>
              <a:t>Proximal  Nodes</a:t>
            </a:r>
            <a:endParaRPr b="0" lang="en-US" sz="4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1295280"/>
            <a:ext cx="8381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123920" y="1333440"/>
            <a:ext cx="4815000" cy="2735280"/>
            <a:chOff x="1123920" y="1333440"/>
            <a:chExt cx="4815000" cy="2735280"/>
          </a:xfrm>
        </p:grpSpPr>
        <p:grpSp>
          <p:nvGrpSpPr>
            <p:cNvPr id="139" name=""/>
            <p:cNvGrpSpPr/>
            <p:nvPr/>
          </p:nvGrpSpPr>
          <p:grpSpPr>
            <a:xfrm>
              <a:off x="1123920" y="3146400"/>
              <a:ext cx="4815000" cy="0"/>
              <a:chOff x="1123920" y="3146400"/>
              <a:chExt cx="4815000" cy="0"/>
            </a:xfrm>
          </p:grpSpPr>
          <p:sp>
            <p:nvSpPr>
              <p:cNvPr id="140" name=""/>
              <p:cNvSpPr/>
              <p:nvPr/>
            </p:nvSpPr>
            <p:spPr>
              <a:xfrm>
                <a:off x="1123920" y="3146400"/>
                <a:ext cx="10825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562840" y="3146400"/>
                <a:ext cx="2165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127120" y="3146400"/>
                <a:ext cx="811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1123920" y="4068720"/>
              <a:ext cx="4803480" cy="0"/>
              <a:chOff x="1123920" y="4068720"/>
              <a:chExt cx="4803480" cy="0"/>
            </a:xfrm>
          </p:grpSpPr>
          <p:grpSp>
            <p:nvGrpSpPr>
              <p:cNvPr id="144" name=""/>
              <p:cNvGrpSpPr/>
              <p:nvPr/>
            </p:nvGrpSpPr>
            <p:grpSpPr>
              <a:xfrm>
                <a:off x="2591640" y="4068720"/>
                <a:ext cx="2134800" cy="0"/>
                <a:chOff x="2591640" y="4068720"/>
                <a:chExt cx="2134800" cy="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2591640" y="4068720"/>
                  <a:ext cx="6004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325680" y="4068720"/>
                  <a:ext cx="7340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192920" y="4068720"/>
                  <a:ext cx="533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5193720" y="4068720"/>
                <a:ext cx="733680" cy="0"/>
                <a:chOff x="5193720" y="4068720"/>
                <a:chExt cx="733680" cy="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5193720" y="4068720"/>
                  <a:ext cx="3999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727240" y="4068720"/>
                  <a:ext cx="200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1123920" y="4068720"/>
                <a:ext cx="1067400" cy="0"/>
                <a:chOff x="1123920" y="4068720"/>
                <a:chExt cx="1067400" cy="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1123920" y="4068720"/>
                  <a:ext cx="333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1590840" y="4068720"/>
                  <a:ext cx="6004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4" name=""/>
            <p:cNvGrpSpPr/>
            <p:nvPr/>
          </p:nvGrpSpPr>
          <p:grpSpPr>
            <a:xfrm>
              <a:off x="1123920" y="2224080"/>
              <a:ext cx="4803840" cy="0"/>
              <a:chOff x="1123920" y="2224080"/>
              <a:chExt cx="4803840" cy="0"/>
            </a:xfrm>
          </p:grpSpPr>
          <p:sp>
            <p:nvSpPr>
              <p:cNvPr id="155" name=""/>
              <p:cNvSpPr/>
              <p:nvPr/>
            </p:nvSpPr>
            <p:spPr>
              <a:xfrm>
                <a:off x="1123920" y="2224080"/>
                <a:ext cx="3602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060520" y="2224080"/>
                <a:ext cx="8672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1123920" y="1333440"/>
              <a:ext cx="4803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6172200" y="2057400"/>
            <a:ext cx="16002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Times New Roman"/>
              </a:rPr>
              <a:t>Section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194520" y="2924280"/>
            <a:ext cx="2111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Times New Roman"/>
              </a:rPr>
              <a:t>SubSection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94520" y="3878280"/>
            <a:ext cx="2720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Times New Roman"/>
              </a:rPr>
              <a:t>SubSubSection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94520" y="1143000"/>
            <a:ext cx="1349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Times New Roman"/>
              </a:rPr>
              <a:t>Chapt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3392280" y="1460520"/>
            <a:ext cx="866520" cy="700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259160" y="1460520"/>
            <a:ext cx="1268640" cy="7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657080" y="2286000"/>
            <a:ext cx="734760" cy="763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90760" y="2286000"/>
            <a:ext cx="1333440" cy="763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529240" y="2286000"/>
            <a:ext cx="0" cy="763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1257120" y="3241800"/>
            <a:ext cx="199800" cy="7635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457280" y="3241800"/>
            <a:ext cx="399960" cy="69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2925360" y="3241800"/>
            <a:ext cx="733320" cy="763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659040" y="3241800"/>
            <a:ext cx="0" cy="763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659040" y="3241800"/>
            <a:ext cx="800280" cy="763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392800" y="3241800"/>
            <a:ext cx="133200" cy="763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529240" y="3241800"/>
            <a:ext cx="266760" cy="69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38080" y="5468760"/>
            <a:ext cx="12207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99"/>
                </a:solidFill>
                <a:latin typeface="Times New Roman"/>
              </a:rPr>
              <a:t>holocaus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727360" y="5468760"/>
            <a:ext cx="473040" cy="322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99"/>
                </a:solidFill>
                <a:latin typeface="Times New Roman"/>
              </a:rPr>
              <a:t>1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733920" y="5486400"/>
            <a:ext cx="6858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99"/>
                </a:solidFill>
                <a:latin typeface="Times New Roman"/>
              </a:rPr>
              <a:t>256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172200" y="5486400"/>
            <a:ext cx="1157400" cy="32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99"/>
                </a:solidFill>
                <a:latin typeface="Times New Roman"/>
              </a:rPr>
              <a:t>48,324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125800" y="565956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00400" y="5638680"/>
            <a:ext cx="46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19720" y="5638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638680" y="5638680"/>
            <a:ext cx="534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5181480" y="5562720"/>
            <a:ext cx="292320" cy="63360"/>
            <a:chOff x="5181480" y="5562720"/>
            <a:chExt cx="292320" cy="63360"/>
          </a:xfrm>
        </p:grpSpPr>
        <p:sp>
          <p:nvSpPr>
            <p:cNvPr id="183" name=""/>
            <p:cNvSpPr/>
            <p:nvPr/>
          </p:nvSpPr>
          <p:spPr>
            <a:xfrm>
              <a:off x="5181480" y="5562720"/>
              <a:ext cx="6660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94160" y="5562720"/>
              <a:ext cx="6660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07200" y="5562720"/>
              <a:ext cx="66600" cy="63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1457280" y="5977080"/>
            <a:ext cx="66600" cy="279360"/>
            <a:chOff x="1457280" y="5977080"/>
            <a:chExt cx="66600" cy="279360"/>
          </a:xfrm>
        </p:grpSpPr>
        <p:sp>
          <p:nvSpPr>
            <p:cNvPr id="187" name=""/>
            <p:cNvSpPr/>
            <p:nvPr/>
          </p:nvSpPr>
          <p:spPr>
            <a:xfrm>
              <a:off x="1457280" y="5977080"/>
              <a:ext cx="6660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457280" y="6084720"/>
              <a:ext cx="6660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57280" y="6192720"/>
              <a:ext cx="6660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1457280" y="5022720"/>
            <a:ext cx="66600" cy="279360"/>
            <a:chOff x="1457280" y="5022720"/>
            <a:chExt cx="66600" cy="279360"/>
          </a:xfrm>
        </p:grpSpPr>
        <p:sp>
          <p:nvSpPr>
            <p:cNvPr id="191" name=""/>
            <p:cNvSpPr/>
            <p:nvPr/>
          </p:nvSpPr>
          <p:spPr>
            <a:xfrm>
              <a:off x="1457280" y="5022720"/>
              <a:ext cx="6660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457280" y="5130360"/>
              <a:ext cx="6660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457280" y="5238360"/>
              <a:ext cx="66600" cy="63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828800" y="380880"/>
            <a:ext cx="6095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6699"/>
                </a:solidFill>
                <a:latin typeface="Arial Narrow"/>
              </a:rPr>
              <a:t>Proximal  Nodes</a:t>
            </a:r>
            <a:endParaRPr b="0" lang="en-US" sz="4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62120" y="1752480"/>
            <a:ext cx="8381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Key points: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In the hierarchical index, one node might be contained within another node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But, two nodes of a same hierarchy cannot overlap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The inverted list for keywords complements the hierarchical index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The implementation here is more complex than that for non-overlapping lists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828800" y="380880"/>
            <a:ext cx="6095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6699"/>
                </a:solidFill>
                <a:latin typeface="Arial Narrow"/>
              </a:rPr>
              <a:t>Proximal  Nodes</a:t>
            </a:r>
            <a:endParaRPr b="0" lang="en-US" sz="4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62120" y="1447920"/>
            <a:ext cx="8381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Queries are now regular expressions: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search for strings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references to structural components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combination of these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Model is a compromise between expressiveness and efficiency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Queries are simple but can be processed efficiently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Further, model is more expressive than non-overlapping lists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828800" y="380880"/>
            <a:ext cx="6095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6699"/>
                </a:solidFill>
                <a:latin typeface="Arial Narrow"/>
              </a:rPr>
              <a:t>Proximal  Nodes</a:t>
            </a:r>
            <a:endParaRPr b="0" lang="en-US" sz="4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2120" y="1447920"/>
            <a:ext cx="8381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Query:  find the sections, the subsections, and the subsubsections that contain the word “holocaust”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[(*section)  with  (“holocaust”)]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Simple query processing: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traverse the inverted list for “holocaust” and determine all match points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use the match points to search in the hierarchical index for the structural components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828800" y="380880"/>
            <a:ext cx="6095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6699"/>
                </a:solidFill>
                <a:latin typeface="Arial Narrow"/>
              </a:rPr>
              <a:t>Proximal  Nodes</a:t>
            </a:r>
            <a:endParaRPr b="0" lang="en-US" sz="4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2120" y="1447920"/>
            <a:ext cx="8381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Query:  [(*section)  with  (“holocaust”)]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Sophisticated query processing: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609120" indent="-23436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get the first entry in the inverted list for “holocaust”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609120" indent="-23436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use this match point to search in the hierarchical index for the structural components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609120" indent="-23436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Innermost matching component: smaller one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609120" indent="-23436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Check if innermost matching component includes the second entry in the inverted list for “holocaust”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609120" indent="-23436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If it does, check the third entry and so on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609120" indent="-23436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This allows matching efficiently the nearby (or proximal) nodes 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609120" indent="-23436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828800" y="380880"/>
            <a:ext cx="6095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6699"/>
                </a:solidFill>
                <a:latin typeface="Arial Narrow"/>
              </a:rPr>
              <a:t>Conclusions</a:t>
            </a:r>
            <a:endParaRPr b="0" lang="en-US" sz="4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1447920"/>
            <a:ext cx="8381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Model allows formulating queries that are more sophisticated than those allowed by non-overlapping lists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To speed up query processing, nearby nodes are inspected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Types of queries that can be asked are somewhat limited (all nodes in the answer must come from a same index hierarchy!)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Model is a compromise between efficiency and expressiveness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6699"/>
                </a:solidFill>
                <a:latin typeface="Arial Narrow"/>
              </a:rPr>
              <a:t>Introduc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Keyword-based query answering considers that the documents are flat i.e., a word in the title has the same weight as a word in the body of the document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But, the document structure is one additional piece of information which can be taken advantage of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For instance, words appearing in the title or in sub-titles within the document could receive  higher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819520" y="609480"/>
            <a:ext cx="6095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6699"/>
                </a:solidFill>
                <a:latin typeface="Arial Narrow"/>
              </a:rPr>
              <a:t>Introduction</a:t>
            </a:r>
            <a:endParaRPr b="0" lang="en-US" sz="4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Consider the following information need: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Retrieve all documents which contain a page in which the string “atomic holocaust” appears in italic in the text surrounding a Figure whose label contains the word </a:t>
            </a:r>
            <a:r>
              <a:rPr b="0" i="1" lang="pt-BR" sz="2600" spc="-1" strike="noStrike">
                <a:solidFill>
                  <a:srgbClr val="009999"/>
                </a:solidFill>
                <a:latin typeface="Arial"/>
              </a:rPr>
              <a:t>earth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The corresponding query could be: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same-page( near( “atomic holocaust”, 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        Figure( label( “earth” ))))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819520" y="609480"/>
            <a:ext cx="6095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6699"/>
                </a:solidFill>
                <a:latin typeface="Arial Narrow"/>
              </a:rPr>
              <a:t>Introduction</a:t>
            </a:r>
            <a:endParaRPr b="0" lang="en-US" sz="4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Advanced interfaces that facilitate the specification of the structure  are also highly desirable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Models which allow combining information on text content with information on document structure are called 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structured text models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Structured text models include no ranking (open research problem)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819520" y="609480"/>
            <a:ext cx="6095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6699"/>
                </a:solidFill>
                <a:latin typeface="Arial Narrow"/>
              </a:rPr>
              <a:t>Basic Definitions</a:t>
            </a:r>
            <a:endParaRPr b="0" lang="en-US" sz="4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Match point: 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the position in the text of a sequence of words that match the query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Query: “atomic holocaust in Hiroshima”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Doc dj: contains 3 lines with this string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Then, doc dj contains 3 match points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Region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: a contiguous portion of the text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Node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: a structural component of the text such as a chapter, a section, etc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057400" y="609480"/>
            <a:ext cx="6095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6699"/>
                </a:solidFill>
                <a:latin typeface="Arial Narrow"/>
              </a:rPr>
              <a:t>Non-Overlapping Lists</a:t>
            </a:r>
            <a:endParaRPr b="0" lang="en-US" sz="4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Due to Burkowski, 1992.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Idea: divide the text in 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non-overlapping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regions which are collected in a 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list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Multiple ways to divide the text in non-overlapping parts yield multiple lists: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a list for chapters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a list for sections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a list for subsections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Text regions from distinct lists might overlap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981080" y="304920"/>
            <a:ext cx="6096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6699"/>
                </a:solidFill>
                <a:latin typeface="Arial Narrow"/>
              </a:rPr>
              <a:t>Non-Overlapping Lists</a:t>
            </a:r>
            <a:endParaRPr b="0" lang="en-US" sz="4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1890720" y="4476600"/>
            <a:ext cx="4908600" cy="0"/>
            <a:chOff x="1890720" y="4476600"/>
            <a:chExt cx="4908600" cy="0"/>
          </a:xfrm>
        </p:grpSpPr>
        <p:sp>
          <p:nvSpPr>
            <p:cNvPr id="100" name=""/>
            <p:cNvSpPr/>
            <p:nvPr/>
          </p:nvSpPr>
          <p:spPr>
            <a:xfrm>
              <a:off x="1890720" y="4476600"/>
              <a:ext cx="1103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57720" y="4476600"/>
              <a:ext cx="2207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71680" y="4476600"/>
              <a:ext cx="82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890720" y="5788080"/>
            <a:ext cx="4895280" cy="0"/>
            <a:chOff x="1890720" y="5788080"/>
            <a:chExt cx="4895280" cy="0"/>
          </a:xfrm>
        </p:grpSpPr>
        <p:grpSp>
          <p:nvGrpSpPr>
            <p:cNvPr id="104" name=""/>
            <p:cNvGrpSpPr/>
            <p:nvPr/>
          </p:nvGrpSpPr>
          <p:grpSpPr>
            <a:xfrm>
              <a:off x="3386520" y="5788080"/>
              <a:ext cx="2175840" cy="0"/>
              <a:chOff x="3386520" y="5788080"/>
              <a:chExt cx="2175840" cy="0"/>
            </a:xfrm>
          </p:grpSpPr>
          <p:sp>
            <p:nvSpPr>
              <p:cNvPr id="105" name=""/>
              <p:cNvSpPr/>
              <p:nvPr/>
            </p:nvSpPr>
            <p:spPr>
              <a:xfrm>
                <a:off x="3386520" y="5788080"/>
                <a:ext cx="612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134240" y="5788080"/>
                <a:ext cx="747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18400" y="5788080"/>
                <a:ext cx="543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6038640" y="5788080"/>
              <a:ext cx="747360" cy="0"/>
              <a:chOff x="6038640" y="5788080"/>
              <a:chExt cx="747360" cy="0"/>
            </a:xfrm>
          </p:grpSpPr>
          <p:sp>
            <p:nvSpPr>
              <p:cNvPr id="109" name=""/>
              <p:cNvSpPr/>
              <p:nvPr/>
            </p:nvSpPr>
            <p:spPr>
              <a:xfrm>
                <a:off x="6038640" y="5788080"/>
                <a:ext cx="4078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582240" y="5788080"/>
                <a:ext cx="203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1890720" y="5788080"/>
              <a:ext cx="1087920" cy="0"/>
              <a:chOff x="1890720" y="5788080"/>
              <a:chExt cx="1087920" cy="0"/>
            </a:xfrm>
          </p:grpSpPr>
          <p:sp>
            <p:nvSpPr>
              <p:cNvPr id="112" name=""/>
              <p:cNvSpPr/>
              <p:nvPr/>
            </p:nvSpPr>
            <p:spPr>
              <a:xfrm>
                <a:off x="1890720" y="5788080"/>
                <a:ext cx="3398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366640" y="5788080"/>
                <a:ext cx="612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4" name=""/>
          <p:cNvSpPr/>
          <p:nvPr/>
        </p:nvSpPr>
        <p:spPr>
          <a:xfrm>
            <a:off x="1143000" y="1447920"/>
            <a:ext cx="689040" cy="9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Times New Roman"/>
              </a:rPr>
              <a:t>L</a:t>
            </a:r>
            <a:r>
              <a:rPr b="0" lang="pt-BR" sz="2400" spc="-1" strike="noStrike" baseline="-25000">
                <a:solidFill>
                  <a:srgbClr val="009999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2712960"/>
            <a:ext cx="68904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Times New Roman"/>
              </a:rPr>
              <a:t>L</a:t>
            </a:r>
            <a:r>
              <a:rPr b="0" lang="pt-BR" sz="2400" spc="-1" strike="noStrike" baseline="-25000">
                <a:solidFill>
                  <a:srgbClr val="0099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3979800"/>
            <a:ext cx="68904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Times New Roman"/>
              </a:rPr>
              <a:t>L</a:t>
            </a:r>
            <a:r>
              <a:rPr b="0" lang="pt-BR" sz="2400" spc="-1" strike="noStrike" baseline="-25000">
                <a:solidFill>
                  <a:srgbClr val="0099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4760" y="2894040"/>
            <a:ext cx="14511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Times New Roman"/>
              </a:rPr>
              <a:t>Section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4760" y="4160880"/>
            <a:ext cx="183204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Times New Roman"/>
              </a:rPr>
              <a:t>SubSection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4760" y="5516640"/>
            <a:ext cx="228924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Times New Roman"/>
              </a:rPr>
              <a:t>SubSubSection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890720" y="3165480"/>
            <a:ext cx="4896000" cy="0"/>
            <a:chOff x="1890720" y="3165480"/>
            <a:chExt cx="4896000" cy="0"/>
          </a:xfrm>
        </p:grpSpPr>
        <p:sp>
          <p:nvSpPr>
            <p:cNvPr id="121" name=""/>
            <p:cNvSpPr/>
            <p:nvPr/>
          </p:nvSpPr>
          <p:spPr>
            <a:xfrm>
              <a:off x="1890720" y="3165480"/>
              <a:ext cx="367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902920" y="3165480"/>
              <a:ext cx="883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1890720" y="1900080"/>
            <a:ext cx="4896000" cy="1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5335560"/>
            <a:ext cx="689040" cy="9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Times New Roman"/>
              </a:rPr>
              <a:t>L</a:t>
            </a:r>
            <a:r>
              <a:rPr b="0" lang="pt-BR" sz="2400" spc="-1" strike="noStrike" baseline="-25000">
                <a:solidFill>
                  <a:srgbClr val="009999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4760" y="1628640"/>
            <a:ext cx="145116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Times New Roman"/>
              </a:rPr>
              <a:t>Chapt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828800" y="380880"/>
            <a:ext cx="6095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6699"/>
                </a:solidFill>
                <a:latin typeface="Arial Narrow"/>
              </a:rPr>
              <a:t>Non-Overlapping Lists</a:t>
            </a:r>
            <a:endParaRPr b="0" lang="en-US" sz="4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175248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Implementation: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single inverted file that combines keywords and text regions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to each entry in this inverted file is associated a list of text regions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lists of text regions can be merged with lists of keywords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828800" y="380880"/>
            <a:ext cx="6095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6699"/>
                </a:solidFill>
                <a:latin typeface="Arial Narrow"/>
              </a:rPr>
              <a:t>Non-Overlapping Lists</a:t>
            </a:r>
            <a:endParaRPr b="0" lang="en-US" sz="4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175248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Regions are non-overlapping which limits the queries that can be asked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Types of queries: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select a region that contains a given word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select a region A that does not contain a region B (regions A and B belong to distinct lists) 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select a region not contained within any other region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30T17:37:47Z</dcterms:created>
  <dc:creator>berthier</dc:creator>
  <dc:description/>
  <dc:language>en-US</dc:language>
  <cp:lastModifiedBy>Rosa</cp:lastModifiedBy>
  <dcterms:modified xsi:type="dcterms:W3CDTF">1999-10-04T12:47:42Z</dcterms:modified>
  <cp:revision>18</cp:revision>
  <dc:subject/>
  <dc:title>Recuperação de Informação B</dc:title>
</cp:coreProperties>
</file>