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r">
              <a:lnSpc>
                <a:spcPct val="17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157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175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177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179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181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183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185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187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189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191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193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159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195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197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199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201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203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205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207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161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163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165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167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169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171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90720" y="303120"/>
            <a:ext cx="4873680" cy="3560760"/>
          </a:xfrm>
          <a:prstGeom prst="rect">
            <a:avLst/>
          </a:prstGeom>
          <a:ln w="0">
            <a:noFill/>
          </a:ln>
        </p:spPr>
      </p:sp>
      <p:sp>
        <p:nvSpPr>
          <p:cNvPr id="173" name=""/>
          <p:cNvSpPr/>
          <p:nvPr/>
        </p:nvSpPr>
        <p:spPr>
          <a:xfrm>
            <a:off x="503280" y="4316400"/>
            <a:ext cx="585324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819520" y="403200"/>
            <a:ext cx="609264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09264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819520" y="4323960"/>
            <a:ext cx="609264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819520" y="403200"/>
            <a:ext cx="609264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297288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41440" y="1981080"/>
            <a:ext cx="297288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819520" y="4323960"/>
            <a:ext cx="297288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41440" y="4323960"/>
            <a:ext cx="297288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819520" y="403200"/>
            <a:ext cx="609264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196164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9800" y="1981080"/>
            <a:ext cx="196164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9720" y="1981080"/>
            <a:ext cx="196164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819520" y="4323960"/>
            <a:ext cx="196164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79800" y="4323960"/>
            <a:ext cx="196164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9720" y="4323960"/>
            <a:ext cx="196164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819520" y="403200"/>
            <a:ext cx="609264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819520" y="1981080"/>
            <a:ext cx="609264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2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520" y="403200"/>
            <a:ext cx="609264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09264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520" y="403200"/>
            <a:ext cx="609264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297288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941440" y="1981080"/>
            <a:ext cx="297288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19520" y="403200"/>
            <a:ext cx="609264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819520" y="403200"/>
            <a:ext cx="6092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2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520" y="403200"/>
            <a:ext cx="609264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297288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941440" y="1981080"/>
            <a:ext cx="297288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819520" y="4323960"/>
            <a:ext cx="297288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819520" y="403200"/>
            <a:ext cx="609264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819520" y="1981080"/>
            <a:ext cx="609264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2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819520" y="403200"/>
            <a:ext cx="609264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297288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941440" y="1981080"/>
            <a:ext cx="297288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41440" y="4323960"/>
            <a:ext cx="297288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819520" y="403200"/>
            <a:ext cx="609264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297288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941440" y="1981080"/>
            <a:ext cx="297288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819520" y="4323960"/>
            <a:ext cx="609264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19520" y="403200"/>
            <a:ext cx="609264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09264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819520" y="4323960"/>
            <a:ext cx="609264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19520" y="403200"/>
            <a:ext cx="609264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297288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941440" y="1981080"/>
            <a:ext cx="297288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819520" y="4323960"/>
            <a:ext cx="297288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941440" y="4323960"/>
            <a:ext cx="297288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19520" y="403200"/>
            <a:ext cx="609264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196164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79800" y="1981080"/>
            <a:ext cx="196164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39720" y="1981080"/>
            <a:ext cx="196164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819520" y="4323960"/>
            <a:ext cx="196164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879800" y="4323960"/>
            <a:ext cx="196164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939720" y="4323960"/>
            <a:ext cx="196164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819520" y="403200"/>
            <a:ext cx="609264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09264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819520" y="403200"/>
            <a:ext cx="609264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297288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41440" y="1981080"/>
            <a:ext cx="297288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819520" y="403200"/>
            <a:ext cx="609264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819520" y="403200"/>
            <a:ext cx="6092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2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819520" y="403200"/>
            <a:ext cx="609264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297288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41440" y="1981080"/>
            <a:ext cx="297288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819520" y="4323960"/>
            <a:ext cx="297288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819520" y="403200"/>
            <a:ext cx="609264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297288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41440" y="1981080"/>
            <a:ext cx="297288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41440" y="4323960"/>
            <a:ext cx="297288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819520" y="403200"/>
            <a:ext cx="609264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297288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41440" y="1981080"/>
            <a:ext cx="297288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819520" y="4323960"/>
            <a:ext cx="6092640" cy="213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843120"/>
            <a:ext cx="2892600" cy="6014880"/>
          </a:xfrm>
          <a:custGeom>
            <a:avLst/>
            <a:gdLst/>
            <a:ahLst/>
            <a:rect l="l" t="t" r="r" b="b"/>
            <a:pathLst>
              <a:path w="8040" h="16713">
                <a:moveTo>
                  <a:pt x="0" y="0"/>
                </a:moveTo>
                <a:lnTo>
                  <a:pt x="521" y="38"/>
                </a:lnTo>
                <a:lnTo>
                  <a:pt x="1039" y="143"/>
                </a:lnTo>
                <a:lnTo>
                  <a:pt x="1557" y="317"/>
                </a:lnTo>
                <a:lnTo>
                  <a:pt x="2079" y="558"/>
                </a:lnTo>
                <a:lnTo>
                  <a:pt x="2583" y="875"/>
                </a:lnTo>
                <a:lnTo>
                  <a:pt x="3067" y="1260"/>
                </a:lnTo>
                <a:lnTo>
                  <a:pt x="3553" y="1713"/>
                </a:lnTo>
                <a:lnTo>
                  <a:pt x="4020" y="2233"/>
                </a:lnTo>
                <a:lnTo>
                  <a:pt x="4454" y="2830"/>
                </a:lnTo>
                <a:lnTo>
                  <a:pt x="4893" y="3456"/>
                </a:lnTo>
                <a:lnTo>
                  <a:pt x="5291" y="4158"/>
                </a:lnTo>
                <a:lnTo>
                  <a:pt x="5673" y="4890"/>
                </a:lnTo>
                <a:lnTo>
                  <a:pt x="6043" y="5689"/>
                </a:lnTo>
                <a:lnTo>
                  <a:pt x="6362" y="6527"/>
                </a:lnTo>
                <a:lnTo>
                  <a:pt x="6681" y="7432"/>
                </a:lnTo>
                <a:lnTo>
                  <a:pt x="6949" y="8375"/>
                </a:lnTo>
                <a:lnTo>
                  <a:pt x="7199" y="9318"/>
                </a:lnTo>
                <a:lnTo>
                  <a:pt x="7421" y="10330"/>
                </a:lnTo>
                <a:lnTo>
                  <a:pt x="7601" y="11341"/>
                </a:lnTo>
                <a:lnTo>
                  <a:pt x="7772" y="12389"/>
                </a:lnTo>
                <a:lnTo>
                  <a:pt x="7886" y="13468"/>
                </a:lnTo>
                <a:lnTo>
                  <a:pt x="7970" y="14546"/>
                </a:lnTo>
                <a:lnTo>
                  <a:pt x="8021" y="15625"/>
                </a:lnTo>
                <a:lnTo>
                  <a:pt x="8039" y="16712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04920" y="6248520"/>
            <a:ext cx="1901880" cy="45396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1280" y="6248520"/>
            <a:ext cx="2892600" cy="45396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819520" y="403200"/>
            <a:ext cx="609264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819520" y="1981080"/>
            <a:ext cx="6092640" cy="448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72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lnSpc>
                <a:spcPct val="72000"/>
              </a:lnSpc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lnSpc>
                <a:spcPct val="72000"/>
              </a:lnSpc>
              <a:spcBef>
                <a:spcPts val="700"/>
              </a:spcBef>
              <a:buClr>
                <a:srgbClr val="336699"/>
              </a:buClr>
              <a:buFont typeface="Times New Roman"/>
              <a:buChar char="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lnSpc>
                <a:spcPct val="72000"/>
              </a:lnSpc>
              <a:spcBef>
                <a:spcPts val="700"/>
              </a:spcBef>
              <a:buClr>
                <a:srgbClr val="ff9966"/>
              </a:buClr>
              <a:buFont typeface="Times New Roman"/>
              <a:buChar char="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lnSpc>
                <a:spcPct val="7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lnSpc>
                <a:spcPct val="72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843120"/>
            <a:ext cx="2892600" cy="6014880"/>
          </a:xfrm>
          <a:custGeom>
            <a:avLst/>
            <a:gdLst/>
            <a:ahLst/>
            <a:rect l="l" t="t" r="r" b="b"/>
            <a:pathLst>
              <a:path w="8040" h="16713">
                <a:moveTo>
                  <a:pt x="0" y="0"/>
                </a:moveTo>
                <a:lnTo>
                  <a:pt x="521" y="38"/>
                </a:lnTo>
                <a:lnTo>
                  <a:pt x="1039" y="143"/>
                </a:lnTo>
                <a:lnTo>
                  <a:pt x="1557" y="317"/>
                </a:lnTo>
                <a:lnTo>
                  <a:pt x="2079" y="558"/>
                </a:lnTo>
                <a:lnTo>
                  <a:pt x="2583" y="875"/>
                </a:lnTo>
                <a:lnTo>
                  <a:pt x="3067" y="1260"/>
                </a:lnTo>
                <a:lnTo>
                  <a:pt x="3553" y="1713"/>
                </a:lnTo>
                <a:lnTo>
                  <a:pt x="4020" y="2233"/>
                </a:lnTo>
                <a:lnTo>
                  <a:pt x="4454" y="2830"/>
                </a:lnTo>
                <a:lnTo>
                  <a:pt x="4893" y="3456"/>
                </a:lnTo>
                <a:lnTo>
                  <a:pt x="5291" y="4158"/>
                </a:lnTo>
                <a:lnTo>
                  <a:pt x="5673" y="4890"/>
                </a:lnTo>
                <a:lnTo>
                  <a:pt x="6043" y="5689"/>
                </a:lnTo>
                <a:lnTo>
                  <a:pt x="6362" y="6527"/>
                </a:lnTo>
                <a:lnTo>
                  <a:pt x="6681" y="7432"/>
                </a:lnTo>
                <a:lnTo>
                  <a:pt x="6949" y="8375"/>
                </a:lnTo>
                <a:lnTo>
                  <a:pt x="7199" y="9318"/>
                </a:lnTo>
                <a:lnTo>
                  <a:pt x="7421" y="10330"/>
                </a:lnTo>
                <a:lnTo>
                  <a:pt x="7601" y="11341"/>
                </a:lnTo>
                <a:lnTo>
                  <a:pt x="7772" y="12389"/>
                </a:lnTo>
                <a:lnTo>
                  <a:pt x="7886" y="13468"/>
                </a:lnTo>
                <a:lnTo>
                  <a:pt x="7970" y="14546"/>
                </a:lnTo>
                <a:lnTo>
                  <a:pt x="8021" y="15625"/>
                </a:lnTo>
                <a:lnTo>
                  <a:pt x="8039" y="16712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6248520"/>
            <a:ext cx="1901880" cy="45396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81280" y="6248520"/>
            <a:ext cx="2892600" cy="453960"/>
          </a:xfrm>
          <a:prstGeom prst="roundRect">
            <a:avLst>
              <a:gd name="adj" fmla="val 3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72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lnSpc>
                <a:spcPct val="72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lnSpc>
                <a:spcPct val="72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lnSpc>
                <a:spcPct val="72000"/>
              </a:lnSpc>
              <a:spcBef>
                <a:spcPts val="499"/>
              </a:spcBef>
              <a:buClr>
                <a:srgbClr val="336699"/>
              </a:buClr>
              <a:buFont typeface="Times New Roman"/>
              <a:buChar char="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lnSpc>
                <a:spcPct val="72000"/>
              </a:lnSpc>
              <a:spcBef>
                <a:spcPts val="499"/>
              </a:spcBef>
              <a:buClr>
                <a:srgbClr val="ff9966"/>
              </a:buClr>
              <a:buFont typeface="Times New Roman"/>
              <a:buChar char="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62320" y="-46440"/>
            <a:ext cx="6395760" cy="15210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ctr">
              <a:lnSpc>
                <a:spcPct val="57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6699"/>
                </a:solidFill>
                <a:latin typeface="Times New Roman"/>
              </a:rPr>
              <a:t>Automatic Global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2087640"/>
            <a:ext cx="456876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ctr">
            <a:noAutofit/>
          </a:bodyPr>
          <a:p>
            <a:pPr>
              <a:lnSpc>
                <a:spcPct val="72000"/>
              </a:lnSpc>
              <a:spcBef>
                <a:spcPts val="524"/>
              </a:spcBef>
              <a:tabLst>
                <a:tab algn="l" pos="0"/>
                <a:tab algn="l" pos="623880"/>
                <a:tab algn="l" pos="1440000"/>
                <a:tab algn="l" pos="2255760"/>
                <a:tab algn="l" pos="3071880"/>
                <a:tab algn="l" pos="3889440"/>
                <a:tab algn="l" pos="4103640"/>
                <a:tab algn="l" pos="43196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Cap. 5: Query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spcBef>
                <a:spcPts val="524"/>
              </a:spcBef>
              <a:tabLst>
                <a:tab algn="l" pos="0"/>
                <a:tab algn="l" pos="623880"/>
                <a:tab algn="l" pos="1440000"/>
                <a:tab algn="l" pos="2255760"/>
                <a:tab algn="l" pos="3071880"/>
                <a:tab algn="l" pos="3889440"/>
                <a:tab algn="l" pos="4103640"/>
                <a:tab algn="l" pos="43196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Section 5.4: Automatic Glob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spcBef>
                <a:spcPts val="524"/>
              </a:spcBef>
              <a:tabLst>
                <a:tab algn="l" pos="0"/>
                <a:tab algn="l" pos="623880"/>
                <a:tab algn="l" pos="1440000"/>
                <a:tab algn="l" pos="2255760"/>
                <a:tab algn="l" pos="3071880"/>
                <a:tab algn="l" pos="3889440"/>
                <a:tab algn="l" pos="4103640"/>
                <a:tab algn="l" pos="43196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spcBef>
                <a:spcPts val="524"/>
              </a:spcBef>
              <a:tabLst>
                <a:tab algn="l" pos="0"/>
                <a:tab algn="l" pos="623880"/>
                <a:tab algn="l" pos="1440000"/>
                <a:tab algn="l" pos="2255760"/>
                <a:tab algn="l" pos="3071880"/>
                <a:tab algn="l" pos="3889440"/>
                <a:tab algn="l" pos="4103640"/>
                <a:tab algn="l" pos="4319640"/>
                <a:tab algn="l" pos="43434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27 de Outubro de 19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520" y="600120"/>
            <a:ext cx="6092640" cy="1139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Query Expansion based on a Similarity Thesau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092640" cy="4276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524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Query expansion is done in three steps as follows: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524"/>
              </a:spcBef>
              <a:buClr>
                <a:srgbClr val="ff9966"/>
              </a:buClr>
              <a:buSzPct val="65000"/>
              <a:buFont typeface="Symbo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Represent the query in the concept space used for representation of the index term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638"/>
              </a:spcBef>
              <a:buClr>
                <a:srgbClr val="ff9966"/>
              </a:buClr>
              <a:buSzPct val="65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Based on the global similarity thesaurus, compute a similarity sim(q,kv) between each term kv correlated to the query terms and the whole query q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638"/>
              </a:spcBef>
              <a:buClr>
                <a:srgbClr val="ff9966"/>
              </a:buClr>
              <a:buSzPct val="65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Expand the query with the top r ranked terms according to sim(q,kv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520" y="561960"/>
            <a:ext cx="6092640" cy="1139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Query Expansion - step 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092640" cy="41119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9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o the query q is associated a vector q in the term-concept space given b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72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72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72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1176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where wi,q is a weight associated to the index-query pair[ki,q]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495680" y="3657600"/>
            <a:ext cx="2206800" cy="1079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343400" y="2514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819520" y="561960"/>
            <a:ext cx="6092640" cy="1139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Query Expansion - step tw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092640" cy="41119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1176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Compute a similarity sim(q,kv) between each term kv and the user query q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72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72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72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1176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where cu,v is the correlation facto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68560" y="3581280"/>
            <a:ext cx="5186520" cy="9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19520" y="600120"/>
            <a:ext cx="6092640" cy="1139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Query Expansion - step th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819520" y="1980720"/>
            <a:ext cx="6092640" cy="4195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53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Add the top r ranked terms according to sim(q,kv) to the original query q to form the expanded query q’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53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To each expansion term kv in the query q’ is assigned a weight wv,q’ given by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72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72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72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72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72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The expanded query q’ is then used to retrieve new documents to the user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62520" y="3733920"/>
            <a:ext cx="3502080" cy="17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19520" y="561960"/>
            <a:ext cx="6092640" cy="1139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Query Expansion S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42840" y="1447560"/>
            <a:ext cx="6093000" cy="43765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Doc1 = D, D, A, B, C, A, B, C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Doc2 = E, C, E, A, A, D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Doc3 = D, C, B, B, D, A, B, C, 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Doc4 = A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72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c(A,A) =  10.991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c(A,C) =  10.781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c(A,D) =  10.781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c(D,E) =  10.398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c(B,E) =  10.396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c(E,E) =  10.224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19520" y="561960"/>
            <a:ext cx="6092640" cy="1139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Query Expansion S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19520" y="1523880"/>
            <a:ext cx="6092640" cy="43768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Query: q = A E 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sim(q,A) =  24.298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sim(q,C) =  23.833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sim(q,D) =  23.833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sim(q,B) =  23.830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sim(q,E) =  23.435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72000"/>
              </a:lnSpc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New query: q’ = A C D E E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w(A,q')= 6.88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w(C,q')= 6.75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w(D,q')= 6.75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w(E,q')= 6.64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819520" y="600120"/>
            <a:ext cx="6092640" cy="1139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Query Expansion Based on a Global Statistical Thesau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19520" y="1752480"/>
            <a:ext cx="6092640" cy="44611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Global thesaurus is composed of classes which group correlated terms in the context of the whole collection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Such correlated terms can then be used to expand the original user query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This terms must be low frequency term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However, it is difficult to cluster low frequency terms 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To circumvent this problem, we cluster documents into classes instead and use the low frequency terms in these documents to define our thesaurus classes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This algorithm must produce small and tight clusters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19520" y="561960"/>
            <a:ext cx="6092640" cy="1139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Complete link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666520" y="1447920"/>
            <a:ext cx="6093000" cy="47671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This is document clustering algorithm with produces small and tight cluster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72000"/>
              </a:lnSpc>
              <a:spcBef>
                <a:spcPts val="437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Place each document in a distinct cluster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72000"/>
              </a:lnSpc>
              <a:spcBef>
                <a:spcPts val="437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Compute the similarity between all pairs of clusters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72000"/>
              </a:lnSpc>
              <a:spcBef>
                <a:spcPts val="53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Determine the pair of clusters [Cu,Cv] with the highest inter-cluster similarity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72000"/>
              </a:lnSpc>
              <a:spcBef>
                <a:spcPts val="53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Merge the clusters Cu and Cv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72000"/>
              </a:lnSpc>
              <a:spcBef>
                <a:spcPts val="437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Verify a stop criterion. If this criterion is not met then go back to step 2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72000"/>
              </a:lnSpc>
              <a:spcBef>
                <a:spcPts val="437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Return a hierarchy of clusters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Similarity between two clusters is defined as the minimum of similarities between all pair of inter-cluster document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19520" y="491760"/>
            <a:ext cx="6092640" cy="12812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lecting the terms that compose each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092640" cy="41119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524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Given the document cluster hierarchy for the whole collection, the terms that compose each class of the global thesaurus are selected as follow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72000"/>
              </a:lnSpc>
              <a:spcBef>
                <a:spcPts val="476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9999"/>
                </a:solidFill>
                <a:latin typeface="Arial"/>
              </a:rPr>
              <a:t>Obtain from the user three parameters</a:t>
            </a:r>
            <a:endParaRPr b="0" lang="en-US" sz="22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lnSpc>
                <a:spcPct val="72000"/>
              </a:lnSpc>
              <a:spcBef>
                <a:spcPts val="45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TC: Threshold clas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lnSpc>
                <a:spcPct val="72000"/>
              </a:lnSpc>
              <a:spcBef>
                <a:spcPts val="45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NDC: Number of documents in clas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lnSpc>
                <a:spcPct val="72000"/>
              </a:lnSpc>
              <a:spcBef>
                <a:spcPts val="45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MIDF: Minimum inverse document frequency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19520" y="491760"/>
            <a:ext cx="6092640" cy="12812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lecting the terms that compose each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092640" cy="44690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9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Use the parameter TC as threshold value for determining the document clusters that will be used to generate thesaurus class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1176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his threshold has to be surpassed by sim(Cu,Cv) if the documents in the clusters Cu and Cv are to be selected as sources of terms for a thesaurus clas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520" y="561960"/>
            <a:ext cx="6092640" cy="1139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Motiv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520" y="1523520"/>
            <a:ext cx="6092640" cy="43578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524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Methods of local analysis extract information from local set of documents retrieved to expand the query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524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An alternative is to expand the query using information from the whole set of document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524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Until the beginning of the 1990s this techniques failed to yield consistent improvements in retrieval performance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524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Now, with moderns variants, some times based in thesaurus, this perception has changed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19520" y="491760"/>
            <a:ext cx="6092640" cy="12812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lecting the terms that compose each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092640" cy="41119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9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Use the parameter NDC as a limit on the size of clusters (number of documents) to be considered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1176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A low value of NDC might restrict the selection to the smaller cluster Cu+v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819520" y="491760"/>
            <a:ext cx="6092640" cy="12812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lecting the terms that compose each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092640" cy="41119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524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Consider the set of document in each document cluster pre-selected above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524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Only the lower frequency documents are used as sources of terms for the thesaurus classe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524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The parameter MIDF defines the minimum value of inverse document frequency for any term which is selected to participate in a thesaurus clas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19520" y="600120"/>
            <a:ext cx="6092640" cy="1139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Query Expansion based on a Statistical Thesau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092640" cy="41119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524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Use the thesaurus class to query expansion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524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Compute an average term weight wtc for each thesaurus class C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302000" y="3962520"/>
            <a:ext cx="24418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819520" y="600120"/>
            <a:ext cx="6092640" cy="1139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Query Expansion based on a Statistical Thesau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092640" cy="41119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524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wtc can be used to compute a thesaurus class weight wc a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108320" y="3206880"/>
            <a:ext cx="2441880" cy="11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819520" y="561960"/>
            <a:ext cx="6092640" cy="1139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Query Expansion S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419720" y="5715000"/>
            <a:ext cx="4263840" cy="3967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Arial"/>
              </a:rPr>
              <a:t>TC = 0.90 NDC = 2.00 MIDF = 0.2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080" y="2795760"/>
            <a:ext cx="206244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46080" bIns="4608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816120"/>
                <a:tab algn="l" pos="1633680"/>
                <a:tab algn="l" pos="1728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sim(1,3) = 0.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816120"/>
                <a:tab algn="l" pos="1633680"/>
                <a:tab algn="l" pos="1728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sim(1,2) = 0.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816120"/>
                <a:tab algn="l" pos="1633680"/>
                <a:tab algn="l" pos="1728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sim(1,2) = 0.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816120"/>
                <a:tab algn="l" pos="1633680"/>
                <a:tab algn="l" pos="1728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sim(2,3) = 0.2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816120"/>
                <a:tab algn="l" pos="1633680"/>
                <a:tab algn="l" pos="1728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sim(4,1) = 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816120"/>
                <a:tab algn="l" pos="1633680"/>
                <a:tab algn="l" pos="1728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sim(4,2) = 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816120"/>
                <a:tab algn="l" pos="1633680"/>
                <a:tab algn="l" pos="1728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9999"/>
                </a:solidFill>
                <a:latin typeface="Times New Roman"/>
              </a:rPr>
              <a:t>sim(4,3) = 0.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0040" y="1457280"/>
            <a:ext cx="36496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46080" bIns="46080" anchor="ctr">
            <a:noAutofit/>
          </a:bodyPr>
          <a:p>
            <a:pPr>
              <a:lnSpc>
                <a:spcPct val="72000"/>
              </a:lnSpc>
              <a:spcBef>
                <a:spcPts val="388"/>
              </a:spcBef>
              <a:tabLst>
                <a:tab algn="l" pos="0"/>
                <a:tab algn="l" pos="816120"/>
                <a:tab algn="l" pos="1633680"/>
                <a:tab algn="l" pos="2449440"/>
                <a:tab algn="l" pos="2735280"/>
                <a:tab algn="l" pos="3419640"/>
                <a:tab algn="l" pos="345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Times New Roman"/>
              </a:rPr>
              <a:t>Doc1 = D, D, A, B, C, A, B,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spcBef>
                <a:spcPts val="388"/>
              </a:spcBef>
              <a:tabLst>
                <a:tab algn="l" pos="0"/>
                <a:tab algn="l" pos="816120"/>
                <a:tab algn="l" pos="1633680"/>
                <a:tab algn="l" pos="2449440"/>
                <a:tab algn="l" pos="2735280"/>
                <a:tab algn="l" pos="3419640"/>
                <a:tab algn="l" pos="345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Times New Roman"/>
              </a:rPr>
              <a:t>Doc2 = E, C, E, A, A,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spcBef>
                <a:spcPts val="388"/>
              </a:spcBef>
              <a:tabLst>
                <a:tab algn="l" pos="0"/>
                <a:tab algn="l" pos="816120"/>
                <a:tab algn="l" pos="1633680"/>
                <a:tab algn="l" pos="2449440"/>
                <a:tab algn="l" pos="2735280"/>
                <a:tab algn="l" pos="3419640"/>
                <a:tab algn="l" pos="345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Times New Roman"/>
              </a:rPr>
              <a:t>Doc3 = D, C, B, B, D, A, B, C,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spcBef>
                <a:spcPts val="388"/>
              </a:spcBef>
              <a:tabLst>
                <a:tab algn="l" pos="0"/>
                <a:tab algn="l" pos="816120"/>
                <a:tab algn="l" pos="1633680"/>
                <a:tab algn="l" pos="2449440"/>
                <a:tab algn="l" pos="2735280"/>
                <a:tab algn="l" pos="3419640"/>
                <a:tab algn="l" pos="345600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9999"/>
                </a:solidFill>
                <a:latin typeface="Times New Roman"/>
              </a:rPr>
              <a:t>Doc4 =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267080" y="1447920"/>
            <a:ext cx="4492800" cy="42465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130480" y="5670720"/>
            <a:ext cx="18108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3800" y="5038560"/>
            <a:ext cx="167328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46080" bIns="46080" anchor="ctr" anchorCtr="1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816120"/>
                <a:tab algn="l" pos="13683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idf A = 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816120"/>
                <a:tab algn="l" pos="13683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idf B = 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816120"/>
                <a:tab algn="l" pos="13683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idf C = 0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816120"/>
                <a:tab algn="l" pos="13683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idf D = 0.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2000"/>
              </a:lnSpc>
              <a:tabLst>
                <a:tab algn="l" pos="0"/>
                <a:tab algn="l" pos="816120"/>
                <a:tab algn="l" pos="136836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idf E = 0.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626000" y="6237360"/>
            <a:ext cx="13986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684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q'=A B 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35640" y="1587600"/>
            <a:ext cx="14047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>
              <a:lnSpc>
                <a:spcPct val="72000"/>
              </a:lnSpc>
              <a:tabLst>
                <a:tab algn="l" pos="0"/>
                <a:tab algn="l" pos="684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Times New Roman"/>
              </a:rPr>
              <a:t>q= A E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819520" y="600120"/>
            <a:ext cx="6092640" cy="1139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Query Expansion based on a Statistical Thesau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092640" cy="41119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9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Problems with this approach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72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99"/>
                </a:solidFill>
                <a:latin typeface="Arial"/>
              </a:rPr>
              <a:t>initialization of parameters TC,NDC and MIDF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72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99"/>
                </a:solidFill>
                <a:latin typeface="Arial"/>
              </a:rPr>
              <a:t>TC depends on the collection 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72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99"/>
                </a:solidFill>
                <a:latin typeface="Arial"/>
              </a:rPr>
              <a:t>Inspection of the cluster hierarchy is almost always necessary for assisting with the setting of TC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72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99"/>
                </a:solidFill>
                <a:latin typeface="Arial"/>
              </a:rPr>
              <a:t>A high value of TC might yield classes with too few term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19520" y="471600"/>
            <a:ext cx="6092640" cy="13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r">
              <a:lnSpc>
                <a:spcPct val="1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19520" y="1980720"/>
            <a:ext cx="6092640" cy="441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2000"/>
              </a:lnSpc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hesaurus is a efficient method to expand queri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he computation is expensive but it is executed only onc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Query expansion based on similarity thesaurus may use high term frequency to expand the quer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Query expansion based on statistical thesaurus need well defined parameter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520" y="561960"/>
            <a:ext cx="6092640" cy="1139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utomatic Local Analy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092640" cy="41119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9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here are two modern variants based on a thesaurus-like structure built using all documents in collec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72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99"/>
                </a:solidFill>
                <a:latin typeface="Arial"/>
              </a:rPr>
              <a:t>Query Expansion based on a Similarity Thesauru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72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99"/>
                </a:solidFill>
                <a:latin typeface="Arial"/>
              </a:rPr>
              <a:t>Query Expansion based on a Statistical Thesauru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19520" y="561960"/>
            <a:ext cx="6092640" cy="1139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imilarity Thesau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092640" cy="41119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The similarity thesaurus is based on term to term relationships rather than on a matrix of co-occurrence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This relationship are not derived directly from co-occurrence of terms inside documents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They are obtained by considering that the terms are concepts in a concept space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In this concept space, each term is indexed by the documents in which it appears.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437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9999"/>
                </a:solidFill>
                <a:latin typeface="Arial"/>
              </a:rPr>
              <a:t>Terms assume the original role of documents while documents are interpreted as indexing elements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819520" y="561960"/>
            <a:ext cx="6092640" cy="1139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imilarity Thesau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819520" y="1980720"/>
            <a:ext cx="6092640" cy="475308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95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he following definitions establish the proper framework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72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99"/>
                </a:solidFill>
                <a:latin typeface="Arial"/>
              </a:rPr>
              <a:t>t: number of terms in the collec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72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99"/>
                </a:solidFill>
                <a:latin typeface="Arial"/>
              </a:rPr>
              <a:t>N: number of documents in the collec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72000"/>
              </a:lnSpc>
              <a:spcBef>
                <a:spcPts val="862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99"/>
                </a:solidFill>
                <a:latin typeface="Arial"/>
              </a:rPr>
              <a:t>fi,j: frequency of occurrence of the term ki in the document dj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72000"/>
              </a:lnSpc>
              <a:spcBef>
                <a:spcPts val="862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99"/>
                </a:solidFill>
                <a:latin typeface="Arial"/>
              </a:rPr>
              <a:t>tj: vocabulary of document dj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lnSpc>
                <a:spcPct val="72000"/>
              </a:lnSpc>
              <a:spcBef>
                <a:spcPts val="862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9999"/>
                </a:solidFill>
                <a:latin typeface="Arial"/>
              </a:rPr>
              <a:t>itfj: inverse term frequency for document dj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19520" y="561960"/>
            <a:ext cx="6092640" cy="1139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imilarity Thesau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362320" y="1981080"/>
            <a:ext cx="6092640" cy="41119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638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Inverse term frequency for document dj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72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72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72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638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To ki is associated a vector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1749600" cy="1050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91120" y="4343400"/>
            <a:ext cx="3028680" cy="7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19520" y="561960"/>
            <a:ext cx="6092640" cy="1139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imilarity Thesau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092640" cy="41119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638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99"/>
                </a:solidFill>
                <a:latin typeface="Arial"/>
              </a:rPr>
              <a:t>where wi,j is a weight associated to index-document pair[ki,dj]. These weights are computed as follows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352680" y="3733920"/>
            <a:ext cx="49500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19520" y="561960"/>
            <a:ext cx="6092640" cy="1139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imilarity Thesau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19520" y="1980720"/>
            <a:ext cx="6092640" cy="48056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1176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he relationship between two terms ku and kv is computed as a correlation factor cu,v given b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72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lnSpc>
                <a:spcPct val="72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1176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he global similarity thesaurus is built through the computation of correlation factor Cu,v for each pair of indexing terms [ku,kv] in the collec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29000" y="3429000"/>
            <a:ext cx="411156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819520" y="561960"/>
            <a:ext cx="6092640" cy="113976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marL="343080" indent="0" algn="r">
              <a:lnSpc>
                <a:spcPct val="17000"/>
              </a:lnSpc>
              <a:spcBef>
                <a:spcPts val="8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Similarity Thesaur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819520" y="1981080"/>
            <a:ext cx="6092640" cy="41119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rmAutofit/>
          </a:bodyPr>
          <a:p>
            <a:pPr marL="343080" indent="-343080">
              <a:lnSpc>
                <a:spcPct val="72000"/>
              </a:lnSpc>
              <a:spcBef>
                <a:spcPts val="524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This computation is expensiv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lnSpc>
                <a:spcPct val="72000"/>
              </a:lnSpc>
              <a:spcBef>
                <a:spcPts val="524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9999"/>
                </a:solidFill>
                <a:latin typeface="Arial"/>
              </a:rPr>
              <a:t>Global similarity thesaurus has to be computed only once and can be updated incrementally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7T00:01:55Z</dcterms:created>
  <dc:creator/>
  <dc:description/>
  <dc:language>en-US</dc:language>
  <cp:lastModifiedBy/>
  <cp:lastPrinted>1999-09-09T17:24:00Z</cp:lastPrinted>
  <cp:revision>0</cp:revision>
  <dc:subject/>
  <dc:title/>
</cp:coreProperties>
</file>