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B42-517D-4B75-8B8E-D64544BC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5D3-E8D2-4D4A-89E5-FE212D66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BFA-9264-4675-AAC4-312987146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A844-7684-4A6C-9909-DE90A89F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F40E-9A54-438C-89A5-31263619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F4ED5-3D4E-4320-9467-D4E05D80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AE1A-8141-48CF-BB90-A3DE2C6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48DC-1D21-4A3E-9693-0DA06A2C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5B4B-BD0F-4F5C-835B-145DC826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E651-F980-4778-B847-9148504D7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4DE2-4CDD-4734-8826-C613F4A2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1B81-D327-497C-9D0D-469D0E1D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81F98-43BE-45C1-AC3E-E75BC068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3CB8-9826-4E36-BA11-304FEC49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3272-F60C-441E-BB3A-0BCF8EBC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4F97-528E-45BB-B281-F527CF32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3DCA-4BE9-4254-947F-588FEC096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DB9A-F95A-4C5A-A117-51F41E8A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850D-D601-41B2-98D4-5AB3A71B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FC9C-8B06-4827-A3F5-64926DCB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BE5F-CEAE-4A7E-BC55-69644BC1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A665-B458-4682-A57F-F61B78D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595D-CBCB-4330-96EF-3EAED22B5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695-8B7F-4B64-9A6C-EEE7FE54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9BD0-5456-4495-9203-0387C1DF58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FEAB-BD75-4596-8FFC-601FC3823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 (Probabilistic Mode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5.4, 2.5.5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06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Improving the Initial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6858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iq * wij * (log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+ log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Le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V : set of docs initially retrieved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Vi : subset of docs retrieved that contain ki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evaluate estimates: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R)    = 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Vi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V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)  =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ni - Vi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 - V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epeat recursively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43000" y="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Improving the Initial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iq * wij * (log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+ log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o avoid problems with  V=1  and  Vi=0: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R)    = 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Vi + 0.5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V  +  1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)  =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ni - Vi + 0.5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N - V + 1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lso,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R)    = 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Vi + ni/N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V  +  1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)  =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ni - Vi + ni/N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N - V + 1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43000" y="4572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Pluses and Minuse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21932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Docs ranked in decreasing order of probability of relevance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isadvantag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eed to guess initial estimates for P(ki | R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method does not take into account  tf  and  idf  factors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3000" y="457200"/>
            <a:ext cx="6934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Brief Comparison of Classic Model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3520"/>
            <a:ext cx="91440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oolean model does not provide for partial matches and is considered to be the weakest classic model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alton and Buckley did a series of experiments that indicate that, in general, the vector model outperforms the probabilistic model with general collection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This seems also to be the view of the research community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babilistic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Objective: to capture the IR problem using a probabilistic framework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Given a user query, there is an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 ideal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nswer se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Querying as specification of the properties of this ideal answer set (clustering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 what are these properties?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Guess at the beginning what they could be (i.e., guess initial description of ideal answer set)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mprove by iteration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66680" y="457200"/>
            <a:ext cx="6096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Probabilistic Model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1430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 initial set of documents is retrieved somehow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User inspects these docs looking for the relevant ones (in truth, only top 10-20 need to be inspected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R system uses this information to refine description of ideal answer se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y repeting this process, it is expected that the description of the ideal answer set will improve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Have always in mind the need to guess at the very beginning the description of the ideal answer set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scription of ideal answer set is modeled in probabilistic term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14400" y="30492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Probabilistic Ranking Principle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Given a user query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q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and a document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dj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, the probabilistic model tries to estimate the probability that the user will find the document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dj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interesting (i.e., relevant). The model assumes that this probability of relevance depends on the query and the document representations only. Ideal answer set is referred to as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nd should maximize the probability of relevance. Documents in the set 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R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are predicted to be relevant. 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But,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how to compute probabilities?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at is the sample space?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4300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The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obabilistic ranking computed a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sim(q,dj)  =  P(dj relevant-to q) / P(dj non-relevant-to q)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is is the odds of the document dj being releva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aking the odds minimize the probability of an erroneous judgeme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wij  </a:t>
            </a:r>
            <a:r>
              <a:rPr b="0" i="1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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 {0,1}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P(R | vec(dj))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: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robability that given doc is releva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 | vec(dj)) : probability doc is not relevant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The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 = P(R | vec(dj)) /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 | vec(dj))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9999"/>
                </a:solidFill>
                <a:latin typeface="Arial"/>
              </a:rPr>
              <a:t>= 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[P(vec(dj) | R)   *    P(R)]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      [P(vec(dj)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 *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]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vec(dj)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P(vec(dj)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(vec(dj) | R) : probability of randomly selecting the document dj from the set R of relevant documen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43000" y="22860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The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vec(dj)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    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P(vec(dj)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[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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 P(ki | R)]    *    [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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 P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ki | R)]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[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P(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]  *  [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]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(ki | R) : probability that the index term ki is present in a document randomly selected from the set R of relevant document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The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6858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log 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[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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 P(ki | R)]    *    [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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 P(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kj | R)]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[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P(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]  *  [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j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]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~  K * [ log  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+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log  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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]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iq * wij * (log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+ log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where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   = 1 - P(ki | R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 = 1 - P(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143000" y="0"/>
            <a:ext cx="6095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336699"/>
                </a:solidFill>
                <a:latin typeface="Arial Narrow"/>
              </a:rPr>
              <a:t>The Initial Ranking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685800"/>
            <a:ext cx="914400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sim(dj,q)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~ 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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wiq * wij * (log  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+ log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P(ki |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Symbol"/>
                <a:ea typeface="Symbol"/>
              </a:rPr>
              <a:t>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R)  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R)</a:t>
            </a:r>
            <a:r>
              <a:rPr b="0" lang="pt-BR" sz="2800" spc="-1" strike="noStrike" u="sng">
                <a:solidFill>
                  <a:srgbClr val="009999"/>
                </a:solidFill>
                <a:uFillTx/>
                <a:latin typeface="Arial"/>
              </a:rPr>
              <a:t>	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     P(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Probabilities  P(ki | R)  and  P(ki | </a:t>
            </a:r>
            <a:r>
              <a:rPr b="0" lang="pt-BR" sz="28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R) ?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Estimates based on assumption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R) = 0.5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P(ki |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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R)  =  </a:t>
            </a:r>
            <a:r>
              <a:rPr b="0" lang="pt-BR" sz="2600" spc="-1" strike="noStrike" u="sng">
                <a:solidFill>
                  <a:srgbClr val="009999"/>
                </a:solidFill>
                <a:uFillTx/>
                <a:latin typeface="Arial"/>
              </a:rPr>
              <a:t>ni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where  ni  is the number of docs that contain ki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Use this initial guess to retrieve an initial ranking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mprove upon this initial ranking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Rosa</cp:lastModifiedBy>
  <dcterms:modified xsi:type="dcterms:W3CDTF">1999-09-06T14:09:14Z</dcterms:modified>
  <cp:revision>12</cp:revision>
  <dc:subject/>
  <dc:title>Recuperação de Informação B</dc:title>
</cp:coreProperties>
</file>