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2361-300E-4974-A9CE-FD0BDFB7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CD93-B832-44FA-961B-D60F7F97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0DC6-ED04-4C89-903D-125B29C39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78AD-8D44-4C6F-A81D-926192B0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B325-E2B5-4B85-9760-0BD18555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9E82-13EC-4273-8976-56D90AEE5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85EAD-D145-4272-82D0-8D2DAFFA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95866-4B3A-463A-B43E-00FA9DAB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817A-A112-40F0-B84F-60E2FDA9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3A1E-D654-43B0-9A20-D567B793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8178-5D8D-4B56-A26E-A33B6EF3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28FF-0A7D-4DC7-BEF4-19C9A3E0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726B-FDD9-4A2D-9944-6CEEA8BAF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3AAE-4A5D-4D89-88C1-1C4317DB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9947-12B3-4C01-B10C-5FE4534B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9DB8A-529D-484F-8462-67E68463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DD5D-A1C0-426D-9DF7-29B190280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BDF7-6C66-4985-8501-D47D9349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D83-EF3A-4C18-AACC-D4409E76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6C0-7687-43A5-A296-8423864B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1395-0EA0-4EDB-9C7E-98D98EBC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17A-45A0-4301-A702-D637BC1F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66D-37E5-40C1-86A1-A9DF5D52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8CF3-9417-48BA-B38C-2950637C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9862-CB1A-4467-BB78-6C95A98228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514F-8F48-48DD-82B9-D0823C6AF6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Recuperação de Informação B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57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Cap. 02: Modeling (Extended Boolean Mode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2.6.2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eptember 13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Propertie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190512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lvl="1" marL="408600" indent="-156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q = (k1        k2)        k3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408600" indent="-156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408600" indent="-156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im(q,dj) = ( (1 - ( </a:t>
            </a:r>
            <a:r>
              <a:rPr b="0" lang="pt-BR" sz="2600" spc="-1" strike="noStrike" u="sng">
                <a:solidFill>
                  <a:srgbClr val="009999"/>
                </a:solidFill>
                <a:uFillTx/>
                <a:latin typeface="Arial"/>
              </a:rPr>
              <a:t>(1-x1)  + (1-x2)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)  )   + x3   )         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0" lang="pt-BR" sz="2600" spc="-1" strike="noStrike" u="sng">
                <a:solidFill>
                  <a:srgbClr val="009999"/>
                </a:solidFill>
                <a:uFillTx/>
                <a:latin typeface="Arial"/>
              </a:rPr>
              <a:t>                     2                          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  2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408600" indent="-156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408600" indent="-156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2" marL="628560" indent="-1256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005000" y="1752480"/>
            <a:ext cx="531360" cy="570960"/>
            <a:chOff x="4005000" y="1752480"/>
            <a:chExt cx="531360" cy="570960"/>
          </a:xfrm>
        </p:grpSpPr>
        <p:sp>
          <p:nvSpPr>
            <p:cNvPr id="187" name=""/>
            <p:cNvSpPr/>
            <p:nvPr/>
          </p:nvSpPr>
          <p:spPr>
            <a:xfrm>
              <a:off x="4127040" y="17524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05000" y="18637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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2785680" y="1905120"/>
            <a:ext cx="498600" cy="494640"/>
            <a:chOff x="2785680" y="1905120"/>
            <a:chExt cx="498600" cy="494640"/>
          </a:xfrm>
        </p:grpSpPr>
        <p:sp>
          <p:nvSpPr>
            <p:cNvPr id="190" name=""/>
            <p:cNvSpPr/>
            <p:nvPr/>
          </p:nvSpPr>
          <p:spPr>
            <a:xfrm>
              <a:off x="2785680" y="1940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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989080" y="19051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777420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250320" y="27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78720" y="2666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154720" y="2514600"/>
            <a:ext cx="323280" cy="634680"/>
            <a:chOff x="8154720" y="2514600"/>
            <a:chExt cx="323280" cy="634680"/>
          </a:xfrm>
        </p:grpSpPr>
        <p:sp>
          <p:nvSpPr>
            <p:cNvPr id="196" name=""/>
            <p:cNvSpPr/>
            <p:nvPr/>
          </p:nvSpPr>
          <p:spPr>
            <a:xfrm>
              <a:off x="8154720" y="2514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9999"/>
                  </a:solidFill>
                  <a:uFillTx/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70920" y="2781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6554520" y="2590920"/>
            <a:ext cx="323280" cy="634680"/>
            <a:chOff x="6554520" y="2590920"/>
            <a:chExt cx="323280" cy="634680"/>
          </a:xfrm>
        </p:grpSpPr>
        <p:sp>
          <p:nvSpPr>
            <p:cNvPr id="199" name=""/>
            <p:cNvSpPr/>
            <p:nvPr/>
          </p:nvSpPr>
          <p:spPr>
            <a:xfrm>
              <a:off x="6554520" y="25909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9999"/>
                  </a:solidFill>
                  <a:uFillTx/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570720" y="28573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lus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del is quite powerfu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Properties are interesting and might be usefu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mputation is somewhat complex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However, distributivity operation does not hold for ranking computation: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q1 = (k1 </a:t>
            </a:r>
            <a:r>
              <a:rPr b="0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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k2)  </a:t>
            </a:r>
            <a:r>
              <a:rPr b="0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 k3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q2 = (k1 </a:t>
            </a:r>
            <a:r>
              <a:rPr b="0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k3) </a:t>
            </a:r>
            <a:r>
              <a:rPr b="0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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 (k2 </a:t>
            </a:r>
            <a:r>
              <a:rPr b="0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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k3)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im(q1,dj)  </a:t>
            </a:r>
            <a:r>
              <a:rPr b="0" lang="en-US" sz="2600" spc="-1" strike="noStrike">
                <a:solidFill>
                  <a:srgbClr val="009999"/>
                </a:solidFill>
                <a:latin typeface="Symbol"/>
                <a:ea typeface="Symbol"/>
              </a:rPr>
              <a:t>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  sim(q2,dj)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Extended Boolean Mode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Boolean model is simple and elegant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But, no provision for a rank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s with the fuzzy model, a ranking can be obtained by relaxing the condition on set membership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xtend the Boolean model with the notions of partial matching and term weigh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Combine characteristics of the Vector model with properties of Boolean algebra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The Idea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extended Boolean model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(introduced by Salton, Fox, and Wu, 1983) is based on a critique of a basic assumption in Boolean algebra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Let,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q = kx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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ky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wxj = fxj * </a:t>
            </a:r>
            <a:r>
              <a:rPr b="0" lang="pt-BR" sz="2600" spc="-1" strike="noStrike" u="sng">
                <a:solidFill>
                  <a:srgbClr val="009999"/>
                </a:solidFill>
                <a:uFillTx/>
                <a:latin typeface="Arial"/>
              </a:rPr>
              <a:t>    idf(x)   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  associated with [kx,dj]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   max(idf(i)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Further,  wxj  = x and  wyj = y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2286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he Idea: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14600" y="22860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qand = kx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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ky;  wxj  = x and  wyj = 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05120" y="1371600"/>
            <a:ext cx="4800600" cy="3657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819160" y="1371600"/>
            <a:ext cx="3886200" cy="243828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5943240" y="1371600"/>
            <a:ext cx="762120" cy="16002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02200" y="37339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dj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30640" y="289548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j+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38098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05120" y="3809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7240" y="342900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y = wyj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668680" y="495288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x = wxj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20400" y="49528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(0,0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6800" y="11430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(1,1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783840" y="49528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kx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373760" y="12193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k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736800" y="5791320"/>
            <a:ext cx="5167440" cy="866880"/>
            <a:chOff x="3736800" y="5791320"/>
            <a:chExt cx="5167440" cy="866880"/>
          </a:xfrm>
        </p:grpSpPr>
        <p:sp>
          <p:nvSpPr>
            <p:cNvPr id="107" name=""/>
            <p:cNvSpPr/>
            <p:nvPr/>
          </p:nvSpPr>
          <p:spPr>
            <a:xfrm>
              <a:off x="3736800" y="5832720"/>
              <a:ext cx="51674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Times New Roman"/>
                </a:rPr>
                <a:t>sim(qand,dj) = 1 - sqrt( </a:t>
              </a:r>
              <a:r>
                <a:rPr b="1" lang="en-US" sz="2400" spc="-1" strike="noStrike" u="sng">
                  <a:solidFill>
                    <a:srgbClr val="010000"/>
                  </a:solidFill>
                  <a:uFillTx/>
                  <a:latin typeface="Times New Roman"/>
                </a:rPr>
                <a:t>(1-x)  + (1-y)</a:t>
              </a:r>
              <a:r>
                <a:rPr b="1" lang="en-US" sz="2400" spc="-1" strike="noStrike">
                  <a:solidFill>
                    <a:srgbClr val="010000"/>
                  </a:solidFill>
                  <a:latin typeface="Times New Roman"/>
                </a:rPr>
                <a:t>  )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1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1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1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10000"/>
                  </a:solidFill>
                  <a:latin typeface="Times New Roman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484760" y="5791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75480" y="5791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7628400" y="2962440"/>
            <a:ext cx="83916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AN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228600"/>
            <a:ext cx="716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he Idea: 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22860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qor = kx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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ky;  wxj  = x and  wyj = 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1371600"/>
            <a:ext cx="4800600" cy="3657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06560" y="3200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imes New Roman"/>
              </a:rPr>
              <a:t>dj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3440" y="25146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j+1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809880"/>
            <a:ext cx="0" cy="12193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295280" y="3809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7760" y="342900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y = wyj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8840" y="495288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x = wxj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0560" y="495288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(0,0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6960" y="1143000"/>
            <a:ext cx="7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(1,1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74360" y="49528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kx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3920" y="12193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Times New Roman"/>
              </a:rPr>
              <a:t>k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033160" y="5715000"/>
            <a:ext cx="3716280" cy="866520"/>
            <a:chOff x="5033160" y="5715000"/>
            <a:chExt cx="3716280" cy="866520"/>
          </a:xfrm>
        </p:grpSpPr>
        <p:sp>
          <p:nvSpPr>
            <p:cNvPr id="125" name=""/>
            <p:cNvSpPr/>
            <p:nvPr/>
          </p:nvSpPr>
          <p:spPr>
            <a:xfrm>
              <a:off x="5033160" y="5756040"/>
              <a:ext cx="371628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Times New Roman"/>
                </a:rPr>
                <a:t>sim(qor,dj) = sqrt( </a:t>
              </a:r>
              <a:r>
                <a:rPr b="1" lang="en-US" sz="2400" spc="-1" strike="noStrike" u="sng">
                  <a:solidFill>
                    <a:srgbClr val="010000"/>
                  </a:solidFill>
                  <a:uFillTx/>
                  <a:latin typeface="Times New Roman"/>
                </a:rPr>
                <a:t>x   + y</a:t>
              </a:r>
              <a:r>
                <a:rPr b="1" lang="en-US" sz="2400" spc="-1" strike="noStrike">
                  <a:solidFill>
                    <a:srgbClr val="010000"/>
                  </a:solidFill>
                  <a:latin typeface="Times New Roman"/>
                </a:rPr>
                <a:t>  )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1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10000"/>
                  </a:solidFill>
                  <a:latin typeface="Times New Roman"/>
                </a:rPr>
                <a:t>	</a:t>
              </a:r>
              <a:r>
                <a:rPr b="1" lang="en-US" sz="2400" spc="-1" strike="noStrike">
                  <a:solidFill>
                    <a:srgbClr val="01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1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3720" y="571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46880" y="57150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1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V="1">
            <a:off x="1295280" y="3809520"/>
            <a:ext cx="914400" cy="121932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295280" y="2971440"/>
            <a:ext cx="4038840" cy="205740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45360" y="2514600"/>
            <a:ext cx="637920" cy="4597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Generalizing the Idea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3808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We can extend the previous model to consider Euclidean distances in a t-dimensional spac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is can be done using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p-norms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which extend the notion of distance to include p-distances, where   1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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p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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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is a new parameter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 generalized conjunctive query is given b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qor = k1        k2         . . .        k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 generalized disjunctive query is given by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qand = k1         k2         . . .          k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452560" y="4724280"/>
            <a:ext cx="497160" cy="494640"/>
            <a:chOff x="5452560" y="4724280"/>
            <a:chExt cx="497160" cy="494640"/>
          </a:xfrm>
        </p:grpSpPr>
        <p:sp>
          <p:nvSpPr>
            <p:cNvPr id="134" name=""/>
            <p:cNvSpPr/>
            <p:nvPr/>
          </p:nvSpPr>
          <p:spPr>
            <a:xfrm>
              <a:off x="5656320" y="4724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452560" y="4759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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233600" y="4724280"/>
            <a:ext cx="496440" cy="494640"/>
            <a:chOff x="4233600" y="4724280"/>
            <a:chExt cx="496440" cy="494640"/>
          </a:xfrm>
        </p:grpSpPr>
        <p:sp>
          <p:nvSpPr>
            <p:cNvPr id="137" name=""/>
            <p:cNvSpPr/>
            <p:nvPr/>
          </p:nvSpPr>
          <p:spPr>
            <a:xfrm>
              <a:off x="4436640" y="4724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33600" y="4759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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3090600" y="4724280"/>
            <a:ext cx="496440" cy="494640"/>
            <a:chOff x="3090600" y="4724280"/>
            <a:chExt cx="496440" cy="494640"/>
          </a:xfrm>
        </p:grpSpPr>
        <p:sp>
          <p:nvSpPr>
            <p:cNvPr id="140" name=""/>
            <p:cNvSpPr/>
            <p:nvPr/>
          </p:nvSpPr>
          <p:spPr>
            <a:xfrm>
              <a:off x="3293640" y="47242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90600" y="4759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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471480" y="5715000"/>
            <a:ext cx="434880" cy="570960"/>
            <a:chOff x="3471480" y="5715000"/>
            <a:chExt cx="434880" cy="570960"/>
          </a:xfrm>
        </p:grpSpPr>
        <p:sp>
          <p:nvSpPr>
            <p:cNvPr id="143" name=""/>
            <p:cNvSpPr/>
            <p:nvPr/>
          </p:nvSpPr>
          <p:spPr>
            <a:xfrm>
              <a:off x="3471480" y="5826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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99280" y="571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614480" y="5715000"/>
            <a:ext cx="434880" cy="570960"/>
            <a:chOff x="4614480" y="5715000"/>
            <a:chExt cx="434880" cy="570960"/>
          </a:xfrm>
        </p:grpSpPr>
        <p:sp>
          <p:nvSpPr>
            <p:cNvPr id="146" name=""/>
            <p:cNvSpPr/>
            <p:nvPr/>
          </p:nvSpPr>
          <p:spPr>
            <a:xfrm>
              <a:off x="4614480" y="5826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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42280" y="571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986080" y="5715000"/>
            <a:ext cx="434880" cy="570960"/>
            <a:chOff x="5986080" y="5715000"/>
            <a:chExt cx="434880" cy="570960"/>
          </a:xfrm>
        </p:grpSpPr>
        <p:sp>
          <p:nvSpPr>
            <p:cNvPr id="149" name=""/>
            <p:cNvSpPr/>
            <p:nvPr/>
          </p:nvSpPr>
          <p:spPr>
            <a:xfrm>
              <a:off x="5986080" y="5826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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13880" y="57150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Generalizing the Idea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4191120"/>
            <a:ext cx="85345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im(qand,dj) =  1 - (</a:t>
            </a:r>
            <a:r>
              <a:rPr b="0" lang="pt-BR" sz="2600" spc="-1" strike="noStrike" u="sng">
                <a:solidFill>
                  <a:srgbClr val="009999"/>
                </a:solidFill>
                <a:uFillTx/>
                <a:latin typeface="Arial"/>
              </a:rPr>
              <a:t>(1-x1) + (1-x2) +  . . . + (1-xm)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)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                     m 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2644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5544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5400" y="4038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8459640" y="3886200"/>
            <a:ext cx="322920" cy="634680"/>
            <a:chOff x="8459640" y="3886200"/>
            <a:chExt cx="322920" cy="634680"/>
          </a:xfrm>
        </p:grpSpPr>
        <p:sp>
          <p:nvSpPr>
            <p:cNvPr id="157" name=""/>
            <p:cNvSpPr/>
            <p:nvPr/>
          </p:nvSpPr>
          <p:spPr>
            <a:xfrm>
              <a:off x="8475480" y="4152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459640" y="38862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9999"/>
                  </a:solidFill>
                  <a:uFillTx/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838080" y="1905120"/>
            <a:ext cx="8077320" cy="1371600"/>
            <a:chOff x="838080" y="1905120"/>
            <a:chExt cx="8077320" cy="1371600"/>
          </a:xfrm>
        </p:grpSpPr>
        <p:sp>
          <p:nvSpPr>
            <p:cNvPr id="160" name=""/>
            <p:cNvSpPr/>
            <p:nvPr/>
          </p:nvSpPr>
          <p:spPr>
            <a:xfrm>
              <a:off x="838080" y="2209680"/>
              <a:ext cx="80773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649"/>
                </a:spcBef>
                <a:buClr>
                  <a:srgbClr val="336699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sim(qor,dj) =  (</a:t>
              </a:r>
              <a:r>
                <a:rPr b="0" lang="pt-BR" sz="2600" spc="-1" strike="noStrike" u="sng">
                  <a:solidFill>
                    <a:srgbClr val="009999"/>
                  </a:solidFill>
                  <a:uFillTx/>
                  <a:latin typeface="Arial"/>
                </a:rPr>
                <a:t>x1  + x2  +  . . . + xm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 )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                 m 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0640" y="2057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707520" y="2057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55040" y="2057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7011720" y="1905120"/>
              <a:ext cx="323640" cy="634680"/>
              <a:chOff x="7011720" y="1905120"/>
              <a:chExt cx="323640" cy="634680"/>
            </a:xfrm>
          </p:grpSpPr>
          <p:sp>
            <p:nvSpPr>
              <p:cNvPr id="165" name=""/>
              <p:cNvSpPr/>
              <p:nvPr/>
            </p:nvSpPr>
            <p:spPr>
              <a:xfrm>
                <a:off x="7028280" y="2171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99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011720" y="19051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9999"/>
                    </a:solidFill>
                    <a:uFillTx/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Propertie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38080" y="1905120"/>
            <a:ext cx="8077320" cy="1371600"/>
            <a:chOff x="838080" y="1905120"/>
            <a:chExt cx="8077320" cy="1371600"/>
          </a:xfrm>
        </p:grpSpPr>
        <p:sp>
          <p:nvSpPr>
            <p:cNvPr id="169" name=""/>
            <p:cNvSpPr/>
            <p:nvPr/>
          </p:nvSpPr>
          <p:spPr>
            <a:xfrm>
              <a:off x="838080" y="2209680"/>
              <a:ext cx="807732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 fontScale="36000"/>
            </a:bodyPr>
            <a:p>
              <a:pPr lvl="1" marL="267480" indent="-102600">
                <a:lnSpc>
                  <a:spcPct val="100000"/>
                </a:lnSpc>
                <a:spcBef>
                  <a:spcPts val="649"/>
                </a:spcBef>
                <a:buClr>
                  <a:srgbClr val="336699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sim(qor,dj) =  (</a:t>
              </a:r>
              <a:r>
                <a:rPr b="0" lang="pt-BR" sz="2600" spc="-1" strike="noStrike" u="sng">
                  <a:solidFill>
                    <a:srgbClr val="009999"/>
                  </a:solidFill>
                  <a:uFillTx/>
                  <a:latin typeface="Arial"/>
                </a:rPr>
                <a:t>x1  + x2  +  . . . + xm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 )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                 m 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267480" indent="-102600">
                <a:lnSpc>
                  <a:spcPct val="100000"/>
                </a:lnSpc>
                <a:spcBef>
                  <a:spcPts val="649"/>
                </a:spcBef>
                <a:buClr>
                  <a:srgbClr val="336699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If   p = 1  then   (Vector like)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411480" indent="-8208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sim(qor,dj) = sim(qand,dj) = </a:t>
              </a:r>
              <a:r>
                <a:rPr b="0" lang="pt-BR" sz="2400" spc="-1" strike="noStrike" u="sng">
                  <a:solidFill>
                    <a:srgbClr val="009999"/>
                  </a:solidFill>
                  <a:uFillTx/>
                  <a:latin typeface="Arial"/>
                </a:rPr>
                <a:t>x1 +  . . . + xm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              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267480" indent="-102600">
                <a:lnSpc>
                  <a:spcPct val="100000"/>
                </a:lnSpc>
                <a:spcBef>
                  <a:spcPts val="649"/>
                </a:spcBef>
                <a:buClr>
                  <a:srgbClr val="336699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If   p = </a:t>
              </a:r>
              <a:r>
                <a:rPr b="0" lang="pt-BR" sz="26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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  then   (Fuzzy like)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411480" indent="-8208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sim(qor,dj) = max (wxj)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411480" indent="-8208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sim(qand,dj) = min (wxj)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411480" indent="-8208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40640" y="2057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707520" y="2057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955040" y="2057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7011720" y="1905120"/>
              <a:ext cx="323640" cy="634680"/>
              <a:chOff x="7011720" y="1905120"/>
              <a:chExt cx="323640" cy="634680"/>
            </a:xfrm>
          </p:grpSpPr>
          <p:sp>
            <p:nvSpPr>
              <p:cNvPr id="174" name=""/>
              <p:cNvSpPr/>
              <p:nvPr/>
            </p:nvSpPr>
            <p:spPr>
              <a:xfrm>
                <a:off x="7028280" y="2171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9999"/>
                    </a:solidFill>
                    <a:latin typeface="Times New Roman"/>
                  </a:rPr>
                  <a:t>p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011720" y="19051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 u="sng">
                    <a:solidFill>
                      <a:srgbClr val="009999"/>
                    </a:solidFill>
                    <a:uFillTx/>
                    <a:latin typeface="Times New Roman"/>
                  </a:rPr>
                  <a:t>1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990720" y="60948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Properties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981080"/>
            <a:ext cx="80769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30000"/>
          </a:bodyPr>
          <a:p>
            <a:pPr lvl="1" marL="222840" indent="-85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By varying p, we can make the model behave as a vector, as a fuzzy, or as an intermediary model 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222840" indent="-85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222840" indent="-85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is is quite powerful and is a good argument in favor of the extended Boolean model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222840" indent="-85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222840" indent="-85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(k1        k2)        k3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2" marL="342720" indent="-684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342720" indent="-684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k1 and k2 are to be used as in a vectorial retrieval while the presence of k3 is required.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222840" indent="-85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222840" indent="-85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2" marL="342720" indent="-684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547800" y="4572000"/>
            <a:ext cx="531360" cy="570960"/>
            <a:chOff x="3547800" y="4572000"/>
            <a:chExt cx="531360" cy="570960"/>
          </a:xfrm>
        </p:grpSpPr>
        <p:sp>
          <p:nvSpPr>
            <p:cNvPr id="179" name=""/>
            <p:cNvSpPr/>
            <p:nvPr/>
          </p:nvSpPr>
          <p:spPr>
            <a:xfrm>
              <a:off x="3669840" y="45720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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47800" y="468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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404800" y="4648320"/>
            <a:ext cx="498600" cy="494640"/>
            <a:chOff x="2404800" y="4648320"/>
            <a:chExt cx="498600" cy="494640"/>
          </a:xfrm>
        </p:grpSpPr>
        <p:sp>
          <p:nvSpPr>
            <p:cNvPr id="182" name=""/>
            <p:cNvSpPr/>
            <p:nvPr/>
          </p:nvSpPr>
          <p:spPr>
            <a:xfrm>
              <a:off x="2404800" y="468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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08200" y="4648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0T17:37:47Z</dcterms:created>
  <dc:creator>berthier</dc:creator>
  <dc:description/>
  <dc:language>en-US</dc:language>
  <cp:lastModifiedBy>Rosa</cp:lastModifiedBy>
  <dcterms:modified xsi:type="dcterms:W3CDTF">1999-09-13T01:41:16Z</dcterms:modified>
  <cp:revision>15</cp:revision>
  <dc:subject/>
  <dc:title>Recuperação de Informação B</dc:title>
</cp:coreProperties>
</file>