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551-F50B-4F73-830F-2A161FB6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3C0B-A645-4177-8B56-889E5C4E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79F-245A-4D6A-8D5A-8B70FF25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F00-6F08-4ADA-9D58-68FC60C7E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6FD18-E26F-490F-ABE6-0E3C08F58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59D3-30ED-40A4-BC0A-497EE1350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C059-9F76-4D26-B602-8E167E46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EB84-2AB8-4180-9355-5F8CDB192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CECC-3B72-47F0-BC3B-EAF5CE59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5AB-50BC-4E63-8F25-B4CEB19A1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70041-F246-4DE0-88B8-83E09671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42BE-2E75-4268-9183-FC363C5B4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AD6F-73FE-4D11-819B-9B0FB7574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A723-E097-4329-BE13-9C7C62A8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FC5E-BD08-4DBE-99CF-A7B243D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A5FE7-769D-4BE5-9217-EBD0114F0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1D85-9BF8-4744-99E9-8FD1A5EE5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88A-0972-41B5-8C98-04D1E15E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B3CC-4CC5-45D1-91B0-D3A291AD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C03-053D-4EF3-B597-ED8975D8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4EBF-1E58-4F5B-B0B5-24237ABA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57D4-8989-4422-97D8-E67931C4B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BA6-9159-47D0-A4FC-7EABD4D0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DFB0-9EEC-4DD3-A0C6-AB21915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1B2D-41A6-4A8B-B292-5486E9D79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AB54E-16E6-460C-B32E-21EE16D4AE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p. 02: Modelin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.1, 2.2, 2.3, 2.4, 2.5.1, 2.5.2, 2.5.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eptember 01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Classic IR Models - Basic Concept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ach document represented by a set of representative keywords or index term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n index term is a document word useful for remembering the document main them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Usually, index terms are nouns because nouns have meaning by themselv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However, search engines assume that all words are index terms (full text representation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Classic IR Models - Basic Concept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ot all terms are equally useful for representing the document contents: less frequent terms allow identifying a narrower set of documen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importance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of the index terms is represented by weights associated to them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Let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i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be an index term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dj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be a document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j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 weight associated with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ki,dj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67480" indent="-267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weight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wij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quantifies the importance of the index term for describing the document conten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144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Classic IR Models - Basic Concept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i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n index term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dj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 documen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t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the total number of doc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 = (k1, k2, …, kt)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the set of all index term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j &gt;= 0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 weight associated with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ki,dj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j = 0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dicates that term does not belong to doc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dj) = (w1j, w2j, …, wtj)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 weighted vector associated with the document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dj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gi(vec(dj)) = wij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 function which returns the weight associated with pair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ki,dj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144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Boolean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ple model based on set theo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ies specified as boolean expression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recise semantic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eat formalism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q = ka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kb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c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erms are either present or absent. Thus,               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wij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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{0,1}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nsider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q = ka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kb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c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qdnf)  =  (1,1,1)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1,1,0)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1,0,0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qcc) = (1,1,0)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 conjunctive componen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09120" indent="-2343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9144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Boolean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" y="182880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7000"/>
          </a:bodyPr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q = ka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kb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kc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sim(q,dj) = 1  if   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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vec(qcc) |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    (vec(qcc)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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vec(qdnf))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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ki, gi(vec(dj)) = gi(vec(qcc)))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 0  otherwis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160920" indent="-1609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349200" indent="-134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573080" y="1219320"/>
            <a:ext cx="4093200" cy="3202920"/>
            <a:chOff x="4573080" y="1219320"/>
            <a:chExt cx="4093200" cy="3202920"/>
          </a:xfrm>
        </p:grpSpPr>
        <p:sp>
          <p:nvSpPr>
            <p:cNvPr id="197" name=""/>
            <p:cNvSpPr/>
            <p:nvPr/>
          </p:nvSpPr>
          <p:spPr>
            <a:xfrm>
              <a:off x="4876920" y="1295640"/>
              <a:ext cx="2209680" cy="19810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8680" y="2210040"/>
              <a:ext cx="2210040" cy="205740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43600" y="1219320"/>
              <a:ext cx="2438280" cy="205740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90840" y="228600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(1,1,1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53960" y="19814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(1,0,0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090840" y="1752840"/>
              <a:ext cx="99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(1,1,0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573080" y="129564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K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78760" y="12956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Kb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68200" y="396252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Kc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44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Drawbacks of the Boolean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1000"/>
          </a:bodyPr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etrieval based on binary decision criteria with no notion of partial matchin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o ranking of the documents is provided (absence of a grading scale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formation need has to be translated into a Boolean expression which most users find awkwar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Boolean queries formulated by the users are most often too simplisti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7560" indent="-2775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s a consequence, the Boolean model frequently returns either too few or too many documents in response to a user que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4400" y="30492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Vector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Use of binary weights is too limitin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on-binary weights provide consideration for partial match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se term weights are used to compute a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degree of similarity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between a query and each documen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anked set of documents provides for better matchin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1440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Vector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6858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efine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j &gt; 0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henever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i </a:t>
            </a:r>
            <a:r>
              <a:rPr b="0" i="1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  dj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q &gt;= 0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ssociated with the pair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(ki,q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dj) = (w1j, w2j, ..., wtj)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q) = (w1q, w2q, ..., wtq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o each term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i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associated a unitary vector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i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42160" indent="-208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unitary vectors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i)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nd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 vec(j)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are assumed to be orthonormal  (i.e., index terms are assumed to occur independently within the documents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t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unitary vectors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vec(i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form an orthonormal basis for a t-dimensional spac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50200" indent="-250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 this space, queries and documents are represented as weighted vector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91440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Vector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312408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Sim(q,dj)  =  cos(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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)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=  [vec(dj)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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vec(q)]  /  |dj| *  |q|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=  [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wij * wiq]  /  |dj| * |q|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nce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wij &gt; 0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nd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wiq &gt; 0,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0 &lt;= sim(q,dj) &lt;=1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document is retrieved even if it matches the query terms only partiall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>
            <a:off x="2209680" y="2666520"/>
            <a:ext cx="2286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"/>
          <p:cNvCxnSpPr/>
          <p:nvPr/>
        </p:nvCxnSpPr>
        <p:spPr>
          <a:xfrm flipV="1">
            <a:off x="2209320" y="914040"/>
            <a:ext cx="1080" cy="1753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"/>
          <p:cNvCxnSpPr/>
          <p:nvPr/>
        </p:nvCxnSpPr>
        <p:spPr>
          <a:xfrm flipV="1">
            <a:off x="2209320" y="2209320"/>
            <a:ext cx="1677240" cy="457920"/>
          </a:xfrm>
          <a:prstGeom prst="straightConnector1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</p:cxnSp>
      <p:cxnSp>
        <p:nvCxnSpPr>
          <p:cNvPr id="217" name=""/>
          <p:cNvCxnSpPr/>
          <p:nvPr/>
        </p:nvCxnSpPr>
        <p:spPr>
          <a:xfrm flipV="1">
            <a:off x="2209680" y="1371240"/>
            <a:ext cx="991440" cy="12960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218" name=""/>
          <p:cNvSpPr/>
          <p:nvPr/>
        </p:nvSpPr>
        <p:spPr>
          <a:xfrm>
            <a:off x="4345200" y="274320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07280" y="68580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1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821680" y="10666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dj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35360" y="2209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99"/>
                </a:solidFill>
                <a:latin typeface="Times New Roman"/>
              </a:rPr>
              <a:t>q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2057400"/>
            <a:ext cx="152640" cy="457200"/>
          </a:xfrm>
          <a:custGeom>
            <a:avLst/>
            <a:gdLst>
              <a:gd name="textAreaLeft" fmla="*/ 20160 w 152640"/>
              <a:gd name="textAreaRight" fmla="*/ 132480 w 15264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6699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20960" y="1905120"/>
            <a:ext cx="40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Symbol"/>
                <a:ea typeface="Symbol"/>
              </a:rPr>
              <a:t>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91440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Vector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9907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Sim(q,dj)  =  [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wij * wiq]  /  |dj| * |q|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How to compute the weights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wij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nd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wiq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?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good weight must take into account two effect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uantification of intra-document contents (similarity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tf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factor, the </a:t>
            </a: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term frequency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within a documen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uantification of inter-documents separation (dissi-milarity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idf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factor, the </a:t>
            </a:r>
            <a:r>
              <a:rPr b="0" i="1" lang="pt-BR" sz="2400" spc="-1" strike="noStrike">
                <a:solidFill>
                  <a:srgbClr val="009999"/>
                </a:solidFill>
                <a:latin typeface="Arial"/>
              </a:rPr>
              <a:t>inverse document frequenc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j = tf(i,j) * idf(i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R systems usually adopt index terms to process querie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dex term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keyword or group of selected word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ny word (more general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temming might be used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20720" indent="-2772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onnect: connecting, connection, connections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n inverted file is built for the chosen index ter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Vector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Let,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N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be the total number of docs in the collection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ni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be the number of docs which contain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i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freq(i,j)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aw frequency of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i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ithin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dj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normalized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tf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actor is given b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f(i,j)  =  freq(i,j) /  max(freq(l,j)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here the maximum is computed over all terms which occur within the document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dj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idf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actor is computed a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idf(i) =  log (N/ni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27400" indent="-202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log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s used to make the values of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tf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nd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idf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omparable. It can also be interpreted as the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amount of information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ssociated with the term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ki.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99072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Vector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best term-weighting schemes use weights which are give by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j  =  f(i,j) *  log(N/ni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strategy is called a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 tf-idf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eighting schem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 the query term weights, a suggestion i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31440" indent="-2426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q  =  (0.5  +  [0.5 * freq(i,q) / max(freq(l,q)]) *  log(N/ni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vector model with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tf-idf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eights is a good ranking strategy with general collections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91600" indent="-2916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vector model is usually as good as the known ranking alternatives. It is also simple and fast to compute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99072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Vector Mode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91440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erm-weighting improves quality of the answer se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artial matching allows retrieval of docs that approximate the query condition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osine ranking formula sorts documents according to degree of similarity to the query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ssumes independence of index terms (??); not clear that this is bad though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0" y="152280"/>
            <a:ext cx="3962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The Vector Model: Example  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304920" y="3276720"/>
          <a:ext cx="8458200" cy="34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76720"/>
                    <a:ext cx="84582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6" name=""/>
          <p:cNvGrpSpPr/>
          <p:nvPr/>
        </p:nvGrpSpPr>
        <p:grpSpPr>
          <a:xfrm>
            <a:off x="4344120" y="457200"/>
            <a:ext cx="3036600" cy="2375640"/>
            <a:chOff x="4344120" y="457200"/>
            <a:chExt cx="3036600" cy="2375640"/>
          </a:xfrm>
        </p:grpSpPr>
        <p:sp>
          <p:nvSpPr>
            <p:cNvPr id="237" name=""/>
            <p:cNvSpPr/>
            <p:nvPr/>
          </p:nvSpPr>
          <p:spPr>
            <a:xfrm>
              <a:off x="4495680" y="609480"/>
              <a:ext cx="1675800" cy="16002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257440" y="1295280"/>
              <a:ext cx="1752480" cy="1524240"/>
            </a:xfrm>
            <a:prstGeom prst="ellipse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62360" y="457200"/>
              <a:ext cx="1752120" cy="16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410800" y="1752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77280" y="10666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248880" y="1600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72500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71536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639400" y="990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553800" y="8380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7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44120" y="609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k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011000" y="457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Times New Roman"/>
                </a:rPr>
                <a:t>k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766200" y="2525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00"/>
                  </a:solidFill>
                  <a:latin typeface="Times New Roman"/>
                </a:rPr>
                <a:t>k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152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The Vector Model: Example  I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344120" y="457200"/>
            <a:ext cx="3036600" cy="2375640"/>
            <a:chOff x="4344120" y="457200"/>
            <a:chExt cx="3036600" cy="2375640"/>
          </a:xfrm>
        </p:grpSpPr>
        <p:sp>
          <p:nvSpPr>
            <p:cNvPr id="253" name=""/>
            <p:cNvSpPr/>
            <p:nvPr/>
          </p:nvSpPr>
          <p:spPr>
            <a:xfrm>
              <a:off x="4495680" y="609480"/>
              <a:ext cx="1675800" cy="16002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257440" y="1295280"/>
              <a:ext cx="1752480" cy="1524240"/>
            </a:xfrm>
            <a:prstGeom prst="ellipse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62360" y="457200"/>
              <a:ext cx="1752120" cy="16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410800" y="1752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77280" y="10666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248880" y="1600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72500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1536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639400" y="990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3800" y="8380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7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44120" y="609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k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1000" y="457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Times New Roman"/>
                </a:rPr>
                <a:t>k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766200" y="2525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00"/>
                  </a:solidFill>
                  <a:latin typeface="Times New Roman"/>
                </a:rPr>
                <a:t>k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aphicFrame>
        <p:nvGraphicFramePr>
          <p:cNvPr id="266" name=""/>
          <p:cNvGraphicFramePr/>
          <p:nvPr/>
        </p:nvGraphicFramePr>
        <p:xfrm>
          <a:off x="152280" y="3124080"/>
          <a:ext cx="8763120" cy="357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124080"/>
                    <a:ext cx="8763120" cy="35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152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The Vector Model: Example  III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344120" y="457200"/>
            <a:ext cx="3036600" cy="2375640"/>
            <a:chOff x="4344120" y="457200"/>
            <a:chExt cx="3036600" cy="2375640"/>
          </a:xfrm>
        </p:grpSpPr>
        <p:sp>
          <p:nvSpPr>
            <p:cNvPr id="271" name=""/>
            <p:cNvSpPr/>
            <p:nvPr/>
          </p:nvSpPr>
          <p:spPr>
            <a:xfrm>
              <a:off x="4495680" y="609480"/>
              <a:ext cx="1675800" cy="16002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257440" y="1295280"/>
              <a:ext cx="1752480" cy="1524240"/>
            </a:xfrm>
            <a:prstGeom prst="ellipse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62360" y="457200"/>
              <a:ext cx="1752120" cy="16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410800" y="1752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877280" y="10666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248880" y="1600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00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71536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39400" y="990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800" y="8380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7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344120" y="609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k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11000" y="457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Times New Roman"/>
                </a:rPr>
                <a:t>k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66200" y="2525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00"/>
                  </a:solidFill>
                  <a:latin typeface="Times New Roman"/>
                </a:rPr>
                <a:t>k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aphicFrame>
        <p:nvGraphicFramePr>
          <p:cNvPr id="284" name=""/>
          <p:cNvGraphicFramePr/>
          <p:nvPr/>
        </p:nvGraphicFramePr>
        <p:xfrm>
          <a:off x="457200" y="3121200"/>
          <a:ext cx="8534520" cy="348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21200"/>
                    <a:ext cx="8534520" cy="34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14400" y="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6095880"/>
            <a:ext cx="7467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1143000"/>
            <a:ext cx="761760" cy="5335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1828800"/>
            <a:ext cx="762120" cy="5335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320" y="1828800"/>
            <a:ext cx="761760" cy="5335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19320" y="2514600"/>
            <a:ext cx="761760" cy="5335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2514600"/>
            <a:ext cx="762120" cy="5335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09680" y="1143000"/>
            <a:ext cx="762120" cy="533520"/>
          </a:xfrm>
          <a:prstGeom prst="beve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54640" y="53352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oc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4267080"/>
            <a:ext cx="914400" cy="685800"/>
          </a:xfrm>
          <a:prstGeom prst="cloudCallout">
            <a:avLst>
              <a:gd name="adj1" fmla="val -35416"/>
              <a:gd name="adj2" fmla="val 5671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47920" y="4952880"/>
            <a:ext cx="761760" cy="838440"/>
          </a:xfrm>
          <a:prstGeom prst="smileyFace">
            <a:avLst>
              <a:gd name="adj" fmla="val 928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25720" y="36226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formation Ne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18288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472428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1600200"/>
            <a:ext cx="1295280" cy="2666880"/>
          </a:xfrm>
          <a:prstGeom prst="ellipse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3581280"/>
            <a:ext cx="1524240" cy="1981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13360" y="6508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dex Term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945040" y="190512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do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21000" y="5181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quer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9000" y="342900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Rank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505320"/>
            <a:ext cx="1219320" cy="485640"/>
          </a:xfrm>
          <a:prstGeom prst="rightArrow">
            <a:avLst>
              <a:gd name="adj1" fmla="val 50000"/>
              <a:gd name="adj2" fmla="val 62769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0800" y="3048120"/>
            <a:ext cx="92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tch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66680" y="45720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4479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Matching at index term level is quite imprecis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No surprise that users get frequently unsatisfi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nce most users have no training in query formation, problem is even wors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requent dissatisfaction of Web user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ssue of deciding relevance is critical for IR systems: ranking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14400" y="304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Introduc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ranking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is an ordering of the documents retrieved that (hopefully) reflects the relevance of the documents to the  user query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ranking is based on fundamental premisses regarding the notion of relevance, such a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ommon sets of index term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haring of weighted term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ikelihood of relevanc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ach set of premisses leads to a distinct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IR mod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914400" y="38088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IR  Model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51000" y="3643200"/>
            <a:ext cx="2575080" cy="1138320"/>
            <a:chOff x="3051000" y="3643200"/>
            <a:chExt cx="2575080" cy="1138320"/>
          </a:xfrm>
        </p:grpSpPr>
        <p:sp>
          <p:nvSpPr>
            <p:cNvPr id="117" name=""/>
            <p:cNvSpPr/>
            <p:nvPr/>
          </p:nvSpPr>
          <p:spPr>
            <a:xfrm>
              <a:off x="3051000" y="4048920"/>
              <a:ext cx="2575080" cy="732600"/>
            </a:xfrm>
            <a:prstGeom prst="rect">
              <a:avLst/>
            </a:prstGeom>
            <a:gradFill rotWithShape="0">
              <a:gsLst>
                <a:gs pos="0">
                  <a:srgbClr val="b8b8b8"/>
                </a:gs>
                <a:gs pos="50000">
                  <a:srgbClr val="ffffff"/>
                </a:gs>
                <a:gs pos="100000">
                  <a:srgbClr val="b8b8b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Non-Overlapping List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Proximal Node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2440" y="3643200"/>
              <a:ext cx="257364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Structured Mode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766800" y="2825640"/>
            <a:ext cx="1593720" cy="98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Retrieval: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Adho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   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Filterin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00" y="4781520"/>
            <a:ext cx="1593720" cy="40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Browsin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2585880"/>
            <a:ext cx="461880" cy="282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r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 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k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051000" y="1844640"/>
            <a:ext cx="1793880" cy="1415880"/>
            <a:chOff x="3051000" y="1844640"/>
            <a:chExt cx="1793880" cy="1415880"/>
          </a:xfrm>
        </p:grpSpPr>
        <p:sp>
          <p:nvSpPr>
            <p:cNvPr id="123" name=""/>
            <p:cNvSpPr/>
            <p:nvPr/>
          </p:nvSpPr>
          <p:spPr>
            <a:xfrm>
              <a:off x="3051000" y="1844640"/>
              <a:ext cx="1793880" cy="393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Classic Model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51000" y="2235960"/>
              <a:ext cx="1793880" cy="1024560"/>
            </a:xfrm>
            <a:prstGeom prst="rect">
              <a:avLst/>
            </a:prstGeom>
            <a:gradFill rotWithShape="0">
              <a:gsLst>
                <a:gs pos="0">
                  <a:srgbClr val="d0d0d0"/>
                </a:gs>
                <a:gs pos="50000">
                  <a:srgbClr val="ffffff"/>
                </a:gs>
                <a:gs pos="100000">
                  <a:srgbClr val="d0d0d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boolea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vecto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 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probabilistic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400800" y="990720"/>
            <a:ext cx="2135160" cy="1059840"/>
            <a:chOff x="6400800" y="990720"/>
            <a:chExt cx="2135160" cy="1059840"/>
          </a:xfrm>
        </p:grpSpPr>
        <p:sp>
          <p:nvSpPr>
            <p:cNvPr id="126" name=""/>
            <p:cNvSpPr/>
            <p:nvPr/>
          </p:nvSpPr>
          <p:spPr>
            <a:xfrm>
              <a:off x="6400800" y="990720"/>
              <a:ext cx="2135160" cy="4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Set Theoretic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400800" y="1396080"/>
              <a:ext cx="2135160" cy="654480"/>
            </a:xfrm>
            <a:prstGeom prst="rect">
              <a:avLst/>
            </a:prstGeom>
            <a:gradFill rotWithShape="0">
              <a:gsLst>
                <a:gs pos="0">
                  <a:srgbClr val="d0d0d0"/>
                </a:gs>
                <a:gs pos="50000">
                  <a:srgbClr val="ffffff"/>
                </a:gs>
                <a:gs pos="100000">
                  <a:srgbClr val="d0d0d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sz="1600" spc="-1" strike="noStrike">
                  <a:solidFill>
                    <a:srgbClr val="009999"/>
                  </a:solidFill>
                  <a:latin typeface="Times New Roman"/>
                </a:rPr>
                <a:t>Fuzzy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Extended Boolean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400800" y="3807000"/>
            <a:ext cx="2286000" cy="1207800"/>
            <a:chOff x="6400800" y="3807000"/>
            <a:chExt cx="2286000" cy="1207800"/>
          </a:xfrm>
        </p:grpSpPr>
        <p:sp>
          <p:nvSpPr>
            <p:cNvPr id="129" name=""/>
            <p:cNvSpPr/>
            <p:nvPr/>
          </p:nvSpPr>
          <p:spPr>
            <a:xfrm>
              <a:off x="6404040" y="3807000"/>
              <a:ext cx="2282760" cy="40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Probabilistic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0800" y="4212360"/>
              <a:ext cx="2286000" cy="802440"/>
            </a:xfrm>
            <a:prstGeom prst="rect">
              <a:avLst/>
            </a:prstGeom>
            <a:gradFill rotWithShape="0">
              <a:gsLst>
                <a:gs pos="0">
                  <a:srgbClr val="d0d0d0"/>
                </a:gs>
                <a:gs pos="50000">
                  <a:srgbClr val="ffffff"/>
                </a:gs>
                <a:gs pos="100000">
                  <a:srgbClr val="d0d0d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Inference Network 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Belief Network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6397560" y="2236680"/>
            <a:ext cx="2286000" cy="1430280"/>
            <a:chOff x="6397560" y="2236680"/>
            <a:chExt cx="2286000" cy="1430280"/>
          </a:xfrm>
        </p:grpSpPr>
        <p:sp>
          <p:nvSpPr>
            <p:cNvPr id="132" name=""/>
            <p:cNvSpPr/>
            <p:nvPr/>
          </p:nvSpPr>
          <p:spPr>
            <a:xfrm>
              <a:off x="6397560" y="2236680"/>
              <a:ext cx="2286000" cy="40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Algebraic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800" y="2642400"/>
              <a:ext cx="2282760" cy="1024560"/>
            </a:xfrm>
            <a:prstGeom prst="rect">
              <a:avLst/>
            </a:prstGeom>
            <a:gradFill rotWithShape="0">
              <a:gsLst>
                <a:gs pos="0">
                  <a:srgbClr val="d0d0d0"/>
                </a:gs>
                <a:gs pos="50000">
                  <a:srgbClr val="ffffff"/>
                </a:gs>
                <a:gs pos="100000">
                  <a:srgbClr val="d0d0d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Generalized Vecto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Lat. Semantic Index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Neural Network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052800" y="5187960"/>
            <a:ext cx="2027160" cy="1445760"/>
            <a:chOff x="3052800" y="5187960"/>
            <a:chExt cx="2027160" cy="1445760"/>
          </a:xfrm>
        </p:grpSpPr>
        <p:sp>
          <p:nvSpPr>
            <p:cNvPr id="135" name=""/>
            <p:cNvSpPr/>
            <p:nvPr/>
          </p:nvSpPr>
          <p:spPr>
            <a:xfrm>
              <a:off x="3052800" y="5187960"/>
              <a:ext cx="2027160" cy="4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Browsing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052800" y="5592960"/>
              <a:ext cx="2027160" cy="104076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ffffff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0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Fla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Structure Guided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 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Hypertext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 flipV="1">
            <a:off x="4614840" y="1163520"/>
            <a:ext cx="1782720" cy="1268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614840" y="2432160"/>
            <a:ext cx="1782720" cy="2109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6320" y="3040200"/>
            <a:ext cx="1641240" cy="9111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073240" y="2050920"/>
            <a:ext cx="977760" cy="989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73240" y="3040200"/>
            <a:ext cx="977760" cy="766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73240" y="5014800"/>
            <a:ext cx="977760" cy="3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43000" y="2286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IR  Model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" y="838080"/>
            <a:ext cx="86868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he IR model, the logical view of the docs, and the retrieval task are distinct aspects of the syste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838080" y="1952640"/>
          <a:ext cx="7239240" cy="490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52640"/>
                    <a:ext cx="7239240" cy="49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14400" y="304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Retrieval: Ad Hoc x Filter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" y="11430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d hoc retrieval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9520" y="1905120"/>
            <a:ext cx="5238720" cy="3660480"/>
          </a:xfrm>
          <a:custGeom>
            <a:avLst/>
            <a:gdLst/>
            <a:ahLst/>
            <a:rect l="l" t="t" r="r" b="b"/>
            <a:pathLst>
              <a:path w="3300" h="2306">
                <a:moveTo>
                  <a:pt x="538" y="931"/>
                </a:moveTo>
                <a:cubicBezTo>
                  <a:pt x="611" y="759"/>
                  <a:pt x="521" y="923"/>
                  <a:pt x="817" y="755"/>
                </a:cubicBezTo>
                <a:cubicBezTo>
                  <a:pt x="869" y="725"/>
                  <a:pt x="958" y="576"/>
                  <a:pt x="993" y="527"/>
                </a:cubicBezTo>
                <a:cubicBezTo>
                  <a:pt x="1014" y="498"/>
                  <a:pt x="1094" y="443"/>
                  <a:pt x="1107" y="434"/>
                </a:cubicBezTo>
                <a:cubicBezTo>
                  <a:pt x="1327" y="279"/>
                  <a:pt x="1464" y="314"/>
                  <a:pt x="1769" y="300"/>
                </a:cubicBezTo>
                <a:cubicBezTo>
                  <a:pt x="1789" y="239"/>
                  <a:pt x="1796" y="186"/>
                  <a:pt x="1810" y="124"/>
                </a:cubicBezTo>
                <a:cubicBezTo>
                  <a:pt x="1817" y="92"/>
                  <a:pt x="1831" y="62"/>
                  <a:pt x="1841" y="31"/>
                </a:cubicBezTo>
                <a:cubicBezTo>
                  <a:pt x="1845" y="21"/>
                  <a:pt x="1852" y="0"/>
                  <a:pt x="1852" y="0"/>
                </a:cubicBezTo>
                <a:cubicBezTo>
                  <a:pt x="1928" y="3"/>
                  <a:pt x="2004" y="1"/>
                  <a:pt x="2079" y="10"/>
                </a:cubicBezTo>
                <a:cubicBezTo>
                  <a:pt x="2110" y="14"/>
                  <a:pt x="2132" y="43"/>
                  <a:pt x="2162" y="52"/>
                </a:cubicBezTo>
                <a:cubicBezTo>
                  <a:pt x="2192" y="61"/>
                  <a:pt x="2224" y="64"/>
                  <a:pt x="2255" y="72"/>
                </a:cubicBezTo>
                <a:cubicBezTo>
                  <a:pt x="2324" y="69"/>
                  <a:pt x="2393" y="71"/>
                  <a:pt x="2462" y="62"/>
                </a:cubicBezTo>
                <a:cubicBezTo>
                  <a:pt x="2474" y="60"/>
                  <a:pt x="2481" y="42"/>
                  <a:pt x="2493" y="41"/>
                </a:cubicBezTo>
                <a:cubicBezTo>
                  <a:pt x="2531" y="38"/>
                  <a:pt x="2569" y="48"/>
                  <a:pt x="2607" y="52"/>
                </a:cubicBezTo>
                <a:cubicBezTo>
                  <a:pt x="2621" y="62"/>
                  <a:pt x="2633" y="75"/>
                  <a:pt x="2648" y="83"/>
                </a:cubicBezTo>
                <a:cubicBezTo>
                  <a:pt x="2667" y="93"/>
                  <a:pt x="2710" y="103"/>
                  <a:pt x="2710" y="103"/>
                </a:cubicBezTo>
                <a:cubicBezTo>
                  <a:pt x="2774" y="150"/>
                  <a:pt x="2831" y="192"/>
                  <a:pt x="2876" y="258"/>
                </a:cubicBezTo>
                <a:cubicBezTo>
                  <a:pt x="2895" y="336"/>
                  <a:pt x="2915" y="446"/>
                  <a:pt x="3000" y="476"/>
                </a:cubicBezTo>
                <a:cubicBezTo>
                  <a:pt x="3041" y="560"/>
                  <a:pt x="3040" y="661"/>
                  <a:pt x="3093" y="734"/>
                </a:cubicBezTo>
                <a:cubicBezTo>
                  <a:pt x="3171" y="840"/>
                  <a:pt x="3117" y="779"/>
                  <a:pt x="3217" y="879"/>
                </a:cubicBezTo>
                <a:cubicBezTo>
                  <a:pt x="3227" y="889"/>
                  <a:pt x="3248" y="910"/>
                  <a:pt x="3248" y="910"/>
                </a:cubicBezTo>
                <a:cubicBezTo>
                  <a:pt x="3264" y="992"/>
                  <a:pt x="3272" y="1050"/>
                  <a:pt x="3279" y="1138"/>
                </a:cubicBezTo>
                <a:cubicBezTo>
                  <a:pt x="3276" y="1327"/>
                  <a:pt x="3300" y="1519"/>
                  <a:pt x="3269" y="1706"/>
                </a:cubicBezTo>
                <a:cubicBezTo>
                  <a:pt x="3263" y="1740"/>
                  <a:pt x="3078" y="1811"/>
                  <a:pt x="3041" y="1831"/>
                </a:cubicBezTo>
                <a:cubicBezTo>
                  <a:pt x="3012" y="1846"/>
                  <a:pt x="2958" y="1882"/>
                  <a:pt x="2958" y="1882"/>
                </a:cubicBezTo>
                <a:cubicBezTo>
                  <a:pt x="2694" y="1876"/>
                  <a:pt x="2527" y="1851"/>
                  <a:pt x="2286" y="1893"/>
                </a:cubicBezTo>
                <a:cubicBezTo>
                  <a:pt x="2266" y="1919"/>
                  <a:pt x="2257" y="1952"/>
                  <a:pt x="2234" y="1975"/>
                </a:cubicBezTo>
                <a:cubicBezTo>
                  <a:pt x="2193" y="2016"/>
                  <a:pt x="2141" y="2048"/>
                  <a:pt x="2100" y="2089"/>
                </a:cubicBezTo>
                <a:cubicBezTo>
                  <a:pt x="2008" y="2181"/>
                  <a:pt x="2115" y="2084"/>
                  <a:pt x="2017" y="2182"/>
                </a:cubicBezTo>
                <a:cubicBezTo>
                  <a:pt x="1983" y="2216"/>
                  <a:pt x="1925" y="2265"/>
                  <a:pt x="1883" y="2286"/>
                </a:cubicBezTo>
                <a:cubicBezTo>
                  <a:pt x="1863" y="2296"/>
                  <a:pt x="1820" y="2306"/>
                  <a:pt x="1820" y="2306"/>
                </a:cubicBezTo>
                <a:cubicBezTo>
                  <a:pt x="1696" y="2299"/>
                  <a:pt x="1572" y="2297"/>
                  <a:pt x="1448" y="2286"/>
                </a:cubicBezTo>
                <a:cubicBezTo>
                  <a:pt x="1348" y="2277"/>
                  <a:pt x="1273" y="2214"/>
                  <a:pt x="1189" y="2172"/>
                </a:cubicBezTo>
                <a:cubicBezTo>
                  <a:pt x="1182" y="2103"/>
                  <a:pt x="1180" y="2033"/>
                  <a:pt x="1169" y="1965"/>
                </a:cubicBezTo>
                <a:cubicBezTo>
                  <a:pt x="1149" y="1844"/>
                  <a:pt x="1013" y="1830"/>
                  <a:pt x="921" y="1820"/>
                </a:cubicBezTo>
                <a:cubicBezTo>
                  <a:pt x="811" y="1827"/>
                  <a:pt x="700" y="1828"/>
                  <a:pt x="590" y="1841"/>
                </a:cubicBezTo>
                <a:cubicBezTo>
                  <a:pt x="557" y="1845"/>
                  <a:pt x="527" y="1862"/>
                  <a:pt x="496" y="1872"/>
                </a:cubicBezTo>
                <a:cubicBezTo>
                  <a:pt x="486" y="1875"/>
                  <a:pt x="465" y="1882"/>
                  <a:pt x="465" y="1882"/>
                </a:cubicBezTo>
                <a:cubicBezTo>
                  <a:pt x="362" y="1879"/>
                  <a:pt x="257" y="1887"/>
                  <a:pt x="155" y="1872"/>
                </a:cubicBezTo>
                <a:cubicBezTo>
                  <a:pt x="138" y="1869"/>
                  <a:pt x="135" y="1844"/>
                  <a:pt x="124" y="1831"/>
                </a:cubicBezTo>
                <a:cubicBezTo>
                  <a:pt x="40" y="1734"/>
                  <a:pt x="17" y="1626"/>
                  <a:pt x="0" y="1500"/>
                </a:cubicBezTo>
                <a:cubicBezTo>
                  <a:pt x="10" y="1407"/>
                  <a:pt x="5" y="1310"/>
                  <a:pt x="31" y="1220"/>
                </a:cubicBezTo>
                <a:cubicBezTo>
                  <a:pt x="41" y="1187"/>
                  <a:pt x="79" y="1172"/>
                  <a:pt x="103" y="1148"/>
                </a:cubicBezTo>
                <a:cubicBezTo>
                  <a:pt x="196" y="1055"/>
                  <a:pt x="274" y="1037"/>
                  <a:pt x="403" y="1024"/>
                </a:cubicBezTo>
                <a:cubicBezTo>
                  <a:pt x="413" y="1020"/>
                  <a:pt x="424" y="1018"/>
                  <a:pt x="434" y="1013"/>
                </a:cubicBezTo>
                <a:cubicBezTo>
                  <a:pt x="474" y="990"/>
                  <a:pt x="501" y="967"/>
                  <a:pt x="538" y="941"/>
                </a:cubicBezTo>
                <a:cubicBezTo>
                  <a:pt x="574" y="915"/>
                  <a:pt x="584" y="915"/>
                  <a:pt x="538" y="931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60880" y="354636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Collec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Fixed Size”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2438280"/>
            <a:ext cx="838440" cy="762120"/>
          </a:xfrm>
          <a:prstGeom prst="flowChartMagneticTap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3581280"/>
            <a:ext cx="838080" cy="762120"/>
          </a:xfrm>
          <a:prstGeom prst="flowChartMagneticTap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Q3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14600" y="1676520"/>
            <a:ext cx="838080" cy="761760"/>
          </a:xfrm>
          <a:prstGeom prst="flowChartMagneticTap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4876920"/>
            <a:ext cx="838080" cy="761760"/>
          </a:xfrm>
          <a:prstGeom prst="flowChartMagneticTap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Q4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5181480"/>
            <a:ext cx="838440" cy="762120"/>
          </a:xfrm>
          <a:prstGeom prst="flowChartMagneticTap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Q5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914400" y="304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Retrieval: Ad Hoc x Filter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9907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iltering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3880" y="4876920"/>
            <a:ext cx="5867640" cy="9144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4876920"/>
            <a:ext cx="3808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4876920"/>
            <a:ext cx="3808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581280" y="4876920"/>
            <a:ext cx="762120" cy="914400"/>
          </a:xfrm>
          <a:prstGeom prst="rect">
            <a:avLst/>
          </a:prstGeom>
          <a:solidFill>
            <a:srgbClr val="9933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876920"/>
            <a:ext cx="685800" cy="914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4876920"/>
            <a:ext cx="38088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419720" y="4876920"/>
            <a:ext cx="3808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00800" y="4876920"/>
            <a:ext cx="38088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60199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95120" y="59850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Documents  Stream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0" y="2895480"/>
            <a:ext cx="1295280" cy="838440"/>
          </a:xfrm>
          <a:prstGeom prst="wedgeRoundRectCallout">
            <a:avLst>
              <a:gd name="adj1" fmla="val -45587"/>
              <a:gd name="adj2" fmla="val 64583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3760" y="28954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User 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0" y="1447920"/>
            <a:ext cx="1295280" cy="838080"/>
          </a:xfrm>
          <a:prstGeom prst="wedgeRoundRectCallout">
            <a:avLst>
              <a:gd name="adj1" fmla="val -45587"/>
              <a:gd name="adj2" fmla="val 64583"/>
              <a:gd name="adj3" fmla="val 16667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3760" y="144792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User 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Profil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257800" y="2895480"/>
            <a:ext cx="1828800" cy="914400"/>
            <a:chOff x="5257800" y="2895480"/>
            <a:chExt cx="1828800" cy="914400"/>
          </a:xfrm>
        </p:grpSpPr>
        <p:sp>
          <p:nvSpPr>
            <p:cNvPr id="173" name=""/>
            <p:cNvSpPr/>
            <p:nvPr/>
          </p:nvSpPr>
          <p:spPr>
            <a:xfrm>
              <a:off x="6400800" y="2895480"/>
              <a:ext cx="685800" cy="9144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38680" y="2895480"/>
              <a:ext cx="762120" cy="914400"/>
            </a:xfrm>
            <a:prstGeom prst="rect">
              <a:avLst/>
            </a:prstGeom>
            <a:solidFill>
              <a:srgbClr val="9933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2895480"/>
              <a:ext cx="380880" cy="914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5257800" y="1371600"/>
            <a:ext cx="5335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1371600"/>
            <a:ext cx="380880" cy="914400"/>
          </a:xfrm>
          <a:prstGeom prst="rect">
            <a:avLst/>
          </a:prstGeom>
          <a:solidFill>
            <a:srgbClr val="0000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91320" y="1371600"/>
            <a:ext cx="380880" cy="914400"/>
          </a:xfrm>
          <a:prstGeom prst="rect">
            <a:avLst/>
          </a:prstGeom>
          <a:solidFill>
            <a:srgbClr val="33cc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962520" y="3124080"/>
            <a:ext cx="976320" cy="48600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1600200"/>
            <a:ext cx="976320" cy="485640"/>
          </a:xfrm>
          <a:custGeom>
            <a:avLst/>
            <a:gdLst>
              <a:gd name="textAreaLeft" fmla="*/ 12204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038480"/>
            <a:ext cx="1295280" cy="685800"/>
          </a:xfrm>
          <a:prstGeom prst="upArrowCallout">
            <a:avLst>
              <a:gd name="adj1" fmla="val 47222"/>
              <a:gd name="adj2" fmla="val 47218"/>
              <a:gd name="adj3" fmla="val 16667"/>
              <a:gd name="adj4" fmla="val 666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1371600"/>
            <a:ext cx="19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Docs Filtere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for User 2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392960" y="2971800"/>
            <a:ext cx="127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Docs fo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User 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62" idx="0"/>
            <a:endCxn id="173" idx="2"/>
          </p:cNvCxnSpPr>
          <p:nvPr/>
        </p:nvCxnSpPr>
        <p:spPr>
          <a:xfrm flipH="1" flipV="1" rot="5400000">
            <a:off x="5714640" y="3847680"/>
            <a:ext cx="1067760" cy="991440"/>
          </a:xfrm>
          <a:prstGeom prst="bentConnector3">
            <a:avLst>
              <a:gd name="adj1" fmla="val 49983"/>
            </a:avLst>
          </a:prstGeom>
          <a:ln w="9360">
            <a:solidFill>
              <a:srgbClr val="009999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438280" y="4876920"/>
            <a:ext cx="5335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berthier</cp:lastModifiedBy>
  <dcterms:modified xsi:type="dcterms:W3CDTF">1999-09-01T18:56:49Z</dcterms:modified>
  <cp:revision>13</cp:revision>
  <dc:subject/>
  <dc:title>Recuperação de Informação B</dc:title>
</cp:coreProperties>
</file>