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5063-632D-4AFD-995C-2C0396BE9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DFFA-CD8D-459D-A5D3-15BBF9E3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B2E6-E1C3-4378-A8DD-9F3B800B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DCE6-E793-4D55-97A8-16713E8C7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A946-DD67-4C82-B065-2F6B828A5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F2E44-E71B-4E2D-A7C6-6CB7943C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2B16-57B7-4B7C-84CD-FE87FF7C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0B6CE-7393-4D25-8837-48DD5D35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E93D2-498D-45AE-9434-F4A0B151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349F-FE34-41AC-9497-04D215CD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8582E-04EE-4759-B65F-310CF410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382-FAC0-44D7-BF19-DB5FD37C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D8E2-ACA7-463B-BBFE-1F5B744C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064F-088E-46EE-94B5-C48B87BA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8E807-8698-4CC5-ACB9-D0BB217A6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BE8B1-4DD1-40EC-A6EE-AD1668467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A801-DA7E-450B-A23E-E1D27BBA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511-07D2-4028-BFA4-49F738CF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E3F-4B9A-4A1F-B001-3E66D5BD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FE2B-2DA6-4FDC-8698-89170BE1E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AEF-D672-400C-B79F-253C2517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DC6B-D26F-4566-A342-88A66F5A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9D44-4E26-429F-95FB-3102998D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DA3-2DB2-4578-AB06-DC7CC81E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0519-87CD-457A-B02E-1A12EB590F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7838-EAF7-40A7-9B28-ED1FDA9C47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Recuperação de Informação B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p. 06: Text and Multimedia Languages and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roperties (Introduction, Metadata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nd Text)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6.1, 6.2, 6.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November 01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Meta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DF Schema Exempl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7" name="rdf_sch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2388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ext coding in bi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BCDIC, ASCII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Initially, 7 bits. Later, 8 bi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Unicod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16 bits, to accommodate oriental languag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orma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o single format exis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R system should retrieve information from different forma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ast: IR systems convert the documen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oday: IR systems use filte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orma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Formats for document interchange (RTF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Formats for displaying (PDF, PostScript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Formats for encode email (MIME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ompressed fil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uuencode/uudecode, binhex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formation Theo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mount of information is related to the distribution of symbols in the document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ntropy: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efinition of entropy depends on the probabilities of each symbol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ext models are used to obtain those probabilit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908440" y="3073320"/>
                <a:ext cx="32004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σ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xample - Entrop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001001011011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63680" y="2743200"/>
                <a:ext cx="49687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xample - Entrop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111111111111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711440" y="2895480"/>
                <a:ext cx="428760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ing Natural Langu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ymbols: separate words or belong to word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ymbols are not uniformly distribute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binomial mod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ependency of previous symbol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-order markovian model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e can take words as symbol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ing Natural Langu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ords distribution inside documen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Zipf´s Law: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-th most frequent word appears 1/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i="1" lang="pt-BR" sz="2600" spc="-1" strike="noStrike" baseline="30000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i="1" lang="pt-BR" sz="2600" spc="-1" strike="noStrike" baseline="30000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imes of the most frequent wor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eal data fits better with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between 1.5 and 2.0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2971800" y="3614760"/>
                <a:ext cx="263520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fPr>
                            <m:type m:val="lin"/>
                          </m:fPr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Θ</m:t>
                            </m:r>
                          </m:sup>
                        </m:sSup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V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t xml:space="preserve">j</m:t>
                                    </m:r>
                                  </m:e>
                                  <m:sup>
                                    <m:r>
                                      <m:t xml:space="preserve">Θ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ing Natural Langu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xample - word distibution (Zipf’s Law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V=1000,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ost frequent word: n=300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2nd most frequent: n=76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3rd most frequent: n=3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4th most frequent: n=1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ext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main form of communicating knowledge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ocu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oosely defined, denote a single unit of information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an be any physical uni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 fil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n emai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a Web Pag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ing Natural Langu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kewed distribution -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stopword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istribution of words in the documen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binomial distribu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Poisson distribution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981080" y="3733920"/>
                <a:ext cx="4953240" cy="10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α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d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k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p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352680" y="4267080"/>
            <a:ext cx="1371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ing Natural Langu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umber of distinct word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Heaps’ Law: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t of different words is fixed by a constant, but the limit is too high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352680" y="2590920"/>
                <a:ext cx="129564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e>
                      <m:sup>
                        <m:r>
                          <m:t xml:space="preserve">β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ing Natural Langu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Heaps’ Law exampl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k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between 10 and 100,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is less than 1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example: n=400000,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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K=25, V=15811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K=35, V=22135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ing Natural Langu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ength of the word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defines total space needed for vocabula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Heaps’ Law: length increases logarithmically with text size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35480" indent="-2829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n practice, a finit-state model is use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pace has p=0.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pace cannot apear twice subsequentl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here are 26 letter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ilarity Mode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istance Func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hould be symmetric and satisfy triangle inequalit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Hamming Distanc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number of positions that have different character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Courier New"/>
              </a:rPr>
              <a:t>          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Courier New"/>
              </a:rPr>
              <a:t>           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revers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           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re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c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iv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ilarity Mode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83280" indent="-2628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dit (Levenshtein) Distanc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inimum number of operations needed to make strings equa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             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surve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             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sur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g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e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uperior for modeling syntatic error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extensions: weights, transpositions, etc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683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ex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ilarity Model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ongest Common Subsequence (LCS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       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survey - surge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       </a:t>
            </a:r>
            <a:r>
              <a:rPr b="1" lang="pt-BR" sz="2400" spc="-1" strike="noStrike">
                <a:solidFill>
                  <a:srgbClr val="009999"/>
                </a:solidFill>
                <a:latin typeface="Courier New"/>
              </a:rPr>
              <a:t>LCS: sure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ocuments: lines as symbols (diff in Unix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ime consum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imilar lin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Fingerprin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Visual tool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Conclus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ext is the main form of communicating knowledg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ocuments have syntax, structure and semantic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etadata: information about da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ormats of tex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ing Natural Languag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ntropy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istribution of symbol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ilarit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ocumen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yntax and structur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mantic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nformation about itself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ocument Syntax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mplicit, or expressed in a language (e.g, TeX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owerful languages: easier to parse, difficult to convert to other formats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Open languages are better (interchange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mantics of texts in natural language are not easy for a computer to understand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76080" indent="-2599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rend: languages which provides information on structure, format and semantics being readable by human and compute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ew applications are pushing for format such that information can be represented independetly of style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tyle: defined by the author, but the reader may decide part of i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tyle can include treatment of other medi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Meta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ata about the data”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.g: in a DBMS, schema specifies name of the relations, attributes, domains, etc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escriptive Metada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uthor, source, length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ublin Core Metadata Element Se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294840" indent="-2948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emantic Metadat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haracterizes the subject matter within the document conten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39000" indent="-2455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MEDLINE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Meta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ARC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100 0020</a:t>
            </a: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1 $aHagler, Ronald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245 0074</a:t>
            </a: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14$aThe bibliographic..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250 0012</a:t>
            </a: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$a3rd. Ed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260 0052</a:t>
            </a: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$aChicago :$bALA, $c1997</a:t>
            </a:r>
            <a:r>
              <a:rPr b="0" lang="pt-BR" sz="2600" spc="-1" strike="noStrike">
                <a:solidFill>
                  <a:srgbClr val="009999"/>
                </a:solidFill>
                <a:latin typeface="Courier New"/>
              </a:rPr>
              <a:t>	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Meta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etadata information on Web documen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ataloging, content rating, property rights, digital signature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ew standard: Resource Description Framewor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escription of Web resources to facilitate automated processing of informa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odes and attched atribute/values pair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etadescription of non-textual object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keyword can be used to search the object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Meta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2576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DF Exampl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rdf_ex" descr=""/>
          <p:cNvPicPr/>
          <p:nvPr/>
        </p:nvPicPr>
        <p:blipFill>
          <a:blip r:embed="rId1"/>
          <a:stretch/>
        </p:blipFill>
        <p:spPr>
          <a:xfrm>
            <a:off x="1828800" y="2273400"/>
            <a:ext cx="5886360" cy="2286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4800600"/>
            <a:ext cx="70102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99"/>
                </a:solidFill>
                <a:latin typeface="Courier New"/>
              </a:rPr>
              <a:t>&lt;RDF:RDF&gt;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99"/>
                </a:solidFill>
                <a:latin typeface="Courier New"/>
              </a:rPr>
              <a:t>&lt;RDF:Description RDF:HREF = “page.html”&gt; &lt;DC:Creator&gt; John Smith &lt;/DC:Creator&gt; &lt;DC:Title&gt; John’s Home Page &lt;/DC:Title&gt; &lt;/RDF:Description&gt;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99"/>
                </a:solidFill>
                <a:latin typeface="Courier New"/>
              </a:rPr>
              <a:t>&lt;/RDF:RDF&gt;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Joao Caram</cp:lastModifiedBy>
  <cp:lastPrinted>1999-11-01T17:06:27Z</cp:lastPrinted>
  <dcterms:modified xsi:type="dcterms:W3CDTF">1999-11-01T17:07:40Z</dcterms:modified>
  <cp:revision>41</cp:revision>
  <dc:subject/>
  <dc:title>Recuperação de Informação B</dc:title>
</cp:coreProperties>
</file>