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9A04-15A9-41C8-9706-B8313123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720E-094A-4619-8360-5C66D52F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8CC7-2F62-4B8E-8C4C-5733F3183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FFDC-01F6-4E61-9663-BAD44688C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5EA58-89AF-4249-B98D-54439EEDC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603E-29B1-49C8-8930-49C39C383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DA8C-09F6-459F-839B-087F85BB1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6639-A1C2-4775-8146-B0A30683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9458-7D71-4EDF-93D7-56763CE8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AF404-90D9-44E7-989C-E8EC61C3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B4E4-B1BB-420A-9E38-132F160C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2BC-48EC-4D41-A1D7-2946C8967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406A-D596-48D3-8B07-53E9CA61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242CF-2938-48F1-9D5A-FE92FC20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BBA70-AE64-471F-8639-97CD1E81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29A1-3691-4E16-92E8-E93501552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65F5-0A84-40E8-8958-3378FC99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48F-F8D8-4B37-9B68-BBAA58FB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7D05-0FEB-46EB-84D4-DF1CC298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7751-5477-46F7-9461-92F2E021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AF1-732D-4DAF-B094-6D3CCB4A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A23A-13F4-461E-A20A-E6EFB00A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9DC5-37F1-4E8B-914B-6DED2DD2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3BD-DD9D-4EC6-8ED2-BF10E43B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58AA-F186-44E7-AE6C-25F713FBCD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34615-BDE2-4142-BC30-15B156794F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Recuperação de Informação B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0574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Cap. 02: Modeling (Set Theoretic Models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2.6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September 08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90720" y="2286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Fuzzy Information Retrieval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8600" y="114300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Fuzzy IR models have been discussed mainly in the literature associated with fuzzy theor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Experiments with standard test collections are not availabl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ifficult to compare at this tim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066680" y="228600"/>
            <a:ext cx="609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 Narrow"/>
              </a:rPr>
              <a:t>Extended Boolean Model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91440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Booelan retrieval is simple and elegant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But, no ranking is provided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How to extend the model?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nterpret conjunctions and disjunctions in terms of Euclidean distance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 Narrow"/>
              </a:rPr>
              <a:t>Set Theoretic Models</a:t>
            </a:r>
            <a:endParaRPr b="1" lang="en-US" sz="32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11430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Boolean model imposes a binary criterion for deciding relevance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question of how to extend the Boolean model to accomodate partial matching and a ranking has attracted considerable attention in the pas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We discuss now two set theoretic models for thi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Fuzzy Set Mod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Extended Boolean Mod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228600"/>
            <a:ext cx="609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 Narrow"/>
              </a:rPr>
              <a:t>Fuzzy Set Model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1440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Queries and docs represented by sets of index terms: matching is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approximate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from the start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is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vagueness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can be modeled using a fuzzy framework, as follow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with each term is associated a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fuzzy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set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39000" indent="-24552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each doc has a degree of membership in this fuzzy set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is interpretation provides the foundation for many models for IR based on fuzzy theory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n here, we discuss the model proposed by Ogawa, Morita, and Kobayashi (1991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14400" y="30492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Fuzzy Set Theory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29528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Framework for representing classes whose boundaries are not well defined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Key idea is to introduce the notion of a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degree of membership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associated with the elements of a set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is degree of membership varies from 0 to 1 and allows modeling the notion of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marginal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membership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us, membership is now a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gradual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notion, contrary to the crispy notion enforced by classic Boolean logic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15228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Fuzzy Set Theory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A fuzzy subset A of U is characterized by a membership function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(A,u) : U 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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[0,1]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which associates with each element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u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of U a number 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(u)  in the interval [0,1]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efinitio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Let A and B be two fuzzy subsets of U. Also, let ¬A be the complement of A. Then,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(¬A,u) = 1 -  </a:t>
            </a:r>
            <a:r>
              <a:rPr b="0" lang="pt-BR" sz="24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(A,u)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(A</a:t>
            </a:r>
            <a:r>
              <a:rPr b="0" lang="pt-BR" sz="2400" spc="-1" strike="noStrike">
                <a:solidFill>
                  <a:srgbClr val="009999"/>
                </a:solidFill>
                <a:latin typeface="Symbol"/>
                <a:ea typeface="Symbol"/>
              </a:rPr>
              <a:t>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B,u) = max(</a:t>
            </a:r>
            <a:r>
              <a:rPr b="0" lang="pt-BR" sz="24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(A,u), </a:t>
            </a:r>
            <a:r>
              <a:rPr b="0" lang="pt-BR" sz="24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(B,u)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028520" indent="-20556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(A</a:t>
            </a:r>
            <a:r>
              <a:rPr b="0" lang="pt-BR" sz="2400" spc="-1" strike="noStrike">
                <a:solidFill>
                  <a:srgbClr val="009999"/>
                </a:solidFill>
                <a:latin typeface="Symbol"/>
                <a:ea typeface="Symbol"/>
              </a:rPr>
              <a:t>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B,u) = min(</a:t>
            </a:r>
            <a:r>
              <a:rPr b="0" lang="pt-BR" sz="24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(A,u), </a:t>
            </a:r>
            <a:r>
              <a:rPr b="0" lang="pt-BR" sz="24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(B,u)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990720" y="15228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Fuzzy Information Retrieval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Fuzzy sets are modeled based on a thesaurus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is thesaurus is built as follow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Let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vec(c)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be a term-term correlation matrix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90840" indent="-2656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Let c(i,l) be a normalized correlation factor for (ki,kl):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c(i,l) = </a:t>
            </a:r>
            <a:r>
              <a:rPr b="0" lang="pt-BR" sz="2600" spc="-1" strike="noStrike" u="sng">
                <a:solidFill>
                  <a:srgbClr val="009999"/>
                </a:solidFill>
                <a:uFillTx/>
                <a:latin typeface="Arial"/>
              </a:rPr>
              <a:t>      n(i,l)    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ni + nl - n(i,l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ni: number of docs which contain ki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nl: number of docs which contain kl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lvl="3" marL="1487880" indent="-2124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n(i,l): number of docs which contain both ki and kl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We now have the notion of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proximity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among index terms.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15228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Fuzzy Information Retrieval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correlation factor c(i,l) can be used to define fuzzy set membership for a document dj as follows: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(i,j) = 1 - 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       (1 - c(i,l))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ki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dj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(i,j) : membership of doc  dj  in fuzzy subset associated with ki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e above expression computes an algebraic sum over all terms in the doc dj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 doc dj belongs to the fuzzy set for ki, if its own terms are associated with ki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990720" y="2286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Fuzzy Information Retrieval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14300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(i,j) = 1 - 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       (1 - c(i,l))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ki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dj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pt-BR" sz="2000" spc="-1" strike="noStrike">
                <a:solidFill>
                  <a:srgbClr val="009999"/>
                </a:solidFill>
                <a:latin typeface="Arial"/>
              </a:rPr>
              <a:t>(i,j) : membership of doc  dj  in fuzzy subset associated with ki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f doc dj contains a term kl which is closely related to ki, we hav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c(i,l) ~ 1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(i,j) ~ 1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ndex ki is a good fuzzy index for doc 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152280"/>
            <a:ext cx="6858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Fuzzy IR: An Example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666880"/>
            <a:ext cx="86868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9000"/>
          </a:bodyPr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q = ka 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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(kb 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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kc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vec(qdnf) = (1,1,1) + (1,1,0) + (1,0,0)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 = vec(cc1) + vec(cc2) + vec(cc3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36520" indent="-2365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(q,dj) =  </a:t>
            </a:r>
            <a:r>
              <a:rPr b="0" i="1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(cc1+cc2+cc3,j)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      =  1 - (1 - </a:t>
            </a:r>
            <a:r>
              <a:rPr b="0" i="1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(a,j) </a:t>
            </a:r>
            <a:r>
              <a:rPr b="0" i="1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(b,j) </a:t>
            </a:r>
            <a:r>
              <a:rPr b="0" i="1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(c,j)) *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      (1 - </a:t>
            </a:r>
            <a:r>
              <a:rPr b="0" i="1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(a,j) </a:t>
            </a:r>
            <a:r>
              <a:rPr b="0" i="1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(b,j) (1-</a:t>
            </a:r>
            <a:r>
              <a:rPr b="0" i="1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(c,j))) *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      (1 - </a:t>
            </a:r>
            <a:r>
              <a:rPr b="0" i="1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(a,j) (1-</a:t>
            </a:r>
            <a:r>
              <a:rPr b="0" i="1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(b,j)) (1-</a:t>
            </a:r>
            <a:r>
              <a:rPr b="0" i="1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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(c,j)))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512640" indent="-19692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4801680" y="304920"/>
            <a:ext cx="4093200" cy="3202920"/>
            <a:chOff x="4801680" y="304920"/>
            <a:chExt cx="4093200" cy="3202920"/>
          </a:xfrm>
        </p:grpSpPr>
        <p:sp>
          <p:nvSpPr>
            <p:cNvPr id="104" name=""/>
            <p:cNvSpPr/>
            <p:nvPr/>
          </p:nvSpPr>
          <p:spPr>
            <a:xfrm>
              <a:off x="5105520" y="381240"/>
              <a:ext cx="2209680" cy="198108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1295640"/>
              <a:ext cx="2210040" cy="2057400"/>
            </a:xfrm>
            <a:prstGeom prst="ellipse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304920"/>
              <a:ext cx="2438280" cy="2057400"/>
            </a:xfrm>
            <a:prstGeom prst="ellipse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319080" y="137160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cc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82560" y="106704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cc3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319080" y="838440"/>
              <a:ext cx="604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cc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01680" y="381240"/>
              <a:ext cx="57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K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07360" y="38124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Kb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696800" y="3048120"/>
              <a:ext cx="554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999"/>
                  </a:solidFill>
                  <a:latin typeface="Times New Roman"/>
                </a:rPr>
                <a:t>Kc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0T17:37:47Z</dcterms:created>
  <dc:creator>berthier</dc:creator>
  <dc:description/>
  <dc:language>en-US</dc:language>
  <cp:lastModifiedBy>berthier</cp:lastModifiedBy>
  <cp:lastPrinted>1999-09-08T19:23:50Z</cp:lastPrinted>
  <dcterms:modified xsi:type="dcterms:W3CDTF">1999-09-08T19:26:31Z</dcterms:modified>
  <cp:revision>14</cp:revision>
  <dc:subject/>
  <dc:title>Recuperação de Informação B</dc:title>
</cp:coreProperties>
</file>