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A7EF-27E7-490C-8CEB-5A63B540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37497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D445-7C59-403E-AF45-843EC33C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1CDD-DCCE-429F-8704-FCA43375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A69D-1757-4FCD-A8E2-1C05D9CA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E0D4-B8F7-40AB-B9AF-DB2A7E11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553C-2C23-464C-A5FF-AF5451EC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CC85-5752-4F69-B80D-7BAB56B1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492D-C20F-4C1D-BD28-187BC4FC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78BC-4F3C-4EB3-A204-222A9275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30456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5590-473D-4C47-BA7A-F93BF199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3C1C-0387-4BBB-AA00-F152775C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C7EA-69E2-4E70-A029-F3E7C588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241C-3FFB-4A07-98AD-66C2101D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37497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450E-D923-4558-A38C-B1F84DAD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37497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354D-A03B-4B9B-8444-6AED7701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AE44-A390-4219-B60E-984D8C53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04CF-3D15-46E8-91F2-FEC235C3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F0D1-DAB1-4AD0-9B98-F0EBD079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E49E-10C4-41BC-AA67-BE94C09D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0F58-82DD-4BFD-BEB5-3E763128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30456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E368-E7B4-4B3E-9F01-0224529A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801D-61FA-4939-B923-A0975292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D5DA-3940-4303-A379-AB45E3FE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37497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8A1A-9A5D-48E6-AB20-01F54E65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AB1D-4EC7-4A9B-AA8A-A5D11FDC4B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6E7D-0FE6-4066-8B9B-C1CF3DBDF3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Recuperação de Informação</a:t>
            </a: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 B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09320" y="1980720"/>
            <a:ext cx="632484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p. 8: Indexing and Search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ections: 8.1 Introduction, 8.2 Inverted Fil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ovember 5, 1999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1066680"/>
            <a:ext cx="7239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Inverted Files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2133720"/>
            <a:ext cx="83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2743200"/>
            <a:ext cx="7620120" cy="1764000"/>
            <a:chOff x="914400" y="2743200"/>
            <a:chExt cx="7620120" cy="1764000"/>
          </a:xfrm>
        </p:grpSpPr>
        <p:sp>
          <p:nvSpPr>
            <p:cNvPr id="120" name=""/>
            <p:cNvSpPr/>
            <p:nvPr/>
          </p:nvSpPr>
          <p:spPr>
            <a:xfrm>
              <a:off x="3505320" y="3429000"/>
              <a:ext cx="838080" cy="1078200"/>
            </a:xfrm>
            <a:prstGeom prst="rect">
              <a:avLst/>
            </a:prstGeom>
            <a:noFill/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45%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19%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18%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43400" y="3429000"/>
              <a:ext cx="838440" cy="1078200"/>
            </a:xfrm>
            <a:prstGeom prst="rect">
              <a:avLst/>
            </a:prstGeom>
            <a:noFill/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73%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26%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25%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840" y="3429000"/>
              <a:ext cx="838080" cy="1078200"/>
            </a:xfrm>
            <a:prstGeom prst="rect">
              <a:avLst/>
            </a:prstGeom>
            <a:noFill/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36%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18%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1.7%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19920" y="3429000"/>
              <a:ext cx="838080" cy="1078200"/>
            </a:xfrm>
            <a:prstGeom prst="rect">
              <a:avLst/>
            </a:prstGeom>
            <a:noFill/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64%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32%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2.4%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58000" y="3429000"/>
              <a:ext cx="838440" cy="1078200"/>
            </a:xfrm>
            <a:prstGeom prst="rect">
              <a:avLst/>
            </a:prstGeom>
            <a:noFill/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35%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26%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0.5%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6440" y="3429000"/>
              <a:ext cx="838080" cy="1078200"/>
            </a:xfrm>
            <a:prstGeom prst="rect">
              <a:avLst/>
            </a:prstGeom>
            <a:noFill/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63%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47%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0.7%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14400" y="3429000"/>
              <a:ext cx="2590920" cy="1078200"/>
            </a:xfrm>
            <a:prstGeom prst="rect">
              <a:avLst/>
            </a:prstGeom>
            <a:noFill/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Addressing word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Addressing document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Addressing 256 block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14400" y="2743200"/>
              <a:ext cx="2590920" cy="685800"/>
            </a:xfrm>
            <a:prstGeom prst="rect">
              <a:avLst/>
            </a:prstGeom>
            <a:noFill/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99"/>
                  </a:solidFill>
                  <a:latin typeface="Arial"/>
                </a:rPr>
                <a:t>Index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05320" y="2743200"/>
              <a:ext cx="1676520" cy="685800"/>
            </a:xfrm>
            <a:prstGeom prst="rect">
              <a:avLst/>
            </a:prstGeom>
            <a:noFill/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9999"/>
                  </a:solidFill>
                  <a:latin typeface="Arial"/>
                </a:rPr>
                <a:t>Small collection</a:t>
              </a:r>
              <a:endParaRPr b="0" lang="en-US" sz="15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9999"/>
                  </a:solidFill>
                  <a:latin typeface="Arial"/>
                </a:rPr>
                <a:t>(1Mb)</a:t>
              </a:r>
              <a:endParaRPr b="0" lang="en-US" sz="15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840" y="2743200"/>
              <a:ext cx="1676160" cy="685800"/>
            </a:xfrm>
            <a:prstGeom prst="rect">
              <a:avLst/>
            </a:prstGeom>
            <a:noFill/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9999"/>
                  </a:solidFill>
                  <a:latin typeface="Arial"/>
                </a:rPr>
                <a:t>Medium collection</a:t>
              </a:r>
              <a:endParaRPr b="0" lang="en-US" sz="15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9999"/>
                  </a:solidFill>
                  <a:latin typeface="Arial"/>
                </a:rPr>
                <a:t>(200Mb)</a:t>
              </a:r>
              <a:endParaRPr b="0" lang="en-US" sz="15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58000" y="2743200"/>
              <a:ext cx="1676520" cy="685800"/>
            </a:xfrm>
            <a:prstGeom prst="rect">
              <a:avLst/>
            </a:prstGeom>
            <a:noFill/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9999"/>
                  </a:solidFill>
                  <a:latin typeface="Arial"/>
                </a:rPr>
                <a:t>Large collection</a:t>
              </a:r>
              <a:endParaRPr b="0" lang="en-US" sz="15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99"/>
                  </a:solidFill>
                  <a:latin typeface="Arial"/>
                </a:rPr>
                <a:t>(2Gb)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38080" y="685800"/>
            <a:ext cx="7239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Searching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676520"/>
            <a:ext cx="76964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search algorithm on an inverted index follows three steps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Vocabulary search: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e words present in the query are searched in the vocabular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Retrieval occurrences: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e lists of the occurrences of all words found are retrieve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Manipulation of occurrences: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e occurrences are processed to solve the quer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8080" y="762120"/>
            <a:ext cx="7239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Searching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752480"/>
            <a:ext cx="7467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arching task on an inverted file always starts in the vocabulary ( It is better to store the vocabulary in a separate file 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he structures most used to store the vocabulary are </a:t>
            </a:r>
            <a:r>
              <a:rPr b="0" i="1" lang="en-US" sz="2600" spc="-1" strike="noStrike">
                <a:solidFill>
                  <a:srgbClr val="009999"/>
                </a:solidFill>
                <a:latin typeface="Arial"/>
              </a:rPr>
              <a:t>hashing, tries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 or </a:t>
            </a:r>
            <a:r>
              <a:rPr b="0" i="1" lang="en-US" sz="2600" spc="-1" strike="noStrike">
                <a:solidFill>
                  <a:srgbClr val="009999"/>
                </a:solidFill>
                <a:latin typeface="Arial"/>
              </a:rPr>
              <a:t>B-tree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An alternative is simply storing the words in lexicographical order ( cheaper in space and very competitive with </a:t>
            </a:r>
            <a:r>
              <a:rPr b="0" i="1" lang="en-US" sz="2600" spc="-1" strike="noStrike">
                <a:solidFill>
                  <a:srgbClr val="009999"/>
                </a:solidFill>
                <a:latin typeface="Arial"/>
              </a:rPr>
              <a:t>O(log v)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 cost 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14400" y="60948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Constructio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1523880"/>
            <a:ext cx="746784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All the vocabulary is kept in a suitable data structure storing for each word a list of its occurrence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Each word of the text is read and searched in the vocabulary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f it is not found, it is added to the vocabulary with a empty list of occurrences and the new position is added to the end of its list of occurrence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38080" y="685800"/>
            <a:ext cx="7239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Constructio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82880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Once the text is exhausted the vocabulary is written to disk with the list of occurrences. Two files are created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in the first file, the list of occurrences are stored contiguously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in the second file, the vocabulary is stored in lexicographical order and, for each word, a pointer to its list in the first file is also included. This allows the vocabulary to be kept in memory at search time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overall process is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O(n)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worst-case tim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38080" y="838080"/>
            <a:ext cx="7239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Constructio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1752480"/>
            <a:ext cx="74674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n option is to use the previous algorithm until the main memory is exhausted. When no more memory is available, the partial index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9999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obtained up to now is written to disk and erased the main memory before continuing with the rest of the tex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Once the text is exhausted, a number of partial indices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9999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exist on disk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e partial indices are merged to obtain the final index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38080" y="6858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Example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676520"/>
            <a:ext cx="74678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1828800"/>
            <a:ext cx="6095880" cy="440640"/>
          </a:xfrm>
          <a:prstGeom prst="rect">
            <a:avLst/>
          </a:prstGeom>
          <a:noFill/>
          <a:ln w="3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I 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Times New Roman"/>
              </a:rPr>
              <a:t>1...8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3200400"/>
            <a:ext cx="2895480" cy="440640"/>
          </a:xfrm>
          <a:prstGeom prst="rect">
            <a:avLst/>
          </a:prstGeom>
          <a:noFill/>
          <a:ln w="3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I 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Times New Roman"/>
              </a:rPr>
              <a:t>1...4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3200400"/>
            <a:ext cx="2895480" cy="440640"/>
          </a:xfrm>
          <a:prstGeom prst="rect">
            <a:avLst/>
          </a:prstGeom>
          <a:noFill/>
          <a:ln w="3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I 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Times New Roman"/>
              </a:rPr>
              <a:t>5...8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4419720"/>
            <a:ext cx="1295280" cy="440640"/>
          </a:xfrm>
          <a:prstGeom prst="rect">
            <a:avLst/>
          </a:prstGeom>
          <a:noFill/>
          <a:ln w="3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I 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Times New Roman"/>
              </a:rPr>
              <a:t>1...2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4419720"/>
            <a:ext cx="1295280" cy="440640"/>
          </a:xfrm>
          <a:prstGeom prst="rect">
            <a:avLst/>
          </a:prstGeom>
          <a:noFill/>
          <a:ln w="3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I 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Times New Roman"/>
              </a:rPr>
              <a:t>3...4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67080" y="4419720"/>
            <a:ext cx="1295640" cy="440640"/>
          </a:xfrm>
          <a:prstGeom prst="rect">
            <a:avLst/>
          </a:prstGeom>
          <a:noFill/>
          <a:ln w="3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I 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Times New Roman"/>
              </a:rPr>
              <a:t>5...6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4419720"/>
            <a:ext cx="1295280" cy="440640"/>
          </a:xfrm>
          <a:prstGeom prst="rect">
            <a:avLst/>
          </a:prstGeom>
          <a:noFill/>
          <a:ln w="3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I 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Times New Roman"/>
              </a:rPr>
              <a:t>7...8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5715000"/>
            <a:ext cx="533160" cy="440640"/>
          </a:xfrm>
          <a:prstGeom prst="rect">
            <a:avLst/>
          </a:prstGeom>
          <a:noFill/>
          <a:ln w="3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I 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5715000"/>
            <a:ext cx="533520" cy="440640"/>
          </a:xfrm>
          <a:prstGeom prst="rect">
            <a:avLst/>
          </a:prstGeom>
          <a:noFill/>
          <a:ln w="3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I 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5715000"/>
            <a:ext cx="533160" cy="440640"/>
          </a:xfrm>
          <a:prstGeom prst="rect">
            <a:avLst/>
          </a:prstGeom>
          <a:noFill/>
          <a:ln w="3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I 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5715000"/>
            <a:ext cx="533520" cy="440640"/>
          </a:xfrm>
          <a:prstGeom prst="rect">
            <a:avLst/>
          </a:prstGeom>
          <a:noFill/>
          <a:ln w="3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I 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5715000"/>
            <a:ext cx="533520" cy="440640"/>
          </a:xfrm>
          <a:prstGeom prst="rect">
            <a:avLst/>
          </a:prstGeom>
          <a:noFill/>
          <a:ln w="3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I 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5715000"/>
            <a:ext cx="533520" cy="440640"/>
          </a:xfrm>
          <a:prstGeom prst="rect">
            <a:avLst/>
          </a:prstGeom>
          <a:noFill/>
          <a:ln w="3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I 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5715000"/>
            <a:ext cx="533520" cy="440640"/>
          </a:xfrm>
          <a:prstGeom prst="rect">
            <a:avLst/>
          </a:prstGeom>
          <a:noFill/>
          <a:ln w="3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I 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5715000"/>
            <a:ext cx="533520" cy="440640"/>
          </a:xfrm>
          <a:prstGeom prst="rect">
            <a:avLst/>
          </a:prstGeom>
          <a:noFill/>
          <a:ln w="3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I 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5029200"/>
            <a:ext cx="609840" cy="4572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5105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5029200"/>
            <a:ext cx="609840" cy="4572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5029200"/>
            <a:ext cx="609480" cy="4572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5029200"/>
            <a:ext cx="609840" cy="4572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5105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5105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5105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373392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73392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33920" y="251460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cxnSp>
        <p:nvCxnSpPr>
          <p:cNvPr id="172" name=""/>
          <p:cNvCxnSpPr/>
          <p:nvPr/>
        </p:nvCxnSpPr>
        <p:spPr>
          <a:xfrm flipH="1" flipV="1" rot="5400000">
            <a:off x="1276200" y="5428800"/>
            <a:ext cx="229320" cy="343440"/>
          </a:xfrm>
          <a:prstGeom prst="bentConnector3">
            <a:avLst>
              <a:gd name="adj1" fmla="val 50000"/>
            </a:avLst>
          </a:prstGeom>
          <a:ln w="936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173" name=""/>
          <p:cNvCxnSpPr/>
          <p:nvPr/>
        </p:nvCxnSpPr>
        <p:spPr>
          <a:xfrm flipV="1" rot="16200000">
            <a:off x="1744920" y="5416560"/>
            <a:ext cx="243720" cy="381600"/>
          </a:xfrm>
          <a:prstGeom prst="bentConnector3">
            <a:avLst>
              <a:gd name="adj1" fmla="val 49556"/>
            </a:avLst>
          </a:prstGeom>
          <a:ln w="936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174" name=""/>
          <p:cNvCxnSpPr/>
          <p:nvPr/>
        </p:nvCxnSpPr>
        <p:spPr>
          <a:xfrm flipH="1" flipV="1" rot="5400000">
            <a:off x="2876400" y="5428800"/>
            <a:ext cx="229320" cy="343440"/>
          </a:xfrm>
          <a:prstGeom prst="bentConnector3">
            <a:avLst>
              <a:gd name="adj1" fmla="val 50000"/>
            </a:avLst>
          </a:prstGeom>
          <a:ln w="936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175" name=""/>
          <p:cNvCxnSpPr/>
          <p:nvPr/>
        </p:nvCxnSpPr>
        <p:spPr>
          <a:xfrm flipV="1" rot="16200000">
            <a:off x="3345120" y="5416560"/>
            <a:ext cx="243720" cy="381600"/>
          </a:xfrm>
          <a:prstGeom prst="bentConnector3">
            <a:avLst>
              <a:gd name="adj1" fmla="val 49556"/>
            </a:avLst>
          </a:prstGeom>
          <a:ln w="936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176" name=""/>
          <p:cNvCxnSpPr/>
          <p:nvPr/>
        </p:nvCxnSpPr>
        <p:spPr>
          <a:xfrm flipH="1" flipV="1" rot="5400000">
            <a:off x="4628880" y="542844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177" name=""/>
          <p:cNvCxnSpPr/>
          <p:nvPr/>
        </p:nvCxnSpPr>
        <p:spPr>
          <a:xfrm flipV="1" rot="16200000">
            <a:off x="5097600" y="5416560"/>
            <a:ext cx="243720" cy="381600"/>
          </a:xfrm>
          <a:prstGeom prst="bentConnector3">
            <a:avLst>
              <a:gd name="adj1" fmla="val 49556"/>
            </a:avLst>
          </a:prstGeom>
          <a:ln w="936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178" name=""/>
          <p:cNvCxnSpPr/>
          <p:nvPr/>
        </p:nvCxnSpPr>
        <p:spPr>
          <a:xfrm flipH="1" flipV="1" rot="5400000">
            <a:off x="6076800" y="5428800"/>
            <a:ext cx="229320" cy="343440"/>
          </a:xfrm>
          <a:prstGeom prst="bentConnector3">
            <a:avLst>
              <a:gd name="adj1" fmla="val 50000"/>
            </a:avLst>
          </a:prstGeom>
          <a:ln w="936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179" name=""/>
          <p:cNvCxnSpPr/>
          <p:nvPr/>
        </p:nvCxnSpPr>
        <p:spPr>
          <a:xfrm flipV="1" rot="16200000">
            <a:off x="6545520" y="5416560"/>
            <a:ext cx="243720" cy="381600"/>
          </a:xfrm>
          <a:prstGeom prst="bentConnector3">
            <a:avLst>
              <a:gd name="adj1" fmla="val 49556"/>
            </a:avLst>
          </a:prstGeom>
          <a:ln w="936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180" name=""/>
          <p:cNvCxnSpPr/>
          <p:nvPr/>
        </p:nvCxnSpPr>
        <p:spPr>
          <a:xfrm flipH="1" flipV="1" rot="5400000">
            <a:off x="2114280" y="413316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181" name=""/>
          <p:cNvCxnSpPr/>
          <p:nvPr/>
        </p:nvCxnSpPr>
        <p:spPr>
          <a:xfrm flipV="1" rot="16200000">
            <a:off x="2583360" y="4121280"/>
            <a:ext cx="243360" cy="381600"/>
          </a:xfrm>
          <a:prstGeom prst="bentConnector3">
            <a:avLst>
              <a:gd name="adj1" fmla="val 49629"/>
            </a:avLst>
          </a:prstGeom>
          <a:ln w="936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182" name=""/>
          <p:cNvCxnSpPr/>
          <p:nvPr/>
        </p:nvCxnSpPr>
        <p:spPr>
          <a:xfrm flipH="1" flipV="1" rot="5400000">
            <a:off x="5314680" y="413316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183" name=""/>
          <p:cNvCxnSpPr/>
          <p:nvPr/>
        </p:nvCxnSpPr>
        <p:spPr>
          <a:xfrm flipV="1" rot="16200000">
            <a:off x="5783760" y="4121280"/>
            <a:ext cx="243360" cy="381600"/>
          </a:xfrm>
          <a:prstGeom prst="bentConnector3">
            <a:avLst>
              <a:gd name="adj1" fmla="val 49629"/>
            </a:avLst>
          </a:prstGeom>
          <a:ln w="936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184" name=""/>
          <p:cNvCxnSpPr/>
          <p:nvPr/>
        </p:nvCxnSpPr>
        <p:spPr>
          <a:xfrm flipH="1" flipV="1" rot="5400000">
            <a:off x="3714480" y="291384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185" name=""/>
          <p:cNvCxnSpPr/>
          <p:nvPr/>
        </p:nvCxnSpPr>
        <p:spPr>
          <a:xfrm flipV="1" rot="16200000">
            <a:off x="4183200" y="2901960"/>
            <a:ext cx="243720" cy="381600"/>
          </a:xfrm>
          <a:prstGeom prst="bentConnector3">
            <a:avLst>
              <a:gd name="adj1" fmla="val 49556"/>
            </a:avLst>
          </a:prstGeom>
          <a:ln w="9360">
            <a:solidFill>
              <a:srgbClr val="009999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 flipV="1">
            <a:off x="4038480" y="2285640"/>
            <a:ext cx="0" cy="1522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15200" y="1828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final </a:t>
            </a: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index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38880" y="5715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initial dump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315200" y="5029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level 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15200" y="3809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level 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5200" y="2590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level 3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600200" y="4876560"/>
            <a:ext cx="0" cy="1522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200400" y="4876560"/>
            <a:ext cx="0" cy="1522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715000" y="3581280"/>
            <a:ext cx="0" cy="15264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438280" y="3581280"/>
            <a:ext cx="0" cy="15264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400800" y="4876560"/>
            <a:ext cx="0" cy="1522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952880" y="4876560"/>
            <a:ext cx="0" cy="1522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38080" y="6858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Constructio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1523880"/>
            <a:ext cx="74678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e total time to generate partial indices is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O(n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e number of partial indices is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O(n/M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o merge the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O(n/M)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partial indices are necessary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log</a:t>
            </a:r>
            <a:r>
              <a:rPr b="0" i="1" lang="en-US" sz="24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(n/M)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merging level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e total cost of this algorithm is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O(n log(n/M)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Conclusion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verted file is probably the most adequate indexing technique for database tex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indices are appropriate when the text collection is large and semi-static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Otherwise, if the text collection is volatile online searching is the only op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ome techniques combine online and indexed search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560" y="45720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Introduction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ow to retrieval information?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 simple alternative is to search the whole text sequentially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nother option is to build data structures over the text (called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indices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) to speed up the searc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14400" y="60948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Introductio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6765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dexing techniques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nverted file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uffix array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ignature file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76212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Notatio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828800"/>
            <a:ext cx="7467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e size of the text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e length of the patter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v: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the size of the vocabular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e amount of main memory availabl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68580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Inverted Files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752480"/>
            <a:ext cx="74678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finition: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an inverted file is a word-oriented mechanism for indexing a text collection in order to speed up the searching task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tructure of inverted file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Vocabulary: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s the set of all distinct words in the tex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Occurrences: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ists containing all information necessary for each word of the vocabulary (text position, frequency, documents where the word appears, etc.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Example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ext: 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nverted fil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905120"/>
            <a:ext cx="85345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99"/>
                </a:solidFill>
                <a:latin typeface="Times New Roman"/>
              </a:rPr>
              <a:t>1        6           12    16 18            25     29          36     40        45              54    58            66    70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That house has a  garden. The garden has many flowers. The flowers are beautiful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4191120"/>
            <a:ext cx="1371600" cy="17899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beautiful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flower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garden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house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4191120"/>
            <a:ext cx="2286000" cy="17899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7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45, 58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18, 29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733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Vocabulary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37339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Occurrence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8080" y="68580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Space Requirements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6765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e space required for the vocabulary is rather small. According to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Heaps’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law the vocabulary grows as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O(n</a:t>
            </a:r>
            <a:r>
              <a:rPr b="0" i="1" lang="en-US" sz="2400" spc="-1" strike="noStrike" baseline="30000">
                <a:solidFill>
                  <a:srgbClr val="009999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),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where </a:t>
            </a:r>
            <a:r>
              <a:rPr b="0" i="1" lang="en-US" sz="2400" spc="-1" strike="noStrike">
                <a:solidFill>
                  <a:srgbClr val="0099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is a constant between 0.4 and 0.6 in practi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On the other hand, the occurrences demand much more space. Since each word appearing in the text is referenced once in that structure, the extra space is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O(n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o reduce space requirements, a technique called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block addressing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is use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8080" y="60948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Block Addressing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600200"/>
            <a:ext cx="7467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text is divided in block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occurrences point to the blocks where the word appear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e number of pointers is smaller than position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ll the occurrences of a word inside a single block are collapsed to one referen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online search over the qualifying blocks if exact positions are require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762120"/>
            <a:ext cx="7239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Example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67652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ext: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nverted file: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28600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Block 1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Block 2                 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Block 3                        Block 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2743200"/>
            <a:ext cx="0" cy="3808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2743200"/>
            <a:ext cx="0" cy="3808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67480" y="2743200"/>
            <a:ext cx="0" cy="3808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743200"/>
            <a:ext cx="8534520" cy="7038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That house has a  garden. The garden has many flowers. The flowers are beautiful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343400"/>
            <a:ext cx="1371600" cy="17899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beautiful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flower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garden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house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4343400"/>
            <a:ext cx="2133360" cy="17899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3886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Vocabulary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886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Occurrence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0T17:37:47Z</dcterms:created>
  <dc:creator>berthier</dc:creator>
  <dc:description/>
  <dc:language>en-US</dc:language>
  <cp:lastModifiedBy>pavel</cp:lastModifiedBy>
  <cp:lastPrinted>1999-11-04T19:37:46Z</cp:lastPrinted>
  <dcterms:modified xsi:type="dcterms:W3CDTF">1999-11-05T10:21:50Z</dcterms:modified>
  <cp:revision>83</cp:revision>
  <dc:subject/>
  <dc:title>Recuperação de Informação B</dc:title>
</cp:coreProperties>
</file>