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222-6542-4821-88A1-73F63A3F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C8A-F216-4992-BF33-92CBDF8F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B17-8EC5-4D5E-822E-04D3E398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AFF-CF30-4A40-B1E2-3157B8CA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6E2C-2B02-4351-8E4A-B219A456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2117-D342-4E9B-9D36-B4C8C3E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B3C-FC72-4441-ABF0-6DB09F73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093-0073-44CF-A53F-8A05ECD4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BB0-2EF4-4311-A1A7-C0C36C8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7FF-F2B4-41F3-A264-3A105913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9416-39E2-4071-B9DE-FB5FE69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AE6-4D2B-4BE6-B5A7-E3E68BF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32A9-A1F6-4810-9DEF-E4CFCC94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1C2E-AE53-44EA-9FB7-5FE1F34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4C3-DA73-4486-AAA7-FEE31764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EB8-654C-41DE-A3C8-AD5CE2B5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5B0B-C09B-494F-8E18-096B4C7D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F17-831E-483A-A010-7213193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C1C-180F-4485-8355-03724846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E84-4549-4694-8D43-9DB04374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F4A-156F-42E6-84AF-014D0D4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A07-101C-43EC-9388-2B084D5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3E8-248D-4C20-B187-800C71C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59A-CD9F-424F-B432-364D343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398-1C5D-41C3-B387-EEB0CE47F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901B-6422-4959-A291-4D72896DD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FC: The Cystic Fibrosis Collec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ptember 01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FC  Colle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1,239  documents indexed with the term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cystic fibrosi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in the National Library of Medicine’s MEDLI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ach doc record is composed of: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MEDLINE accession number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author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title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source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major subjects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minor subjects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  abstract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  references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  citation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0920" y="1522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FC  Collection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100 information requests with extensive relevance judgement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4 separate relevance scores for each reques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cores proviced by human experts and by a medical bibliographer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ach score: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0  (not relevan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1  (marginally relevan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  (strongly relevant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3049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FC  Collection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mall and nice collection for experimenta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umber of information requests is large relative to the collection siz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Good relevance judgemen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 online acces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http://www.dcc.ufmg.br/~ilmerio/cfc/servidor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berthier</cp:lastModifiedBy>
  <dcterms:modified xsi:type="dcterms:W3CDTF">1999-09-01T19:12:58Z</dcterms:modified>
  <cp:revision>15</cp:revision>
  <dc:subject/>
  <dc:title>Recuperação de Informação B</dc:title>
</cp:coreProperties>
</file>