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9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860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060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452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060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452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8860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4249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8860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2060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74520" y="19807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2060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74520" y="42494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8600" y="42494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8600" y="19807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94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9999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9999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609480"/>
            <a:ext cx="7846920" cy="10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9360" y="533160"/>
            <a:ext cx="739152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Information Retrieval 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09680"/>
            <a:ext cx="71899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588960"/>
                <a:tab algn="l" pos="1360440"/>
                <a:tab algn="l" pos="2130480"/>
                <a:tab algn="l" pos="2901960"/>
                <a:tab algn="l" pos="3675240"/>
                <a:tab algn="l" pos="4446720"/>
                <a:tab algn="l" pos="5216400"/>
                <a:tab algn="l" pos="5816520"/>
                <a:tab algn="l" pos="6462720"/>
                <a:tab algn="l" pos="6531120"/>
                <a:tab algn="l" pos="6840360"/>
                <a:tab algn="l" pos="691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9999"/>
                </a:solidFill>
                <a:latin typeface="Arial"/>
              </a:rPr>
              <a:t>TodoBR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: The Search Engine for the Brazilian Web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588960"/>
                <a:tab algn="l" pos="1360440"/>
                <a:tab algn="l" pos="2130480"/>
                <a:tab algn="l" pos="2901960"/>
                <a:tab algn="l" pos="3675240"/>
                <a:tab algn="l" pos="4446720"/>
                <a:tab algn="l" pos="5216400"/>
                <a:tab algn="l" pos="5816520"/>
                <a:tab algn="l" pos="6462720"/>
                <a:tab algn="l" pos="6531120"/>
                <a:tab algn="l" pos="6840360"/>
                <a:tab algn="l" pos="6912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588960"/>
                <a:tab algn="l" pos="1360440"/>
                <a:tab algn="l" pos="2130480"/>
                <a:tab algn="l" pos="2901960"/>
                <a:tab algn="l" pos="3675240"/>
                <a:tab algn="l" pos="4446720"/>
                <a:tab algn="l" pos="5216400"/>
                <a:tab algn="l" pos="5816520"/>
                <a:tab algn="l" pos="6462720"/>
                <a:tab algn="l" pos="6531120"/>
                <a:tab algn="l" pos="6840360"/>
                <a:tab algn="l" pos="691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December 22, 1999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Query Processing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algorithm uses the vector model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aluation of disjunctive queri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uses a pruning algorithm for filtering documents during the ranking proces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aluation of conjunctive queri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tersection of the inverted list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evance feedback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turns only the top 200 documen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doBR search engine allow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arching for documents considering all the words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arching for documents considering any words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hrase searching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arching by Brazilian states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arching considering accents in the querie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ilar documents, when detected, are grouped and showed as a singular resul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78000" y="1182600"/>
            <a:ext cx="77137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3040" y="1219320"/>
            <a:ext cx="76186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odoBr </a:t>
            </a: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versus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other search engin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 submitted five queries to TodoBR and other search engin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adix: a regional search engine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ltavista and Google: generic search engine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 analyzed only the top ten documents retriev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odoBr </a:t>
            </a: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versus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other search engin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tabtodobr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363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doBR search engine was developed by SIAM project/DCC-UFMG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doBR search engine has the best coverage of the Brazilian Web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doBR search engine focus on the Brazilian Web and uses the geographic division to retrieve specific information of each state.</a:t>
            </a:r>
            <a:r>
              <a:rPr b="0" lang="en-GB" sz="2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odoBR search engine offers an opportunity to improve the knowledge about the Brazilian Web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roductio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doB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doBR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versu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other search engin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search engine is a system which collects and organizes Web documents, and presents a way to select documents based on certain words, phrases or patterns within documen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st search engines use the whole Web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me use only a limited portion of the Web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odoBR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doBR (www.todobr.com.br) is a search engine developed by SIAM projec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doBR architectur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awler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ex system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Query processing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terfac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odoBR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2895480"/>
            <a:ext cx="6327720" cy="3427560"/>
            <a:chOff x="1752480" y="2895480"/>
            <a:chExt cx="6327720" cy="3427560"/>
          </a:xfrm>
        </p:grpSpPr>
        <p:sp>
          <p:nvSpPr>
            <p:cNvPr id="90" name=""/>
            <p:cNvSpPr/>
            <p:nvPr/>
          </p:nvSpPr>
          <p:spPr>
            <a:xfrm>
              <a:off x="1833480" y="2895480"/>
              <a:ext cx="1522440" cy="83664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Crawl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3480" y="5410080"/>
              <a:ext cx="1522440" cy="83664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Inde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7760" y="4038480"/>
              <a:ext cx="1522440" cy="83664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81800" y="5410080"/>
              <a:ext cx="1522440" cy="83664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752480" y="4191120"/>
              <a:ext cx="1760760" cy="760320"/>
              <a:chOff x="1752480" y="4191120"/>
              <a:chExt cx="1760760" cy="760320"/>
            </a:xfrm>
          </p:grpSpPr>
          <p:sp>
            <p:nvSpPr>
              <p:cNvPr id="95" name=""/>
              <p:cNvSpPr/>
              <p:nvPr/>
            </p:nvSpPr>
            <p:spPr>
              <a:xfrm>
                <a:off x="1833480" y="4191120"/>
                <a:ext cx="1598760" cy="760320"/>
              </a:xfrm>
              <a:custGeom>
                <a:avLst/>
                <a:gdLst/>
                <a:ahLst/>
                <a:rect l="l" t="t" r="r" b="b"/>
                <a:pathLst>
                  <a:path w="4446" h="2118">
                    <a:moveTo>
                      <a:pt x="2221" y="0"/>
                    </a:moveTo>
                    <a:lnTo>
                      <a:pt x="1775" y="9"/>
                    </a:lnTo>
                    <a:lnTo>
                      <a:pt x="1555" y="13"/>
                    </a:lnTo>
                    <a:lnTo>
                      <a:pt x="1350" y="27"/>
                    </a:lnTo>
                    <a:lnTo>
                      <a:pt x="1155" y="39"/>
                    </a:lnTo>
                    <a:lnTo>
                      <a:pt x="981" y="57"/>
                    </a:lnTo>
                    <a:lnTo>
                      <a:pt x="802" y="75"/>
                    </a:lnTo>
                    <a:lnTo>
                      <a:pt x="646" y="97"/>
                    </a:lnTo>
                    <a:lnTo>
                      <a:pt x="507" y="119"/>
                    </a:lnTo>
                    <a:lnTo>
                      <a:pt x="377" y="145"/>
                    </a:lnTo>
                    <a:lnTo>
                      <a:pt x="266" y="173"/>
                    </a:lnTo>
                    <a:lnTo>
                      <a:pt x="172" y="203"/>
                    </a:lnTo>
                    <a:lnTo>
                      <a:pt x="100" y="234"/>
                    </a:lnTo>
                    <a:lnTo>
                      <a:pt x="46" y="264"/>
                    </a:lnTo>
                    <a:lnTo>
                      <a:pt x="8" y="296"/>
                    </a:lnTo>
                    <a:lnTo>
                      <a:pt x="0" y="330"/>
                    </a:lnTo>
                    <a:lnTo>
                      <a:pt x="0" y="1787"/>
                    </a:lnTo>
                    <a:lnTo>
                      <a:pt x="8" y="1821"/>
                    </a:lnTo>
                    <a:lnTo>
                      <a:pt x="46" y="1853"/>
                    </a:lnTo>
                    <a:lnTo>
                      <a:pt x="100" y="1885"/>
                    </a:lnTo>
                    <a:lnTo>
                      <a:pt x="172" y="1914"/>
                    </a:lnTo>
                    <a:lnTo>
                      <a:pt x="266" y="1945"/>
                    </a:lnTo>
                    <a:lnTo>
                      <a:pt x="377" y="1972"/>
                    </a:lnTo>
                    <a:lnTo>
                      <a:pt x="507" y="1999"/>
                    </a:lnTo>
                    <a:lnTo>
                      <a:pt x="646" y="2021"/>
                    </a:lnTo>
                    <a:lnTo>
                      <a:pt x="802" y="2043"/>
                    </a:lnTo>
                    <a:lnTo>
                      <a:pt x="981" y="2060"/>
                    </a:lnTo>
                    <a:lnTo>
                      <a:pt x="1155" y="2078"/>
                    </a:lnTo>
                    <a:lnTo>
                      <a:pt x="1350" y="2091"/>
                    </a:lnTo>
                    <a:lnTo>
                      <a:pt x="1555" y="2105"/>
                    </a:lnTo>
                    <a:lnTo>
                      <a:pt x="1775" y="2110"/>
                    </a:lnTo>
                    <a:lnTo>
                      <a:pt x="2221" y="2117"/>
                    </a:lnTo>
                    <a:lnTo>
                      <a:pt x="2675" y="2110"/>
                    </a:lnTo>
                    <a:lnTo>
                      <a:pt x="2890" y="2105"/>
                    </a:lnTo>
                    <a:lnTo>
                      <a:pt x="3092" y="2091"/>
                    </a:lnTo>
                    <a:lnTo>
                      <a:pt x="3287" y="2078"/>
                    </a:lnTo>
                    <a:lnTo>
                      <a:pt x="3461" y="2060"/>
                    </a:lnTo>
                    <a:lnTo>
                      <a:pt x="3641" y="2043"/>
                    </a:lnTo>
                    <a:lnTo>
                      <a:pt x="3797" y="2021"/>
                    </a:lnTo>
                    <a:lnTo>
                      <a:pt x="3935" y="1999"/>
                    </a:lnTo>
                    <a:lnTo>
                      <a:pt x="4066" y="1972"/>
                    </a:lnTo>
                    <a:lnTo>
                      <a:pt x="4176" y="1945"/>
                    </a:lnTo>
                    <a:lnTo>
                      <a:pt x="4271" y="1914"/>
                    </a:lnTo>
                    <a:lnTo>
                      <a:pt x="4343" y="1885"/>
                    </a:lnTo>
                    <a:lnTo>
                      <a:pt x="4399" y="1853"/>
                    </a:lnTo>
                    <a:lnTo>
                      <a:pt x="4435" y="1821"/>
                    </a:lnTo>
                    <a:lnTo>
                      <a:pt x="4445" y="1787"/>
                    </a:lnTo>
                    <a:lnTo>
                      <a:pt x="4445" y="330"/>
                    </a:lnTo>
                    <a:lnTo>
                      <a:pt x="4435" y="296"/>
                    </a:lnTo>
                    <a:lnTo>
                      <a:pt x="4399" y="264"/>
                    </a:lnTo>
                    <a:lnTo>
                      <a:pt x="4343" y="234"/>
                    </a:lnTo>
                    <a:lnTo>
                      <a:pt x="4271" y="203"/>
                    </a:lnTo>
                    <a:lnTo>
                      <a:pt x="4176" y="173"/>
                    </a:lnTo>
                    <a:lnTo>
                      <a:pt x="4066" y="145"/>
                    </a:lnTo>
                    <a:lnTo>
                      <a:pt x="3935" y="119"/>
                    </a:lnTo>
                    <a:lnTo>
                      <a:pt x="3797" y="97"/>
                    </a:lnTo>
                    <a:lnTo>
                      <a:pt x="3641" y="75"/>
                    </a:lnTo>
                    <a:lnTo>
                      <a:pt x="3461" y="57"/>
                    </a:lnTo>
                    <a:lnTo>
                      <a:pt x="3287" y="39"/>
                    </a:lnTo>
                    <a:lnTo>
                      <a:pt x="3092" y="27"/>
                    </a:lnTo>
                    <a:lnTo>
                      <a:pt x="2890" y="13"/>
                    </a:lnTo>
                    <a:lnTo>
                      <a:pt x="2675" y="9"/>
                    </a:lnTo>
                    <a:lnTo>
                      <a:pt x="2221" y="0"/>
                    </a:lnTo>
                    <a:lnTo>
                      <a:pt x="2221" y="0"/>
                    </a:ln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33480" y="4309920"/>
                <a:ext cx="1598760" cy="120960"/>
              </a:xfrm>
              <a:custGeom>
                <a:avLst/>
                <a:gdLst/>
                <a:ahLst/>
                <a:rect l="l" t="t" r="r" b="b"/>
                <a:pathLst>
                  <a:path w="4446" h="338">
                    <a:moveTo>
                      <a:pt x="0" y="0"/>
                    </a:moveTo>
                    <a:lnTo>
                      <a:pt x="8" y="36"/>
                    </a:lnTo>
                    <a:lnTo>
                      <a:pt x="46" y="68"/>
                    </a:lnTo>
                    <a:lnTo>
                      <a:pt x="100" y="103"/>
                    </a:lnTo>
                    <a:lnTo>
                      <a:pt x="172" y="134"/>
                    </a:lnTo>
                    <a:lnTo>
                      <a:pt x="266" y="160"/>
                    </a:lnTo>
                    <a:lnTo>
                      <a:pt x="377" y="191"/>
                    </a:lnTo>
                    <a:lnTo>
                      <a:pt x="507" y="213"/>
                    </a:lnTo>
                    <a:lnTo>
                      <a:pt x="646" y="239"/>
                    </a:lnTo>
                    <a:lnTo>
                      <a:pt x="802" y="261"/>
                    </a:lnTo>
                    <a:lnTo>
                      <a:pt x="981" y="278"/>
                    </a:lnTo>
                    <a:lnTo>
                      <a:pt x="1155" y="297"/>
                    </a:lnTo>
                    <a:lnTo>
                      <a:pt x="1350" y="310"/>
                    </a:lnTo>
                    <a:lnTo>
                      <a:pt x="1555" y="325"/>
                    </a:lnTo>
                    <a:lnTo>
                      <a:pt x="1775" y="328"/>
                    </a:lnTo>
                    <a:lnTo>
                      <a:pt x="2221" y="337"/>
                    </a:lnTo>
                    <a:lnTo>
                      <a:pt x="2675" y="328"/>
                    </a:lnTo>
                    <a:lnTo>
                      <a:pt x="2890" y="325"/>
                    </a:lnTo>
                    <a:lnTo>
                      <a:pt x="3092" y="310"/>
                    </a:lnTo>
                    <a:lnTo>
                      <a:pt x="3287" y="297"/>
                    </a:lnTo>
                    <a:lnTo>
                      <a:pt x="3461" y="278"/>
                    </a:lnTo>
                    <a:lnTo>
                      <a:pt x="3641" y="261"/>
                    </a:lnTo>
                    <a:lnTo>
                      <a:pt x="3797" y="239"/>
                    </a:lnTo>
                    <a:lnTo>
                      <a:pt x="3935" y="213"/>
                    </a:lnTo>
                    <a:lnTo>
                      <a:pt x="4066" y="191"/>
                    </a:lnTo>
                    <a:lnTo>
                      <a:pt x="4176" y="160"/>
                    </a:lnTo>
                    <a:lnTo>
                      <a:pt x="4271" y="134"/>
                    </a:lnTo>
                    <a:lnTo>
                      <a:pt x="4343" y="103"/>
                    </a:lnTo>
                    <a:lnTo>
                      <a:pt x="4399" y="68"/>
                    </a:lnTo>
                    <a:lnTo>
                      <a:pt x="4435" y="36"/>
                    </a:lnTo>
                    <a:lnTo>
                      <a:pt x="4445" y="0"/>
                    </a:ln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52480" y="4191120"/>
                <a:ext cx="1760760" cy="7603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863640"/>
                    <a:tab algn="l" pos="17287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10000"/>
                    </a:solidFill>
                    <a:latin typeface="Times New Roman"/>
                  </a:rPr>
                  <a:t>Document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442960" y="3809880"/>
              <a:ext cx="303480" cy="22716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635" y="0"/>
                  </a:moveTo>
                  <a:lnTo>
                    <a:pt x="212" y="0"/>
                  </a:lnTo>
                  <a:lnTo>
                    <a:pt x="212" y="476"/>
                  </a:lnTo>
                  <a:lnTo>
                    <a:pt x="0" y="476"/>
                  </a:lnTo>
                  <a:lnTo>
                    <a:pt x="424" y="635"/>
                  </a:lnTo>
                  <a:lnTo>
                    <a:pt x="847" y="476"/>
                  </a:lnTo>
                  <a:lnTo>
                    <a:pt x="635" y="476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42960" y="5105520"/>
              <a:ext cx="303480" cy="2268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635" y="0"/>
                  </a:moveTo>
                  <a:lnTo>
                    <a:pt x="212" y="0"/>
                  </a:lnTo>
                  <a:lnTo>
                    <a:pt x="212" y="476"/>
                  </a:lnTo>
                  <a:lnTo>
                    <a:pt x="0" y="476"/>
                  </a:lnTo>
                  <a:lnTo>
                    <a:pt x="424" y="635"/>
                  </a:lnTo>
                  <a:lnTo>
                    <a:pt x="847" y="476"/>
                  </a:lnTo>
                  <a:lnTo>
                    <a:pt x="635" y="476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5960" y="5715000"/>
              <a:ext cx="379440" cy="303120"/>
            </a:xfrm>
            <a:custGeom>
              <a:avLst/>
              <a:gdLst/>
              <a:ahLst/>
              <a:rect l="l" t="t" r="r" b="b"/>
              <a:pathLst>
                <a:path w="1060" h="848">
                  <a:moveTo>
                    <a:pt x="0" y="212"/>
                  </a:moveTo>
                  <a:lnTo>
                    <a:pt x="794" y="212"/>
                  </a:lnTo>
                  <a:lnTo>
                    <a:pt x="794" y="0"/>
                  </a:lnTo>
                  <a:lnTo>
                    <a:pt x="1059" y="423"/>
                  </a:lnTo>
                  <a:lnTo>
                    <a:pt x="794" y="847"/>
                  </a:lnTo>
                  <a:lnTo>
                    <a:pt x="794" y="635"/>
                  </a:lnTo>
                  <a:lnTo>
                    <a:pt x="0" y="635"/>
                  </a:lnTo>
                  <a:lnTo>
                    <a:pt x="0" y="212"/>
                  </a:lnTo>
                </a:path>
              </a:pathLst>
            </a:custGeom>
            <a:noFill/>
            <a:ln w="144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114800" y="5562720"/>
              <a:ext cx="1760400" cy="760320"/>
              <a:chOff x="4114800" y="5562720"/>
              <a:chExt cx="1760400" cy="760320"/>
            </a:xfrm>
          </p:grpSpPr>
          <p:sp>
            <p:nvSpPr>
              <p:cNvPr id="102" name=""/>
              <p:cNvSpPr/>
              <p:nvPr/>
            </p:nvSpPr>
            <p:spPr>
              <a:xfrm>
                <a:off x="4195800" y="5562720"/>
                <a:ext cx="1598400" cy="760320"/>
              </a:xfrm>
              <a:custGeom>
                <a:avLst/>
                <a:gdLst/>
                <a:ahLst/>
                <a:rect l="l" t="t" r="r" b="b"/>
                <a:pathLst>
                  <a:path w="4446" h="2118">
                    <a:moveTo>
                      <a:pt x="2221" y="0"/>
                    </a:moveTo>
                    <a:lnTo>
                      <a:pt x="1775" y="9"/>
                    </a:lnTo>
                    <a:lnTo>
                      <a:pt x="1555" y="13"/>
                    </a:lnTo>
                    <a:lnTo>
                      <a:pt x="1350" y="27"/>
                    </a:lnTo>
                    <a:lnTo>
                      <a:pt x="1155" y="39"/>
                    </a:lnTo>
                    <a:lnTo>
                      <a:pt x="981" y="57"/>
                    </a:lnTo>
                    <a:lnTo>
                      <a:pt x="802" y="75"/>
                    </a:lnTo>
                    <a:lnTo>
                      <a:pt x="646" y="97"/>
                    </a:lnTo>
                    <a:lnTo>
                      <a:pt x="507" y="119"/>
                    </a:lnTo>
                    <a:lnTo>
                      <a:pt x="377" y="145"/>
                    </a:lnTo>
                    <a:lnTo>
                      <a:pt x="266" y="173"/>
                    </a:lnTo>
                    <a:lnTo>
                      <a:pt x="172" y="203"/>
                    </a:lnTo>
                    <a:lnTo>
                      <a:pt x="100" y="234"/>
                    </a:lnTo>
                    <a:lnTo>
                      <a:pt x="46" y="264"/>
                    </a:lnTo>
                    <a:lnTo>
                      <a:pt x="8" y="296"/>
                    </a:lnTo>
                    <a:lnTo>
                      <a:pt x="0" y="330"/>
                    </a:lnTo>
                    <a:lnTo>
                      <a:pt x="0" y="1787"/>
                    </a:lnTo>
                    <a:lnTo>
                      <a:pt x="8" y="1821"/>
                    </a:lnTo>
                    <a:lnTo>
                      <a:pt x="46" y="1853"/>
                    </a:lnTo>
                    <a:lnTo>
                      <a:pt x="100" y="1885"/>
                    </a:lnTo>
                    <a:lnTo>
                      <a:pt x="172" y="1914"/>
                    </a:lnTo>
                    <a:lnTo>
                      <a:pt x="266" y="1945"/>
                    </a:lnTo>
                    <a:lnTo>
                      <a:pt x="377" y="1972"/>
                    </a:lnTo>
                    <a:lnTo>
                      <a:pt x="507" y="1999"/>
                    </a:lnTo>
                    <a:lnTo>
                      <a:pt x="646" y="2021"/>
                    </a:lnTo>
                    <a:lnTo>
                      <a:pt x="802" y="2043"/>
                    </a:lnTo>
                    <a:lnTo>
                      <a:pt x="981" y="2060"/>
                    </a:lnTo>
                    <a:lnTo>
                      <a:pt x="1155" y="2078"/>
                    </a:lnTo>
                    <a:lnTo>
                      <a:pt x="1350" y="2091"/>
                    </a:lnTo>
                    <a:lnTo>
                      <a:pt x="1555" y="2105"/>
                    </a:lnTo>
                    <a:lnTo>
                      <a:pt x="1775" y="2110"/>
                    </a:lnTo>
                    <a:lnTo>
                      <a:pt x="2221" y="2117"/>
                    </a:lnTo>
                    <a:lnTo>
                      <a:pt x="2675" y="2110"/>
                    </a:lnTo>
                    <a:lnTo>
                      <a:pt x="2890" y="2105"/>
                    </a:lnTo>
                    <a:lnTo>
                      <a:pt x="3092" y="2091"/>
                    </a:lnTo>
                    <a:lnTo>
                      <a:pt x="3287" y="2078"/>
                    </a:lnTo>
                    <a:lnTo>
                      <a:pt x="3461" y="2060"/>
                    </a:lnTo>
                    <a:lnTo>
                      <a:pt x="3641" y="2043"/>
                    </a:lnTo>
                    <a:lnTo>
                      <a:pt x="3797" y="2021"/>
                    </a:lnTo>
                    <a:lnTo>
                      <a:pt x="3935" y="1999"/>
                    </a:lnTo>
                    <a:lnTo>
                      <a:pt x="4066" y="1972"/>
                    </a:lnTo>
                    <a:lnTo>
                      <a:pt x="4176" y="1945"/>
                    </a:lnTo>
                    <a:lnTo>
                      <a:pt x="4271" y="1914"/>
                    </a:lnTo>
                    <a:lnTo>
                      <a:pt x="4343" y="1885"/>
                    </a:lnTo>
                    <a:lnTo>
                      <a:pt x="4399" y="1853"/>
                    </a:lnTo>
                    <a:lnTo>
                      <a:pt x="4435" y="1821"/>
                    </a:lnTo>
                    <a:lnTo>
                      <a:pt x="4445" y="1787"/>
                    </a:lnTo>
                    <a:lnTo>
                      <a:pt x="4445" y="330"/>
                    </a:lnTo>
                    <a:lnTo>
                      <a:pt x="4435" y="296"/>
                    </a:lnTo>
                    <a:lnTo>
                      <a:pt x="4399" y="264"/>
                    </a:lnTo>
                    <a:lnTo>
                      <a:pt x="4343" y="234"/>
                    </a:lnTo>
                    <a:lnTo>
                      <a:pt x="4271" y="203"/>
                    </a:lnTo>
                    <a:lnTo>
                      <a:pt x="4176" y="173"/>
                    </a:lnTo>
                    <a:lnTo>
                      <a:pt x="4066" y="145"/>
                    </a:lnTo>
                    <a:lnTo>
                      <a:pt x="3935" y="119"/>
                    </a:lnTo>
                    <a:lnTo>
                      <a:pt x="3797" y="97"/>
                    </a:lnTo>
                    <a:lnTo>
                      <a:pt x="3641" y="75"/>
                    </a:lnTo>
                    <a:lnTo>
                      <a:pt x="3461" y="57"/>
                    </a:lnTo>
                    <a:lnTo>
                      <a:pt x="3287" y="39"/>
                    </a:lnTo>
                    <a:lnTo>
                      <a:pt x="3092" y="27"/>
                    </a:lnTo>
                    <a:lnTo>
                      <a:pt x="2890" y="13"/>
                    </a:lnTo>
                    <a:lnTo>
                      <a:pt x="2675" y="9"/>
                    </a:lnTo>
                    <a:lnTo>
                      <a:pt x="2221" y="0"/>
                    </a:lnTo>
                    <a:lnTo>
                      <a:pt x="2221" y="0"/>
                    </a:ln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95800" y="5681520"/>
                <a:ext cx="1598400" cy="120960"/>
              </a:xfrm>
              <a:custGeom>
                <a:avLst/>
                <a:gdLst/>
                <a:ahLst/>
                <a:rect l="l" t="t" r="r" b="b"/>
                <a:pathLst>
                  <a:path w="4446" h="338">
                    <a:moveTo>
                      <a:pt x="0" y="0"/>
                    </a:moveTo>
                    <a:lnTo>
                      <a:pt x="8" y="36"/>
                    </a:lnTo>
                    <a:lnTo>
                      <a:pt x="46" y="68"/>
                    </a:lnTo>
                    <a:lnTo>
                      <a:pt x="100" y="103"/>
                    </a:lnTo>
                    <a:lnTo>
                      <a:pt x="172" y="134"/>
                    </a:lnTo>
                    <a:lnTo>
                      <a:pt x="266" y="160"/>
                    </a:lnTo>
                    <a:lnTo>
                      <a:pt x="377" y="191"/>
                    </a:lnTo>
                    <a:lnTo>
                      <a:pt x="507" y="213"/>
                    </a:lnTo>
                    <a:lnTo>
                      <a:pt x="646" y="239"/>
                    </a:lnTo>
                    <a:lnTo>
                      <a:pt x="802" y="261"/>
                    </a:lnTo>
                    <a:lnTo>
                      <a:pt x="981" y="278"/>
                    </a:lnTo>
                    <a:lnTo>
                      <a:pt x="1155" y="297"/>
                    </a:lnTo>
                    <a:lnTo>
                      <a:pt x="1350" y="310"/>
                    </a:lnTo>
                    <a:lnTo>
                      <a:pt x="1555" y="325"/>
                    </a:lnTo>
                    <a:lnTo>
                      <a:pt x="1775" y="328"/>
                    </a:lnTo>
                    <a:lnTo>
                      <a:pt x="2221" y="337"/>
                    </a:lnTo>
                    <a:lnTo>
                      <a:pt x="2675" y="328"/>
                    </a:lnTo>
                    <a:lnTo>
                      <a:pt x="2890" y="325"/>
                    </a:lnTo>
                    <a:lnTo>
                      <a:pt x="3092" y="310"/>
                    </a:lnTo>
                    <a:lnTo>
                      <a:pt x="3287" y="297"/>
                    </a:lnTo>
                    <a:lnTo>
                      <a:pt x="3461" y="278"/>
                    </a:lnTo>
                    <a:lnTo>
                      <a:pt x="3641" y="261"/>
                    </a:lnTo>
                    <a:lnTo>
                      <a:pt x="3797" y="239"/>
                    </a:lnTo>
                    <a:lnTo>
                      <a:pt x="3935" y="213"/>
                    </a:lnTo>
                    <a:lnTo>
                      <a:pt x="4066" y="191"/>
                    </a:lnTo>
                    <a:lnTo>
                      <a:pt x="4176" y="160"/>
                    </a:lnTo>
                    <a:lnTo>
                      <a:pt x="4271" y="134"/>
                    </a:lnTo>
                    <a:lnTo>
                      <a:pt x="4343" y="103"/>
                    </a:lnTo>
                    <a:lnTo>
                      <a:pt x="4399" y="68"/>
                    </a:lnTo>
                    <a:lnTo>
                      <a:pt x="4435" y="36"/>
                    </a:lnTo>
                    <a:lnTo>
                      <a:pt x="4445" y="0"/>
                    </a:ln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14800" y="5562720"/>
                <a:ext cx="1760400" cy="7603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863640"/>
                    <a:tab algn="l" pos="17287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10000"/>
                    </a:solidFill>
                    <a:latin typeface="Times New Roman"/>
                  </a:rPr>
                  <a:t>Index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948280" y="5791320"/>
              <a:ext cx="379440" cy="303120"/>
            </a:xfrm>
            <a:custGeom>
              <a:avLst/>
              <a:gdLst/>
              <a:ahLst/>
              <a:rect l="l" t="t" r="r" b="b"/>
              <a:pathLst>
                <a:path w="1059" h="848">
                  <a:moveTo>
                    <a:pt x="0" y="212"/>
                  </a:moveTo>
                  <a:lnTo>
                    <a:pt x="793" y="212"/>
                  </a:lnTo>
                  <a:lnTo>
                    <a:pt x="793" y="0"/>
                  </a:lnTo>
                  <a:lnTo>
                    <a:pt x="1058" y="423"/>
                  </a:lnTo>
                  <a:lnTo>
                    <a:pt x="793" y="847"/>
                  </a:lnTo>
                  <a:lnTo>
                    <a:pt x="793" y="635"/>
                  </a:lnTo>
                  <a:lnTo>
                    <a:pt x="0" y="635"/>
                  </a:lnTo>
                  <a:lnTo>
                    <a:pt x="0" y="212"/>
                  </a:lnTo>
                </a:path>
              </a:pathLst>
            </a:custGeom>
            <a:noFill/>
            <a:ln w="144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657600"/>
              <a:ext cx="379440" cy="303120"/>
            </a:xfrm>
            <a:custGeom>
              <a:avLst/>
              <a:gdLst/>
              <a:ahLst/>
              <a:rect l="l" t="t" r="r" b="b"/>
              <a:pathLst>
                <a:path w="1059" h="848">
                  <a:moveTo>
                    <a:pt x="1058" y="635"/>
                  </a:moveTo>
                  <a:lnTo>
                    <a:pt x="529" y="847"/>
                  </a:lnTo>
                  <a:lnTo>
                    <a:pt x="0" y="635"/>
                  </a:lnTo>
                  <a:lnTo>
                    <a:pt x="212" y="635"/>
                  </a:lnTo>
                  <a:lnTo>
                    <a:pt x="212" y="212"/>
                  </a:lnTo>
                  <a:lnTo>
                    <a:pt x="0" y="212"/>
                  </a:lnTo>
                  <a:lnTo>
                    <a:pt x="529" y="0"/>
                  </a:lnTo>
                  <a:lnTo>
                    <a:pt x="1058" y="212"/>
                  </a:lnTo>
                  <a:lnTo>
                    <a:pt x="846" y="212"/>
                  </a:lnTo>
                  <a:lnTo>
                    <a:pt x="846" y="635"/>
                  </a:lnTo>
                  <a:lnTo>
                    <a:pt x="1058" y="635"/>
                  </a:lnTo>
                </a:path>
              </a:pathLst>
            </a:custGeom>
            <a:noFill/>
            <a:ln w="144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1280" y="4952880"/>
              <a:ext cx="379440" cy="303480"/>
            </a:xfrm>
            <a:custGeom>
              <a:avLst/>
              <a:gdLst/>
              <a:ahLst/>
              <a:rect l="l" t="t" r="r" b="b"/>
              <a:pathLst>
                <a:path w="1059" h="847">
                  <a:moveTo>
                    <a:pt x="1058" y="634"/>
                  </a:moveTo>
                  <a:lnTo>
                    <a:pt x="529" y="846"/>
                  </a:lnTo>
                  <a:lnTo>
                    <a:pt x="0" y="634"/>
                  </a:lnTo>
                  <a:lnTo>
                    <a:pt x="212" y="634"/>
                  </a:lnTo>
                  <a:lnTo>
                    <a:pt x="212" y="212"/>
                  </a:lnTo>
                  <a:lnTo>
                    <a:pt x="0" y="212"/>
                  </a:lnTo>
                  <a:lnTo>
                    <a:pt x="529" y="0"/>
                  </a:lnTo>
                  <a:lnTo>
                    <a:pt x="1058" y="212"/>
                  </a:lnTo>
                  <a:lnTo>
                    <a:pt x="846" y="212"/>
                  </a:lnTo>
                  <a:lnTo>
                    <a:pt x="846" y="634"/>
                  </a:lnTo>
                  <a:lnTo>
                    <a:pt x="1058" y="634"/>
                  </a:lnTo>
                </a:path>
              </a:pathLst>
            </a:custGeom>
            <a:noFill/>
            <a:ln w="144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4560" y="2936880"/>
              <a:ext cx="126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10000" y="3200400"/>
              <a:ext cx="303120" cy="227160"/>
            </a:xfrm>
            <a:custGeom>
              <a:avLst/>
              <a:gdLst/>
              <a:ahLst/>
              <a:rect l="l" t="t" r="r" b="b"/>
              <a:pathLst>
                <a:path w="847" h="636">
                  <a:moveTo>
                    <a:pt x="846" y="159"/>
                  </a:moveTo>
                  <a:lnTo>
                    <a:pt x="212" y="159"/>
                  </a:lnTo>
                  <a:lnTo>
                    <a:pt x="212" y="0"/>
                  </a:lnTo>
                  <a:lnTo>
                    <a:pt x="0" y="317"/>
                  </a:lnTo>
                  <a:lnTo>
                    <a:pt x="212" y="635"/>
                  </a:lnTo>
                  <a:lnTo>
                    <a:pt x="212" y="476"/>
                  </a:lnTo>
                  <a:lnTo>
                    <a:pt x="846" y="476"/>
                  </a:lnTo>
                  <a:lnTo>
                    <a:pt x="846" y="159"/>
                  </a:lnTo>
                </a:path>
              </a:pathLst>
            </a:custGeom>
            <a:noFill/>
            <a:ln w="144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129200" y="2898720"/>
              <a:ext cx="1525320" cy="992160"/>
              <a:chOff x="4129200" y="2898720"/>
              <a:chExt cx="1525320" cy="992160"/>
            </a:xfrm>
          </p:grpSpPr>
          <p:sp>
            <p:nvSpPr>
              <p:cNvPr id="111" name=""/>
              <p:cNvSpPr/>
              <p:nvPr/>
            </p:nvSpPr>
            <p:spPr>
              <a:xfrm>
                <a:off x="4226040" y="2900520"/>
                <a:ext cx="1236600" cy="988920"/>
              </a:xfrm>
              <a:custGeom>
                <a:avLst/>
                <a:gdLst/>
                <a:ahLst/>
                <a:rect l="l" t="t" r="r" b="b"/>
                <a:pathLst>
                  <a:path w="3439" h="2753">
                    <a:moveTo>
                      <a:pt x="265" y="173"/>
                    </a:moveTo>
                    <a:cubicBezTo>
                      <a:pt x="265" y="86"/>
                      <a:pt x="397" y="0"/>
                      <a:pt x="531" y="0"/>
                    </a:cubicBezTo>
                    <a:lnTo>
                      <a:pt x="3438" y="0"/>
                    </a:lnTo>
                    <a:lnTo>
                      <a:pt x="3438" y="2581"/>
                    </a:lnTo>
                    <a:lnTo>
                      <a:pt x="3438" y="2581"/>
                    </a:lnTo>
                    <a:cubicBezTo>
                      <a:pt x="3438" y="2666"/>
                      <a:pt x="3306" y="2752"/>
                      <a:pt x="3172" y="2752"/>
                    </a:cubicBezTo>
                    <a:lnTo>
                      <a:pt x="0" y="2752"/>
                    </a:lnTo>
                    <a:cubicBezTo>
                      <a:pt x="132" y="2752"/>
                      <a:pt x="265" y="2666"/>
                      <a:pt x="265" y="2581"/>
                    </a:cubicBezTo>
                    <a:lnTo>
                      <a:pt x="265" y="173"/>
                    </a:lnTo>
                  </a:path>
                </a:pathLst>
              </a:custGeom>
              <a:noFill/>
              <a:ln w="144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16480" y="2900520"/>
                <a:ext cx="1236600" cy="122040"/>
              </a:xfrm>
              <a:custGeom>
                <a:avLst/>
                <a:gdLst/>
                <a:ahLst/>
                <a:rect l="l" t="t" r="r" b="b"/>
                <a:pathLst>
                  <a:path w="3438" h="345">
                    <a:moveTo>
                      <a:pt x="0" y="344"/>
                    </a:moveTo>
                    <a:cubicBezTo>
                      <a:pt x="131" y="344"/>
                      <a:pt x="262" y="258"/>
                      <a:pt x="262" y="173"/>
                    </a:cubicBezTo>
                    <a:lnTo>
                      <a:pt x="262" y="173"/>
                    </a:lnTo>
                    <a:cubicBezTo>
                      <a:pt x="262" y="86"/>
                      <a:pt x="131" y="0"/>
                      <a:pt x="0" y="0"/>
                    </a:cubicBezTo>
                    <a:lnTo>
                      <a:pt x="3172" y="0"/>
                    </a:lnTo>
                    <a:cubicBezTo>
                      <a:pt x="3303" y="0"/>
                      <a:pt x="3437" y="86"/>
                      <a:pt x="3437" y="173"/>
                    </a:cubicBezTo>
                    <a:lnTo>
                      <a:pt x="3437" y="173"/>
                    </a:lnTo>
                    <a:cubicBezTo>
                      <a:pt x="3437" y="258"/>
                      <a:pt x="3303" y="344"/>
                      <a:pt x="3172" y="344"/>
                    </a:cubicBezTo>
                    <a:lnTo>
                      <a:pt x="0" y="344"/>
                    </a:lnTo>
                  </a:path>
                </a:pathLst>
              </a:custGeom>
              <a:noFill/>
              <a:ln w="144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68600" y="2962440"/>
                <a:ext cx="141480" cy="60120"/>
              </a:xfrm>
              <a:custGeom>
                <a:avLst/>
                <a:gdLst/>
                <a:ahLst/>
                <a:rect l="l" t="t" r="r" b="b"/>
                <a:pathLst>
                  <a:path w="397" h="172">
                    <a:moveTo>
                      <a:pt x="134" y="171"/>
                    </a:moveTo>
                    <a:cubicBezTo>
                      <a:pt x="63" y="171"/>
                      <a:pt x="0" y="125"/>
                      <a:pt x="0" y="85"/>
                    </a:cubicBezTo>
                    <a:lnTo>
                      <a:pt x="0" y="85"/>
                    </a:lnTo>
                    <a:cubicBezTo>
                      <a:pt x="0" y="39"/>
                      <a:pt x="63" y="0"/>
                      <a:pt x="134" y="0"/>
                    </a:cubicBezTo>
                    <a:lnTo>
                      <a:pt x="134" y="0"/>
                    </a:lnTo>
                    <a:lnTo>
                      <a:pt x="396" y="0"/>
                    </a:lnTo>
                    <a:lnTo>
                      <a:pt x="396" y="0"/>
                    </a:lnTo>
                    <a:cubicBezTo>
                      <a:pt x="396" y="85"/>
                      <a:pt x="265" y="171"/>
                      <a:pt x="134" y="171"/>
                    </a:cubicBezTo>
                  </a:path>
                </a:pathLst>
              </a:custGeom>
              <a:noFill/>
              <a:ln w="144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30640" y="3767040"/>
                <a:ext cx="189000" cy="122400"/>
              </a:xfrm>
              <a:custGeom>
                <a:avLst/>
                <a:gdLst/>
                <a:ahLst/>
                <a:rect l="l" t="t" r="r" b="b"/>
                <a:pathLst>
                  <a:path w="531" h="343">
                    <a:moveTo>
                      <a:pt x="530" y="171"/>
                    </a:moveTo>
                    <a:cubicBezTo>
                      <a:pt x="530" y="256"/>
                      <a:pt x="397" y="342"/>
                      <a:pt x="265" y="342"/>
                    </a:cubicBezTo>
                    <a:cubicBezTo>
                      <a:pt x="134" y="342"/>
                      <a:pt x="0" y="256"/>
                      <a:pt x="0" y="171"/>
                    </a:cubicBezTo>
                    <a:cubicBezTo>
                      <a:pt x="0" y="84"/>
                      <a:pt x="134" y="0"/>
                      <a:pt x="265" y="0"/>
                    </a:cubicBezTo>
                    <a:cubicBezTo>
                      <a:pt x="397" y="0"/>
                      <a:pt x="530" y="84"/>
                      <a:pt x="530" y="171"/>
                    </a:cubicBezTo>
                  </a:path>
                </a:pathLst>
              </a:custGeom>
              <a:noFill/>
              <a:ln w="144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26040" y="376704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266" h="172">
                    <a:moveTo>
                      <a:pt x="0" y="171"/>
                    </a:moveTo>
                    <a:cubicBezTo>
                      <a:pt x="61" y="171"/>
                      <a:pt x="132" y="125"/>
                      <a:pt x="132" y="84"/>
                    </a:cubicBezTo>
                    <a:cubicBezTo>
                      <a:pt x="132" y="40"/>
                      <a:pt x="61" y="0"/>
                      <a:pt x="0" y="0"/>
                    </a:cubicBezTo>
                    <a:lnTo>
                      <a:pt x="265" y="0"/>
                    </a:lnTo>
                    <a:lnTo>
                      <a:pt x="265" y="171"/>
                    </a:lnTo>
                    <a:lnTo>
                      <a:pt x="0" y="171"/>
                    </a:lnTo>
                  </a:path>
                </a:pathLst>
              </a:custGeom>
              <a:noFill/>
              <a:ln w="144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29200" y="2898720"/>
                <a:ext cx="1525320" cy="9921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308480" y="3237120"/>
              <a:ext cx="113040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539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oBWeb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oBWeb (Collector of Brazilian Web) is a component of TodoBR search engine that systematically traverse the Web to collect documents for further processing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BWeb collects only documents from the “.br” domai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p to now 7 million of pages were collect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oBWeb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 featur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any independent collecting robots operating simultaneously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istributed architecture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entralized coordination;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bserves the operational and ethical limits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llects documents in “.ps, .pdf, .doc, and .html” format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oBWeb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rchitectur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4" name="arquitetura1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95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Indexing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index is a frequency-sorted inverted fil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thout elimination of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stop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7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w featur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mpression techniques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336699"/>
              </a:buClr>
              <a:buSzPct val="6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istributed index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edleno</cp:lastModifiedBy>
  <cp:lastPrinted>1999-12-21T21:12:32Z</cp:lastPrinted>
  <dcterms:modified xsi:type="dcterms:W3CDTF">1999-12-22T15:05:03Z</dcterms:modified>
  <cp:revision>99</cp:revision>
  <dc:subject/>
  <dc:title>Recuperação de Informação B</dc:title>
</cp:coreProperties>
</file>