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54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03080" y="3311280"/>
            <a:ext cx="8608680" cy="30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0200" indent="-216000" algn="ctr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Mauricio Ulate Quiró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200" indent="-216000" algn="ctr">
              <a:lnSpc>
                <a:spcPct val="95000"/>
              </a:lnSpc>
              <a:tabLst>
                <a:tab algn="l" pos="0"/>
                <a:tab algn="l" pos="430200"/>
                <a:tab algn="l" pos="878040"/>
                <a:tab algn="l" pos="1327320"/>
                <a:tab algn="l" pos="1776240"/>
                <a:tab algn="l" pos="2225520"/>
                <a:tab algn="l" pos="2674800"/>
                <a:tab algn="l" pos="3124080"/>
                <a:tab algn="l" pos="3573360"/>
                <a:tab algn="l" pos="4022640"/>
                <a:tab algn="l" pos="4471920"/>
                <a:tab algn="l" pos="4921200"/>
                <a:tab algn="l" pos="5370480"/>
                <a:tab algn="l" pos="5819760"/>
                <a:tab algn="l" pos="6269040"/>
                <a:tab algn="l" pos="6718320"/>
                <a:tab algn="l" pos="7167600"/>
                <a:tab algn="l" pos="7616880"/>
                <a:tab algn="l" pos="8066160"/>
                <a:tab algn="l" pos="8515440"/>
                <a:tab algn="l" pos="8964720"/>
                <a:tab algn="l" pos="941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9836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30120" y="1569960"/>
            <a:ext cx="948852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álisis de rendimiento de dos algoritmos de búsqueda secuencial de texto con sus respectivas vari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6080" y="1536480"/>
            <a:ext cx="8608680" cy="60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iseño de pru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car 1000 conjuntos de 1000 caracteres del tex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-216000">
              <a:lnSpc>
                <a:spcPct val="95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 generan subgrupos de 1000 elementos de entre 2 y 20 caracteres de longit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3840" indent="0">
              <a:lnSpc>
                <a:spcPct val="95000"/>
              </a:lnSpc>
              <a:spcAft>
                <a:spcPts val="850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erar promedios de cada algoritmo con respecto al tamaño de la subhil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ar el rend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pretar l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áfico de comport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462040" y="2851200"/>
            <a:ext cx="556272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s a compar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yer – Moore – Hors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ift –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riante con base en los dos algoritmos anteri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amilia de algoritmos Boyer – Mo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analiza todos los caracteres del tex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procesa la subhilera a buscar para calcular saltos en el análi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yer – Moore – Horsp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scar la hilera GCAGAGAG en el texto GCATCGCAGAGAGTATACAGTA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yer – Moore – Horsp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171252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análisis de la consu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CAGAG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 calcula la distancia mínima entre el último caracter y la ocurrencia de cada caracter del alfabeto de la hilera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924200" y="5234040"/>
          <a:ext cx="6352920" cy="111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4200" y="5234040"/>
                    <a:ext cx="635292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314120" y="6269040"/>
            <a:ext cx="2563200" cy="1043280"/>
          </a:xfrm>
          <a:prstGeom prst="roundRect">
            <a:avLst>
              <a:gd name="adj" fmla="val 1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bla de cor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l caracter erró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bm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295600" y="6487920"/>
            <a:ext cx="186516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yer – Moore – Horsp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79720" y="4029120"/>
            <a:ext cx="3745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 BoyerMooreHorspool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oyer – Moore – Horsp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e varias veces algunos caracteres de la hilera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ift –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06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mite análisis parale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mite encontrar de una sola pasada dos ocurrencias de la subhilera ABRACADABRA en la hiler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BRACAD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ABRA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ADA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nciona como una máquina de es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ift –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scar la hilera GCAGAGAG en el texto GCATCGCAGAGAGTATACAGTAC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eamiento del probl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goritmos de búsqueda secuencial de texto que se aplican a documentos que no tienen una estructura defin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Útil cuando se quiere ubicar las ocurrencias de alguna palabra o alguna frase dentro de un contexto grande (ex. Un libr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ift –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an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a cada caracter de la subhilera se saca su patrón de aparición en la misma. Cada aparición se denota con 0 y el resto en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racteres que no se encuentren en este alfabeto tendrán asignados un patrón de sólo 1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ift –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9040" cy="591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eaná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bhilera GCAGAGAG, se invierte y se indica las apariciones de cada c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a la búsqueda, se toma el estado actual, se le hace corrimiento a la izquierda de 1 bit y se le aplica la operación OR con el patrón correspondiente al caracter act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41640" y="3652920"/>
          <a:ext cx="1941480" cy="90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1640" y="3652920"/>
                    <a:ext cx="194148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ift –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47040" y="4111560"/>
            <a:ext cx="21434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 Shift OR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hift –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ando aparece un elemento que corresponde al alfabeto de la hilera principal pero no es parte del alfabeto de la hilera buscada, el patrón de estados se devuelve a 1's, anulando cualquier avance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asta que no aparezca de nuevo el primer caracter de la hilera buscada el patrón de estados seguirá en 1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nte propu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goritmo que aproveche las cualidades de ambos algoritmos expuestos anterior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apacidad de salto (Familia Boyer - Mo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aralelismo y análisis sin repetición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(Familia de algoritmos de corrimient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nte propu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4111560"/>
            <a:ext cx="2102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 Variante.s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nte propu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arente disminución en cantidad de compar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mentan los saltos y mejora su posición de in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s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quiere hacer todo el pre – análisis de ambos algoritmos b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ariante propue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ortamiento espe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25680" y="2860560"/>
          <a:ext cx="5560920" cy="422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5680" y="2860560"/>
                    <a:ext cx="556092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flipV="1">
            <a:off x="2108160" y="5324400"/>
            <a:ext cx="142416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8320" y="5187960"/>
            <a:ext cx="172080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mportamiento esperado del algoritmo pro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as encontr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31880" y="1872720"/>
            <a:ext cx="860904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ferencia entre teoría e implem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oid HORSPOOL(char *x, long m, char *y, long n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ong j, bmBc[ASIZE], k, h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ar c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/bool found = 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* Preprocessing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reBmBc(x, m, bmBc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/* Serching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ile (j &lt;= (n-m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 = y[j+m-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f ((x[m-1] == c) &amp;&amp; </a:t>
            </a:r>
            <a:r>
              <a:rPr b="1" lang="en-GB" sz="1400" spc="-1" strike="noStrike">
                <a:solidFill>
                  <a:srgbClr val="ff3366"/>
                </a:solidFill>
                <a:latin typeface="Times New Roman"/>
              </a:rPr>
              <a:t>(memcmp(x, y+j, m-1) == 0)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f (FILEDEBUG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bug &lt;&lt; j &lt;&lt; " 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 += bmBc[c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on implementación 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68480" y="2700360"/>
            <a:ext cx="6577200" cy="48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a a tra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¿El análisis y combinación de elementos de dos algoritmos de búsqueda con características y rendimiento muy diferente pueden dar como resultado un algoritmo que refleje los elementos de rendimiento positivo de cada uno o inclusive superarl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Con implementación modific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959120" y="2600280"/>
            <a:ext cx="6521400" cy="481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goritmos más com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uerza bru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 de algoritmos Boyer – Mo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milia de algoritmos de corr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0960" y="2536560"/>
            <a:ext cx="86090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rar el rendimiento de dos algoritmos de búsqueda secuencial con un tercer algoritmo correspondiente a una variante de los prime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icar los diferentes algoritmos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Seleccionar los dos algoritmos que presenten el mejor rendimi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ementar los algoritmos seleccion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eñar un modelo de prueba para comparar los algorit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lacionar los elementos de los algoritmos que causen el comportamiento óptimo de los mism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eñar e implementar un algoritmo con base a los elementos abstraídos del punto anter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arar el rendimiento de los tres algoritmos en cuest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erpretar los resultados obten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etodología (resume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Investigación bibliográf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icar algorit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lección de algorit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lementación de algorit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Análisis de elementos clave de cada algorit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95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Generar una vari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020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